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19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2029-20CD-4062-94EF-CD9E983E6F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9F3D-3D87-42DC-899B-353FC4C609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8413-8613-4DDC-A9BB-C5435D9E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024-2D85-4D69-819F-3C801DCB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0AD-599B-4319-A7BB-E9CED48A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0D5A-1635-4EDE-99D2-FD1939CB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B306-DB7E-4198-97DE-8CAF88F3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7334-D958-4061-907B-B671B300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2AC1-312C-439D-8FBB-70421480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A3D-A6E7-461B-84F8-8BC42657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0DC-0A1B-404F-89C3-9703C898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7C2-FDF0-4915-A4B1-445B1329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744-8356-43D9-80B7-B201752E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7FC8-7670-4E7F-BB62-783082CA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6D14-8E4A-49F7-BFD8-754E07E8AC7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9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36360" y="512640"/>
            <a:ext cx="9150480" cy="2011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F:\Князева О.В. Учитель года\Мастер - класс\фото\59259_.jpg"/>
          <p:cNvPicPr/>
          <p:nvPr/>
        </p:nvPicPr>
        <p:blipFill>
          <a:blip r:embed="rId3"/>
          <a:stretch/>
        </p:blipFill>
        <p:spPr>
          <a:xfrm>
            <a:off x="2050920" y="2492280"/>
            <a:ext cx="5121360" cy="38419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1f497d"/>
                </a:solidFill>
                <a:latin typeface="Comic Sans MS"/>
              </a:rPr>
              <a:t>Из истории мяча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F:\Князева О.В. Учитель года\Мастер - класс\фото\balls.jpg"/>
          <p:cNvPicPr/>
          <p:nvPr/>
        </p:nvPicPr>
        <p:blipFill>
          <a:blip r:embed="rId1"/>
          <a:stretch/>
        </p:blipFill>
        <p:spPr>
          <a:xfrm>
            <a:off x="593640" y="2214720"/>
            <a:ext cx="7927920" cy="31431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2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1285920" y="890640"/>
            <a:ext cx="507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Он лежать совсем не хо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Если надо он подскоч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Бросишь снова,  мчится вска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Ну, конечно, это - 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3500280" y="329580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В этом спорте игро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Все ловки и выс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Любят в мяч они игр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И в кольцо его кид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Мячик звонко бьёт об 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Значит это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F:\Князева О.В. Учитель года\Мастер - класс\фото\Exquisite_balls_vector_image_material.jpg"/>
          <p:cNvPicPr/>
          <p:nvPr/>
        </p:nvPicPr>
        <p:blipFill>
          <a:blip r:embed="rId1"/>
          <a:srcRect l="62357" t="49800" r="5887" b="10457"/>
          <a:stretch/>
        </p:blipFill>
        <p:spPr>
          <a:xfrm>
            <a:off x="6143760" y="928800"/>
            <a:ext cx="1885680" cy="1571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F:\Князева О.В. Учитель года\Мастер - класс\фото\Exquisite_balls_vector_image_material.jpg"/>
          <p:cNvPicPr/>
          <p:nvPr/>
        </p:nvPicPr>
        <p:blipFill>
          <a:blip r:embed="rId2"/>
          <a:srcRect l="31650" t="5302" r="38355" b="51269"/>
          <a:stretch/>
        </p:blipFill>
        <p:spPr>
          <a:xfrm>
            <a:off x="1071720" y="3643200"/>
            <a:ext cx="2003400" cy="19321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omic Sans MS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E:\Князева О.В. Учитель года\Мастер - класс\фото\Exquisite_balls_vector_image_material.jpg"/>
          <p:cNvPicPr/>
          <p:nvPr/>
        </p:nvPicPr>
        <p:blipFill>
          <a:blip r:embed="rId1"/>
          <a:srcRect l="4117" t="7399" r="4117" b="10457"/>
          <a:stretch/>
        </p:blipFill>
        <p:spPr>
          <a:xfrm>
            <a:off x="357120" y="1214280"/>
            <a:ext cx="833616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5" descr="1995.jpg"/>
          <p:cNvPicPr/>
          <p:nvPr/>
        </p:nvPicPr>
        <p:blipFill>
          <a:blip r:embed="rId2"/>
          <a:srcRect l="0" t="11110" r="0" b="0"/>
          <a:stretch/>
        </p:blipFill>
        <p:spPr>
          <a:xfrm>
            <a:off x="3089160" y="2357280"/>
            <a:ext cx="2894040" cy="2571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6" descr="images 4.jpeg"/>
          <p:cNvPicPr/>
          <p:nvPr/>
        </p:nvPicPr>
        <p:blipFill>
          <a:blip r:embed="rId3"/>
          <a:srcRect l="8887" t="0" r="0" b="0"/>
          <a:stretch/>
        </p:blipFill>
        <p:spPr>
          <a:xfrm>
            <a:off x="571680" y="5143680"/>
            <a:ext cx="1465200" cy="120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F:\Князева О.В. Учитель года\Мастер - класс\фото\132043504654351032132413510.jpg"/>
          <p:cNvPicPr/>
          <p:nvPr/>
        </p:nvPicPr>
        <p:blipFill>
          <a:blip r:embed="rId4"/>
          <a:stretch/>
        </p:blipFill>
        <p:spPr>
          <a:xfrm>
            <a:off x="5429160" y="716040"/>
            <a:ext cx="2786040" cy="2784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Comic Sans MS"/>
              </a:rPr>
              <a:t>Мячи бывают разные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F:\Князева О.В. Учитель года\Мастер - класс\фото\Exquisite_balls_vector_image_material.jpg"/>
          <p:cNvPicPr/>
          <p:nvPr/>
        </p:nvPicPr>
        <p:blipFill>
          <a:blip r:embed="rId5"/>
          <a:srcRect l="62357" t="49800" r="5887" b="10457"/>
          <a:stretch/>
        </p:blipFill>
        <p:spPr>
          <a:xfrm>
            <a:off x="6858000" y="2928960"/>
            <a:ext cx="1285920" cy="107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F:\Князева О.В. Учитель года\Мастер - класс\фото\Exquisite_balls_vector_image_material.jpg"/>
          <p:cNvPicPr/>
          <p:nvPr/>
        </p:nvPicPr>
        <p:blipFill>
          <a:blip r:embed="rId6"/>
          <a:srcRect l="60356" t="10604" r="2588" b="53218"/>
          <a:stretch/>
        </p:blipFill>
        <p:spPr>
          <a:xfrm>
            <a:off x="1643040" y="4572000"/>
            <a:ext cx="1719360" cy="1119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F:\Князева О.В. Учитель года\Мастер - класс\фото\Exquisite_balls_vector_image_material.jpg"/>
          <p:cNvPicPr/>
          <p:nvPr/>
        </p:nvPicPr>
        <p:blipFill>
          <a:blip r:embed="rId7"/>
          <a:srcRect l="31881" t="49092" r="36354" b="8507"/>
          <a:stretch/>
        </p:blipFill>
        <p:spPr>
          <a:xfrm>
            <a:off x="4429080" y="1285920"/>
            <a:ext cx="1125720" cy="10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F:\Князева О.В. Учитель года\Мастер - класс\фото\Exquisite_balls_vector_image_material.jpg"/>
          <p:cNvPicPr/>
          <p:nvPr/>
        </p:nvPicPr>
        <p:blipFill>
          <a:blip r:embed="rId8"/>
          <a:srcRect l="31650" t="5302" r="38355" b="51269"/>
          <a:stretch/>
        </p:blipFill>
        <p:spPr>
          <a:xfrm>
            <a:off x="928800" y="3143160"/>
            <a:ext cx="1484280" cy="1432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F:\Князева О.В. Учитель года\Мастер - класс\фото\Exquisite_balls_vector_image_material.jpg"/>
          <p:cNvPicPr/>
          <p:nvPr/>
        </p:nvPicPr>
        <p:blipFill>
          <a:blip r:embed="rId9"/>
          <a:srcRect l="5291" t="48384" r="66830" b="9215"/>
          <a:stretch/>
        </p:blipFill>
        <p:spPr>
          <a:xfrm>
            <a:off x="6500880" y="4214880"/>
            <a:ext cx="1071360" cy="1085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F:\Князева О.В. Учитель года\Мастер - класс\фото\Exquisite_balls_vector_image_material.jpg"/>
          <p:cNvPicPr/>
          <p:nvPr/>
        </p:nvPicPr>
        <p:blipFill>
          <a:blip r:embed="rId10"/>
          <a:srcRect l="3530" t="5302" r="68244" b="52297"/>
          <a:stretch/>
        </p:blipFill>
        <p:spPr>
          <a:xfrm>
            <a:off x="2571840" y="135720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F:\Князева О.В. Учитель года\Мастер - класс\фото\59061_.jpg"/>
          <p:cNvPicPr/>
          <p:nvPr/>
        </p:nvPicPr>
        <p:blipFill>
          <a:blip r:embed="rId11"/>
          <a:stretch/>
        </p:blipFill>
        <p:spPr>
          <a:xfrm>
            <a:off x="3714840" y="4500720"/>
            <a:ext cx="2357280" cy="1855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F:\Князева О.В. Учитель года\Мастер - класс\фото\golf_ball_and_the_hole_1600x1200.jpg"/>
          <p:cNvPicPr/>
          <p:nvPr/>
        </p:nvPicPr>
        <p:blipFill>
          <a:blip r:embed="rId12"/>
          <a:srcRect l="52943" t="23542" r="7371" b="29410"/>
          <a:stretch/>
        </p:blipFill>
        <p:spPr>
          <a:xfrm>
            <a:off x="7429680" y="5357880"/>
            <a:ext cx="1143000" cy="101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F:\Князева О.В. Учитель года\Мастер - класс\фото\mv210.jpg"/>
          <p:cNvPicPr/>
          <p:nvPr/>
        </p:nvPicPr>
        <p:blipFill>
          <a:blip r:embed="rId13"/>
          <a:stretch/>
        </p:blipFill>
        <p:spPr>
          <a:xfrm>
            <a:off x="1214280" y="1857240"/>
            <a:ext cx="113508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F:\Князева О.В. Учитель года\Мастер - класс\фото\Exquisite_balls_vector_image_material.jpg"/>
          <p:cNvPicPr/>
          <p:nvPr/>
        </p:nvPicPr>
        <p:blipFill>
          <a:blip r:embed="rId14"/>
          <a:srcRect l="62357" t="49800" r="5887" b="10457"/>
          <a:stretch/>
        </p:blipFill>
        <p:spPr>
          <a:xfrm>
            <a:off x="6858000" y="2857680"/>
            <a:ext cx="1285920" cy="1071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500"/>
                            </p:stCondLst>
                            <p:childTnLst>
                              <p:par>
                                <p:cTn id="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:\Князева О.В. Учитель года\Мастер - класс\фото\Basketball-Hoop-2.jpg"/>
          <p:cNvPicPr/>
          <p:nvPr/>
        </p:nvPicPr>
        <p:blipFill>
          <a:blip r:embed="rId1"/>
          <a:stretch/>
        </p:blipFill>
        <p:spPr>
          <a:xfrm>
            <a:off x="500040" y="428760"/>
            <a:ext cx="3786120" cy="5251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F:\Князева О.В. Учитель года\Мастер - класс\фото\5.8.jpg"/>
          <p:cNvPicPr/>
          <p:nvPr/>
        </p:nvPicPr>
        <p:blipFill>
          <a:blip r:embed="rId2"/>
          <a:stretch/>
        </p:blipFill>
        <p:spPr>
          <a:xfrm>
            <a:off x="4214880" y="428760"/>
            <a:ext cx="4386240" cy="342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F:\Князева О.В. Учитель года\Мастер - класс\фото\51723685_negr_bb.jpg"/>
          <p:cNvPicPr/>
          <p:nvPr/>
        </p:nvPicPr>
        <p:blipFill>
          <a:blip r:embed="rId3"/>
          <a:stretch/>
        </p:blipFill>
        <p:spPr>
          <a:xfrm>
            <a:off x="2428920" y="3500280"/>
            <a:ext cx="4429080" cy="29289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F:\Князева О.В. Учитель года\Мастер - класс\фото\2(235).jpg"/>
          <p:cNvPicPr/>
          <p:nvPr/>
        </p:nvPicPr>
        <p:blipFill>
          <a:blip r:embed="rId1"/>
          <a:stretch/>
        </p:blipFill>
        <p:spPr>
          <a:xfrm>
            <a:off x="500040" y="428760"/>
            <a:ext cx="4071960" cy="5986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F:\Князева О.В. Учитель года\Мастер - класс\фото\мяч 1.JPG"/>
          <p:cNvPicPr/>
          <p:nvPr/>
        </p:nvPicPr>
        <p:blipFill>
          <a:blip r:embed="rId2"/>
          <a:stretch/>
        </p:blipFill>
        <p:spPr>
          <a:xfrm>
            <a:off x="4572000" y="428760"/>
            <a:ext cx="4024440" cy="60004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F:\Князева О.В. Учитель года\Мастер - класс\фото\hokkey_s_myacom.JPG"/>
          <p:cNvPicPr/>
          <p:nvPr/>
        </p:nvPicPr>
        <p:blipFill>
          <a:blip r:embed="rId1"/>
          <a:stretch/>
        </p:blipFill>
        <p:spPr>
          <a:xfrm>
            <a:off x="500040" y="428760"/>
            <a:ext cx="4643640" cy="5929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F:\Князева О.В. Учитель года\Мастер - класс\фото\00gt1hxd.jpeg"/>
          <p:cNvPicPr/>
          <p:nvPr/>
        </p:nvPicPr>
        <p:blipFill>
          <a:blip r:embed="rId2"/>
          <a:stretch/>
        </p:blipFill>
        <p:spPr>
          <a:xfrm>
            <a:off x="4786200" y="428760"/>
            <a:ext cx="3802320" cy="29289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F:\Князева О.В. Учитель года\Мастер - класс\фото\350px-MagnusKubenOlsson.jpg"/>
          <p:cNvPicPr/>
          <p:nvPr/>
        </p:nvPicPr>
        <p:blipFill>
          <a:blip r:embed="rId3"/>
          <a:stretch/>
        </p:blipFill>
        <p:spPr>
          <a:xfrm>
            <a:off x="4786200" y="3357720"/>
            <a:ext cx="3786480" cy="3024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1599840"/>
            <a:ext cx="82580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F:\Князева О.В. Учитель года\Мастер - класс\фото\polo.jpg"/>
          <p:cNvPicPr/>
          <p:nvPr/>
        </p:nvPicPr>
        <p:blipFill>
          <a:blip r:embed="rId1"/>
          <a:stretch/>
        </p:blipFill>
        <p:spPr>
          <a:xfrm>
            <a:off x="4357800" y="428760"/>
            <a:ext cx="4268520" cy="5929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F:\Князева О.В. Учитель года\Мастер - класс\фото\z2r6ow3.jpg"/>
          <p:cNvPicPr/>
          <p:nvPr/>
        </p:nvPicPr>
        <p:blipFill>
          <a:blip r:embed="rId2"/>
          <a:stretch/>
        </p:blipFill>
        <p:spPr>
          <a:xfrm>
            <a:off x="571680" y="428760"/>
            <a:ext cx="3857400" cy="59292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F:\Князева О.В. Учитель года\Мастер - класс\фото\75_kabaeba_9.jpg"/>
          <p:cNvPicPr/>
          <p:nvPr/>
        </p:nvPicPr>
        <p:blipFill>
          <a:blip r:embed="rId1"/>
          <a:stretch/>
        </p:blipFill>
        <p:spPr>
          <a:xfrm>
            <a:off x="4506840" y="428760"/>
            <a:ext cx="4091040" cy="5929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F:\Князева О.В. Учитель года\Мастер - класс\фото\09247e88e41076098ef4c536de96a642.jpg"/>
          <p:cNvPicPr/>
          <p:nvPr/>
        </p:nvPicPr>
        <p:blipFill>
          <a:blip r:embed="rId2"/>
          <a:stretch/>
        </p:blipFill>
        <p:spPr>
          <a:xfrm>
            <a:off x="571680" y="428760"/>
            <a:ext cx="4000320" cy="6000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F:\Князева О.В. Учитель года\Мастер - класс\фото\75_kabaeba_10.jpg"/>
          <p:cNvPicPr/>
          <p:nvPr/>
        </p:nvPicPr>
        <p:blipFill>
          <a:blip r:embed="rId3"/>
          <a:srcRect l="0" t="18342" r="0" b="0"/>
          <a:stretch/>
        </p:blipFill>
        <p:spPr>
          <a:xfrm>
            <a:off x="2643120" y="4214880"/>
            <a:ext cx="3357720" cy="2241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F:\Князева О.В. Учитель года\Мастер - класс\фото\1234518946044317_323_323.jpg"/>
          <p:cNvPicPr/>
          <p:nvPr/>
        </p:nvPicPr>
        <p:blipFill>
          <a:blip r:embed="rId1"/>
          <a:stretch/>
        </p:blipFill>
        <p:spPr>
          <a:xfrm>
            <a:off x="539640" y="620640"/>
            <a:ext cx="3640320" cy="5232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F:\Князева О.В. Учитель года\Мастер - класс\фото\0_1c16f_14737cf9_L.jpeg"/>
          <p:cNvPicPr/>
          <p:nvPr/>
        </p:nvPicPr>
        <p:blipFill>
          <a:blip r:embed="rId2"/>
          <a:stretch/>
        </p:blipFill>
        <p:spPr>
          <a:xfrm>
            <a:off x="4211640" y="1557360"/>
            <a:ext cx="4351320" cy="45846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F:\Князева О.В. Учитель года\Мастер - класс\фото\tennis_3.jpg"/>
          <p:cNvPicPr/>
          <p:nvPr/>
        </p:nvPicPr>
        <p:blipFill>
          <a:blip r:embed="rId1"/>
          <a:stretch/>
        </p:blipFill>
        <p:spPr>
          <a:xfrm>
            <a:off x="500040" y="428760"/>
            <a:ext cx="4000680" cy="6000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F:\Князева О.В. Учитель года\Мастер - класс\фото\2TennisCoachNTI_468x447.jpg"/>
          <p:cNvPicPr/>
          <p:nvPr/>
        </p:nvPicPr>
        <p:blipFill>
          <a:blip r:embed="rId2"/>
          <a:stretch/>
        </p:blipFill>
        <p:spPr>
          <a:xfrm>
            <a:off x="4143240" y="428760"/>
            <a:ext cx="4457880" cy="60004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9:31:02Z</dcterms:created>
  <dc:creator>Наташа</dc:creator>
  <dc:description/>
  <dc:language>en-US</dc:language>
  <cp:lastModifiedBy>Your User Name</cp:lastModifiedBy>
  <dcterms:modified xsi:type="dcterms:W3CDTF">2011-04-25T12:55:20Z</dcterms:modified>
  <cp:revision>41</cp:revision>
  <dc:subject/>
  <dc:title> «Культура мяча :  от большого к малому» </dc:title>
</cp:coreProperties>
</file>