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jpeg" ContentType="image/jpeg"/>
  <Override PartName="/ppt/media/image11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D0DA5-2F35-4242-814F-989CF6726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BBE86-5D34-435B-918F-426D223F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CA4A1-9721-49B5-8807-C494D8990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9BDE3-9109-4380-BAAC-249E486BF3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CA3082D-C7DA-476D-9818-EF51DEB989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A7ED806-822D-4793-9782-F9BDA2F9C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BD9458A-7018-4A76-BA0D-698D29891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2F642D-F5A8-4295-8474-DF9F6231F4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E9221D-7921-460B-9A11-B8674CDC5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2FE38B5-A286-4673-81E9-AD1D71050E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19176E0-0E88-4DD5-8E06-9583910B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1C609-2010-4F32-8588-8B294143BD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4F43A8-4AEA-4271-8BD7-67D9959DB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D7AC4A-33BB-4A43-B557-80965EB540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8F8B7BA-5BA8-4C08-8FFB-58B0E3D94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01A835-0B52-42AE-A773-8D3BEB78F6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3F7F5A-0CDA-40EB-8349-224C2DEDE8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43C72-B27F-449A-A543-7F8C192539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CC2D-A160-4B0B-A2A3-E9BF364BB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A378D-6BF4-4104-8DB9-86D4226B5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7E696-900B-4368-8B91-592100B1F1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8B4CD-774A-4510-9D9F-184844AC4F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D33D2-CE70-43F1-A239-ED2AFD703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DAC92E-E196-466D-B492-4DEFA0A80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729BA8-3432-4435-8E4C-2079926AA3DD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746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ffcc"/>
              </a:gs>
              <a:gs pos="100000">
                <a:srgbClr val="003399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37763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2644e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F28E3D-AB29-4636-B49E-8C4A60204AE1}" type="slidenum">
              <a:rPr b="0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ru.wikipedia.org/wiki/&#1050;&#1086;&#1089;&#1084;&#1086;&#1085;&#1072;&#1074;&#1090;&#1080;&#1082;&#1072;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9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9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uer.varvar.ru/flora_fauna_pacific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311040" y="836640"/>
            <a:ext cx="8521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e3e3ff"/>
                </a:solidFill>
                <a:latin typeface="Tahoma"/>
              </a:rPr>
              <a:t>Урок физики в 9 классе</a:t>
            </a:r>
            <a:br>
              <a:rPr sz="3600"/>
            </a:br>
            <a:r>
              <a:rPr b="0" lang="ru-RU" sz="3600" spc="-1" strike="noStrike" u="sng">
                <a:solidFill>
                  <a:srgbClr val="e3e3ff"/>
                </a:solidFill>
                <a:uFillTx/>
                <a:latin typeface="Tahoma"/>
              </a:rPr>
              <a:t>Автор: 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e3e3ff"/>
                </a:solidFill>
                <a:uFillTx/>
                <a:latin typeface="Tahoma"/>
              </a:rPr>
              <a:t>  </a:t>
            </a:r>
            <a:br>
              <a:rPr sz="3600"/>
            </a:br>
            <a:r>
              <a:rPr b="0" lang="ru-RU" sz="3600" spc="-1" strike="noStrike">
                <a:solidFill>
                  <a:srgbClr val="e3e3ff"/>
                </a:solidFill>
                <a:latin typeface="Tahoma"/>
              </a:rPr>
              <a:t>Галеева Лилия Мунировна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3e3ff"/>
                </a:solidFill>
                <a:latin typeface="Tahoma"/>
              </a:rPr>
              <a:t>учитель физики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3e3ff"/>
                </a:solidFill>
                <a:latin typeface="Tahoma"/>
              </a:rPr>
              <a:t>МКОУ "Тайчинская средняя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3e3ff"/>
                </a:solidFill>
                <a:latin typeface="Tahoma"/>
              </a:rPr>
              <a:t>общеобразовательная школа"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3e3ff"/>
                </a:solidFill>
                <a:latin typeface="Tahoma"/>
              </a:rPr>
              <a:t>Тевризского района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e3e3ff"/>
                </a:solidFill>
                <a:latin typeface="Tahoma"/>
              </a:rPr>
              <a:t>Омской области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2247840" y="15764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684360" y="692280"/>
            <a:ext cx="777528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Примеры реактивного движения можно обнаружить и в мире животных и растений. Например, созревшие плоды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"бешеного"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ffcc"/>
                </a:solidFill>
                <a:latin typeface="Arial"/>
              </a:rPr>
              <a:t>огурца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при самом легком прикосновении отскакивают от плодоножки и из образовавшегося отверстия выбрасывается фонтаном со скоростью 10 м/с горькая жидкость с семенами сами огурцы при этом отлетают в противоположном направлении. Стреляет "бешеный" огурец (иначе его называют "дамский пистолет")  боле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чем на 12 м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6" descr=""/>
          <p:cNvPicPr/>
          <p:nvPr/>
        </p:nvPicPr>
        <p:blipFill>
          <a:blip r:embed="rId1"/>
          <a:stretch/>
        </p:blipFill>
        <p:spPr>
          <a:xfrm>
            <a:off x="3059280" y="3357720"/>
            <a:ext cx="6084720" cy="3500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6" descr=""/>
          <p:cNvPicPr/>
          <p:nvPr/>
        </p:nvPicPr>
        <p:blipFill>
          <a:blip r:embed="rId2"/>
          <a:stretch/>
        </p:blipFill>
        <p:spPr>
          <a:xfrm>
            <a:off x="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"/>
          <p:cNvPicPr/>
          <p:nvPr/>
        </p:nvPicPr>
        <p:blipFill>
          <a:blip r:embed="rId3"/>
          <a:stretch/>
        </p:blipFill>
        <p:spPr>
          <a:xfrm>
            <a:off x="216000" y="3357720"/>
            <a:ext cx="4572000" cy="35002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5" descr=""/>
          <p:cNvPicPr/>
          <p:nvPr/>
        </p:nvPicPr>
        <p:blipFill>
          <a:blip r:embed="rId4"/>
          <a:stretch/>
        </p:blipFill>
        <p:spPr>
          <a:xfrm>
            <a:off x="1979640" y="0"/>
            <a:ext cx="4824360" cy="3357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0" y="1986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5" name="img10" descr=""/>
          <p:cNvPicPr/>
          <p:nvPr/>
        </p:nvPicPr>
        <p:blipFill>
          <a:blip r:embed="rId1"/>
          <a:stretch/>
        </p:blipFill>
        <p:spPr>
          <a:xfrm>
            <a:off x="395280" y="0"/>
            <a:ext cx="3745080" cy="6453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46" name=""/>
          <p:cNvGraphicFramePr/>
          <p:nvPr/>
        </p:nvGraphicFramePr>
        <p:xfrm>
          <a:off x="0" y="1986120"/>
          <a:ext cx="182520" cy="517320"/>
        </p:xfrm>
        <a:graphic>
          <a:graphicData uri="http://schemas.openxmlformats.org/drawingml/2006/table">
            <a:tbl>
              <a:tblPr/>
              <a:tblGrid>
                <a:gridCol w="216000"/>
              </a:tblGrid>
              <a:tr h="5205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"/>
          <p:cNvSpPr/>
          <p:nvPr/>
        </p:nvSpPr>
        <p:spPr>
          <a:xfrm>
            <a:off x="4716360" y="914760"/>
            <a:ext cx="3024360" cy="56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ек с космонавтами,                                                 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тсек с приборам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 с топливо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бак с  окислите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насос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камера сгорания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ffffff"/>
              </a:buClr>
              <a:buFont typeface="Wingdings" charset="2"/>
              <a:buChar char=""/>
              <a:tabLst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опло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0" y="228240"/>
            <a:ext cx="4114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Устройство ракеты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" y="1600200"/>
            <a:ext cx="4038480" cy="4495680"/>
          </a:xfrm>
          <a:prstGeom prst="rect">
            <a:avLst/>
          </a:prstGeom>
          <a:ln w="0">
            <a:noFill/>
          </a:ln>
        </p:spPr>
      </p:pic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579640" y="836280"/>
            <a:ext cx="3095640" cy="381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Схема трехступенчатой ракеты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pic>
        <p:nvPicPr>
          <p:cNvPr id="152" name="img12" descr=""/>
          <p:cNvPicPr/>
          <p:nvPr/>
        </p:nvPicPr>
        <p:blipFill>
          <a:blip r:embed="rId1"/>
          <a:stretch/>
        </p:blipFill>
        <p:spPr>
          <a:xfrm>
            <a:off x="1258920" y="404640"/>
            <a:ext cx="4230720" cy="54723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3348000" y="5229360"/>
            <a:ext cx="1295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Из истории…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250920" y="1125000"/>
            <a:ext cx="4255920" cy="485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Константи́н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Эдуа́рдович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Циолко́вский -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 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русский и советский учёный, основоположник современной 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2800" spc="-1" strike="noStrike" u="sng">
                <a:solidFill>
                  <a:srgbClr val="00ffcc"/>
                </a:solidFill>
                <a:uFillTx/>
                <a:latin typeface="Arial"/>
                <a:hlinkClick r:id="rId1"/>
              </a:rPr>
              <a:t>космонавтики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6" name="Picture 4" descr=""/>
          <p:cNvPicPr/>
          <p:nvPr/>
        </p:nvPicPr>
        <p:blipFill>
          <a:blip r:embed="rId2"/>
          <a:stretch/>
        </p:blipFill>
        <p:spPr>
          <a:xfrm>
            <a:off x="5435640" y="1557360"/>
            <a:ext cx="3097080" cy="43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4140000" y="836640"/>
            <a:ext cx="4679640" cy="568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Сергей Павлович Королёв</a:t>
            </a: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инженер-конструктор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Реализовал идею К.Э.Циолковского – полёт в открытый космос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ffffff"/>
                </a:solidFill>
                <a:latin typeface="Arial"/>
              </a:rPr>
              <a:t>на специальных аппаратах, называемых ракетам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8" name="Picture 9" descr=""/>
          <p:cNvPicPr/>
          <p:nvPr/>
        </p:nvPicPr>
        <p:blipFill>
          <a:blip r:embed="rId1"/>
          <a:stretch/>
        </p:blipFill>
        <p:spPr>
          <a:xfrm>
            <a:off x="0" y="404640"/>
            <a:ext cx="3857760" cy="6120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"/>
          <p:cNvPicPr/>
          <p:nvPr/>
        </p:nvPicPr>
        <p:blipFill>
          <a:blip r:embed="rId2"/>
          <a:stretch/>
        </p:blipFill>
        <p:spPr>
          <a:xfrm>
            <a:off x="0" y="404640"/>
            <a:ext cx="3857760" cy="6120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"/>
          <p:cNvPicPr/>
          <p:nvPr/>
        </p:nvPicPr>
        <p:blipFill>
          <a:blip r:embed="rId3"/>
          <a:stretch/>
        </p:blipFill>
        <p:spPr>
          <a:xfrm>
            <a:off x="0" y="404640"/>
            <a:ext cx="3857760" cy="612000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9" descr=""/>
          <p:cNvPicPr/>
          <p:nvPr/>
        </p:nvPicPr>
        <p:blipFill>
          <a:blip r:embed="rId4"/>
          <a:stretch/>
        </p:blipFill>
        <p:spPr>
          <a:xfrm>
            <a:off x="0" y="404640"/>
            <a:ext cx="3857760" cy="6120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9" descr=""/>
          <p:cNvPicPr/>
          <p:nvPr/>
        </p:nvPicPr>
        <p:blipFill>
          <a:blip r:embed="rId5"/>
          <a:stretch/>
        </p:blipFill>
        <p:spPr>
          <a:xfrm>
            <a:off x="0" y="0"/>
            <a:ext cx="3857760" cy="611964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9" descr=""/>
          <p:cNvPicPr/>
          <p:nvPr/>
        </p:nvPicPr>
        <p:blipFill>
          <a:blip r:embed="rId6"/>
          <a:stretch/>
        </p:blipFill>
        <p:spPr>
          <a:xfrm>
            <a:off x="0" y="260280"/>
            <a:ext cx="3851280" cy="619308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9" descr=""/>
          <p:cNvPicPr/>
          <p:nvPr/>
        </p:nvPicPr>
        <p:blipFill>
          <a:blip r:embed="rId7"/>
          <a:stretch/>
        </p:blipFill>
        <p:spPr>
          <a:xfrm>
            <a:off x="0" y="0"/>
            <a:ext cx="3851280" cy="61927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9" descr=""/>
          <p:cNvPicPr/>
          <p:nvPr/>
        </p:nvPicPr>
        <p:blipFill>
          <a:blip r:embed="rId8"/>
          <a:stretch/>
        </p:blipFill>
        <p:spPr>
          <a:xfrm>
            <a:off x="0" y="0"/>
            <a:ext cx="3851280" cy="61927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"/>
          <p:cNvPicPr/>
          <p:nvPr/>
        </p:nvPicPr>
        <p:blipFill>
          <a:blip r:embed="rId9"/>
          <a:stretch/>
        </p:blipFill>
        <p:spPr>
          <a:xfrm>
            <a:off x="0" y="0"/>
            <a:ext cx="3851280" cy="619272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9" descr=""/>
          <p:cNvPicPr/>
          <p:nvPr/>
        </p:nvPicPr>
        <p:blipFill>
          <a:blip r:embed="rId10"/>
          <a:stretch/>
        </p:blipFill>
        <p:spPr>
          <a:xfrm>
            <a:off x="0" y="0"/>
            <a:ext cx="3851280" cy="61927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7" descr=""/>
          <p:cNvPicPr/>
          <p:nvPr/>
        </p:nvPicPr>
        <p:blipFill>
          <a:blip r:embed="rId1"/>
          <a:stretch/>
        </p:blipFill>
        <p:spPr>
          <a:xfrm>
            <a:off x="566640" y="1125360"/>
            <a:ext cx="3357720" cy="49676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0"/>
            <a:ext cx="82296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Впервые в космос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468360" y="155736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648320" y="1052280"/>
            <a:ext cx="4038480" cy="5043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рий Алексеевич Гагарин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12 апреля 1961 года с космодрома Байконур впервые в мире стартовал космический корабль «Восток» с пилотом-космонавтом Юрием Алексеевичем Гагариным на борт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инцип действия ракет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i="1" lang="en-US" sz="3200" spc="-1" strike="noStrike">
                <a:solidFill>
                  <a:srgbClr val="ffffff"/>
                </a:solidFill>
                <a:latin typeface="Arial"/>
              </a:rPr>
              <a:t>M u  +  m v = 0</a:t>
            </a:r>
            <a:r>
              <a:rPr b="0" i="1" lang="ru-RU" sz="3200" spc="-1" strike="noStrike">
                <a:solidFill>
                  <a:srgbClr val="ffffff"/>
                </a:solidFill>
                <a:latin typeface="Arial"/>
              </a:rPr>
              <a:t>,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0" y="2997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26920" y="1827360"/>
            <a:ext cx="4897440" cy="46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где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 масса газов,                 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M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 масса ракеты,  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v 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- скорость истечения газов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                                        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u</a:t>
            </a:r>
            <a:r>
              <a:rPr b="0" i="1" lang="ru-RU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- скорость ракеты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29120" y="3141000"/>
            <a:ext cx="9416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     </a:t>
            </a:r>
            <a:r>
              <a:rPr b="0" lang="en-US" sz="1200" spc="-1" strike="noStrike">
                <a:solidFill>
                  <a:srgbClr val="ffffff"/>
                </a:solidFill>
                <a:latin typeface="Courier New"/>
                <a:ea typeface="Times New Roman"/>
              </a:rPr>
              <a:t>                                                                                      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5940360" y="3068640"/>
            <a:ext cx="2016360" cy="109692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шение задач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26560" y="1341000"/>
            <a:ext cx="7859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Упр. 22 ( 1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ую скорость получит модель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кеты, если масса её оболочки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вна 300 г, масса пороха в ней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100 г, а газы вырываются из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сопла со скоростью  100 м/с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Закрепление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1. Какое движение называют реактивным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2. Верно ли утверждение: для осуществления    реактивного движения не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требуется         взаимодействия с окружающей средой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3. На каком законе основано реактивное движение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4. От чего зависит скорость ракеты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5. Когда и где был запущен первый спутник Земли?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            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Тема: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 txBox="1"/>
          <p:nvPr/>
        </p:nvSpPr>
        <p:spPr>
          <a:xfrm>
            <a:off x="2627280" y="1413000"/>
            <a:ext cx="6516720" cy="4464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375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6600"/>
                    </a:gs>
                    <a:gs pos="100000">
                      <a:srgbClr val="923a00"/>
                    </a:gs>
                  </a:gsLst>
                  <a:lin ang="5400000"/>
                </a:gradFill>
                <a:latin typeface="Times New Roman"/>
              </a:rPr>
              <a:t>РЕАКТИВНОЕ ДВИЖЕНИЕ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6600"/>
                  </a:gs>
                  <a:gs pos="100000">
                    <a:srgbClr val="923a00"/>
                  </a:gs>
                </a:gsLst>
                <a:lin ang="5400000"/>
              </a:gradFill>
              <a:latin typeface="Times New Roman"/>
              <a:ea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2160360" cy="526896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флексия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593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нравился ли вам урок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Что интересного вы узнал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3.  Какие факты вам больше  всего запомнились?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691920"/>
            <a:ext cx="8229600" cy="158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Домашнее задание:  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        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араграф 23, упр.22 ( 2 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332000" y="815400"/>
            <a:ext cx="705636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Раздвинутся земного дома стен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И будет, стоит только захотеть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На всех планетах Солнечной системы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Как музыка, людская речь звенеть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                   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Юрий Каминский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e3e3ff"/>
                </a:solidFill>
                <a:latin typeface="Arial"/>
              </a:rPr>
              <a:t>Цели урока: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Дать понятие реактивного движени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Рассмотреть устройство ракеты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казать применение закона сохранения импульса для реактивного движ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700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Физический диктант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557360"/>
            <a:ext cx="8229600" cy="530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Если тело преодолевает силу притяжения Земли и движется по круговой орбите около Земли, то это тело называют .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Чему равна первая космическая скорос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Чему равна вторая космическая скорост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Первый человек, побывавший в космосе и когда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еличина, равная произведению массы тела на его скорость, называется ..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Векторная сумма импульсов тел, составляющих замкнутую систему, не меняется с течением времени при любых движениях и взаимодействиях этих тел. О чём речь?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Формула импульса тел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575"/>
              </a:spcBef>
              <a:buClr>
                <a:srgbClr val="e3e3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Математическая запись закона сохранения импульса.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30000">
                                          <p:val>
                                            <p:strVal val="#ppt_h/2"/>
                                          </p:val>
                                        </p:tav>
                                        <p:tav tm="4000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"/>
                                          </p:val>
                                        </p:tav>
                                        <p:tav tm="60000">
                                          <p:val>
                                            <p:strVal val="#ppt_h"/>
                                          </p:val>
                                        </p:tav>
                                        <p:tav tm="69900">
                                          <p:val>
                                            <p:strVal val="#ppt_h/2"/>
                                          </p:val>
                                        </p:tav>
                                        <p:tav tm="8000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2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5"/>
                                          </p:val>
                                        </p:tav>
                                        <p:tav tm="20000">
                                          <p:val>
                                            <p:strVal val="#ppt_y-.2"/>
                                          </p:val>
                                        </p:tav>
                                        <p:tav tm="30000">
                                          <p:val>
                                            <p:strVal val="#ppt_y"/>
                                          </p:val>
                                        </p:tav>
                                        <p:tav tm="40000">
                                          <p:val>
                                            <p:strVal val="#ppt_y-.15"/>
                                          </p:val>
                                        </p:tav>
                                        <p:tav tm="50000">
                                          <p:val>
                                            <p:strVal val="#ppt_y"/>
                                          </p:val>
                                        </p:tav>
                                        <p:tav tm="60000">
                                          <p:val>
                                            <p:strVal val="#ppt_y-.1"/>
                                          </p:val>
                                        </p:tav>
                                        <p:tav tm="69900">
                                          <p:val>
                                            <p:strVal val="#ppt_y"/>
                                          </p:val>
                                        </p:tav>
                                        <p:tav tm="80000">
                                          <p:val>
                                            <p:strVal val="#ppt_y-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Проверка физического диктанта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СЗ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7.9 км/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Более 11.2 км/с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Гагарин Ю.А., 12 апреля 1961 год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Импульс тел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Закон сохранения импуль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 = m v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00"/>
              </a:spcBef>
              <a:buClr>
                <a:srgbClr val="e3e3ff"/>
              </a:buClr>
              <a:buFont typeface="Arial"/>
              <a:buAutoNum type="arabicPeriod" startAt="8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p’  +   p’   =        p   +   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            2                       1             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68360" y="1268280"/>
            <a:ext cx="8229600" cy="309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Реактивное движение.</a:t>
            </a:r>
            <a:br>
              <a:rPr sz="5400"/>
            </a:br>
            <a:r>
              <a:rPr b="0" lang="en-US" sz="5400" spc="-1" strike="noStrike">
                <a:solidFill>
                  <a:srgbClr val="e3e3ff"/>
                </a:solidFill>
                <a:latin typeface="Arial"/>
              </a:rPr>
              <a:t>Ракеты.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549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Реактивное движение –</a:t>
            </a:r>
            <a:br>
              <a:rPr sz="4400"/>
            </a:b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 это     движение, возникающее при отделении от тела с  некоторой скоростью какой-либо его части.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746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e3e3ff"/>
                </a:solidFill>
                <a:latin typeface="Arial"/>
              </a:rPr>
              <a:t>Реактивное движение в природе</a:t>
            </a: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779640" y="1600200"/>
            <a:ext cx="511308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Реактивное движени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используется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моллюск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осьминогами,кальмарами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каракатицами, медузами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альмар засасывает воду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нутрь мантийной полости, 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затем резко выбрасывает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трую воды через узко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сопло.Он способен разв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вать скорость до 60 – 7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км/ч. Недаром кальма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1536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называют </a:t>
            </a:r>
            <a:r>
              <a:rPr b="0" lang="ru-RU" sz="2400" spc="-1" strike="noStrike">
                <a:solidFill>
                  <a:srgbClr val="00ffcc"/>
                </a:solidFill>
                <a:latin typeface="Arial"/>
              </a:rPr>
              <a:t>“живой торпедой”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Picture 7" descr="Флора и фауна Берингова, Охотского и Японского морей. Головоногие молюски. На открытке: тихоокеанский кальмар (общая длина до 78 см), осьминог песчаный (общая длина до 120 см), каракатица тихоокеанская россия (длина до 10.5 см). В круге присоска кальмара с роговыми зубцами.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39640" y="1557360"/>
            <a:ext cx="3024360" cy="4680000"/>
          </a:xfrm>
          <a:prstGeom prst="rect">
            <a:avLst/>
          </a:prstGeom>
          <a:ln w="0">
            <a:noFill/>
          </a:ln>
        </p:spPr>
      </p:pic>
    </p:spTree>
  </p:cSld>
  <p:transition>
    <p:push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12T07:10:52Z</dcterms:created>
  <dc:creator>мвидео</dc:creator>
  <dc:description/>
  <dc:language>en-US</dc:language>
  <cp:lastModifiedBy>мвидео</cp:lastModifiedBy>
  <dcterms:modified xsi:type="dcterms:W3CDTF">2014-01-01T12:22:48Z</dcterms:modified>
  <cp:revision>10</cp:revision>
  <dc:subject/>
  <dc:title>Урок физики в 9 классе Автор:     Галеева Лилия Мунировна учитель физики МКОУ "Тайчинская средняя общеобразовательная школа"  Тевризского района Омской области </dc:title>
</cp:coreProperties>
</file>