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2.jpeg" ContentType="image/jpeg"/>
  <Override PartName="/ppt/media/image7.wmf" ContentType="image/x-wmf"/>
  <Override PartName="/ppt/media/image11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8155-CF9B-47FF-BCC7-662109A83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0C85-8EE5-4FB7-8E0D-A176AE49F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E7D5-75C9-4AAF-9F0C-E6990C877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A9B2-BE41-4CE4-A752-1D57AE147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77051-7E2C-46CE-BC93-869A85BAD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EC1BA-9C0B-445D-895B-AE7061A82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271BE-2411-47E4-9622-99C1E873E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3A692-E8CF-4861-8B3D-6D3AE96D5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3CF4D-1A97-41B7-8B11-9D08E6C89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F47BD-058B-4DB7-A632-62060B93C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480E2-0F70-42D8-B95F-0789E80D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FE43-D574-49A9-9850-52AB903F6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7F344-DE69-4683-9B80-C49A5538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7DA59-1A99-481F-AD53-0BE0CB249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672D7-E37F-4558-8ADF-EB52F91F0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61672-B738-450B-A85B-2EB29506E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6C99D-72E9-4D0C-8B65-B05614873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232FA-04F3-41B4-BC25-4A9F2040F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04C9E-788C-4C01-A55D-86DE2A66D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1F20B-23FD-4809-B3A5-E9C48734D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21DA0-5FC2-464A-BE4C-C5DAD977E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154A9-16C3-42E3-B383-1E0790A92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FB80-5D6E-4FC6-BB30-480EF4228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A4F2B-A756-457A-8EFA-7D060E444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68DB2-F728-41E8-B10E-84FA08BE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1F705-BDF2-4F0D-B867-2342804A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41AB1-D1BA-4A0E-B721-11FB7F57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D1F62-5ECA-4918-B0B7-A4DFB8368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18A7D-E79D-4B34-9603-699D045C6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7FB43-C7B7-4FE5-A727-2045A8037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D1B08-B00D-4806-91FB-27B0E5FD4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5E977-C474-42F8-96C9-FD9F0D5A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31B1A-CD44-45AC-9330-838379478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83DD-54AF-482D-AC24-24B305309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68B1F-A270-478F-A9D2-D51B67C0F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A3084-18A6-4F69-84A1-53289A4E7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70E07-BECF-4EAF-8C68-A90AD3B7E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58902-897C-4E4E-A018-151371FA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E7A8A-0FFE-41D2-BDB3-B765D092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DA368-FE1E-41FD-BF26-B4EC6F61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4939A-0EF1-4D01-B611-DA092C5D6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B44F8-4871-41C9-9794-7B85AC5AC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F560A-23EB-40BE-882A-682247BBA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0AA3D-CCF0-4B1A-A525-8E214A110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19EB-4BA3-40BD-A191-750209986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41DA5-2B63-4611-9BFE-BE568E08A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58E50-1702-4402-9172-B45F3B616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DE619-FA7D-46C2-9587-2AADA142A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A62D7-537E-431C-8BF9-CAD849236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D594B-33CF-40E1-86DD-D9AF58CE7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1B946-99F7-4605-B1D6-34E02D1E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ADD33-6CA4-4D1D-8A36-5E1CADE4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FBD69-281E-4472-9E72-4BC7E90B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2080C-D4EC-4B36-9B2A-2AEA037AE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FB3C5-67E6-43AE-ABB2-42C87A358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2986-5ED7-469A-AEAF-9FC7CA02F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D884C-73DF-41F4-BC05-3EB20CAD0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A6534-B703-4BCC-9B9E-317300857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C0AF4-CC73-4611-9BA7-485F012DD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35E8E-B2D0-484E-8118-4AEE65B67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9EC5A-DC62-4AD8-AAD6-655722802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A9760-6B8A-4E6D-82A0-5F149FBC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64155-E95E-4160-A36D-7FE397491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1E98B4-94E2-4B9A-9D36-65F5FD47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838E9-B8D8-41D1-A7E9-79B4BEF8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BC1C8-74BA-4C7F-A74F-306865D2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07F9-519B-4C62-9C95-23ACFD89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E87E8-0142-4166-B3C6-1AFC1BF4B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E98F1-8436-4EE5-9E24-495D6FF0E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B4E490-C720-43D5-8D7C-A65F5F645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2C5F3A-A00C-4748-90BA-ACF998457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551E7-A7FD-4920-84D8-FE5C6ADB6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360CA-6312-442C-B8D1-AE0F3A7B7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4686CA-744E-45A8-9ADD-CD4E3FB51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12B128-B9A9-47E6-8848-274544FEF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858B4B-F4EF-4D52-BF77-C650EE081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F66638-71BD-4CBD-B1BB-211F42B1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39C6-BC16-4C7B-BCF9-77EBB135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5AD12-98FC-406D-9FBE-D555F89F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629F5C-0E15-4CE0-AA5A-5C527EC4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BDB5F-3EBC-44EB-B4FB-AAED02EE3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FC8357-0DF6-4367-A3AD-56D6EACB4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2570C-5623-4DD6-AB6C-222851814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2EF9-D9A2-40C7-9595-245F1BF7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057E3-CF0C-40D3-8B17-6DAAEEFDE4F4}" type="slidenum">
              <a:rPr b="0" lang="ru-RU" sz="1000" spc="-1" strike="noStrike">
                <a:solidFill>
                  <a:srgbClr val="073e87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DA15F-8664-4FEB-9C52-6449E3C956C3}" type="slidenum">
              <a:rPr b="0" lang="ru-RU" sz="1000" spc="-1" strike="noStrike">
                <a:solidFill>
                  <a:srgbClr val="073e87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65017-E631-4629-8485-6DF2D69E63BD}" type="slidenum">
              <a:rPr b="0" lang="ru-RU" sz="1000" spc="-1" strike="noStrike">
                <a:solidFill>
                  <a:srgbClr val="073e87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64AAC-E3D7-49FD-A42F-D16E3933BE7E}" type="slidenum">
              <a:rPr b="0" lang="ru-RU" sz="1000" spc="-1" strike="noStrike">
                <a:solidFill>
                  <a:srgbClr val="073e87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44029-8C3A-4663-AFDD-000588DD883C}" type="slidenum">
              <a:rPr b="0" lang="ru-RU" sz="1000" spc="-1" strike="noStrike">
                <a:solidFill>
                  <a:srgbClr val="073e87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C5AE4-1A82-459B-B181-ECAFE5948CF3}" type="slidenum">
              <a:rPr b="0" lang="ru-RU" sz="1000" spc="-1" strike="noStrike">
                <a:solidFill>
                  <a:srgbClr val="073e87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DEAC9-4E2E-4CC1-9A3C-65F5E77046F4}" type="slidenum">
              <a:rPr b="0" lang="ru-RU" sz="1000" spc="-1" strike="noStrike">
                <a:solidFill>
                  <a:srgbClr val="073e87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Прямоугольник 3"/>
          <p:cNvSpPr/>
          <p:nvPr/>
        </p:nvSpPr>
        <p:spPr>
          <a:xfrm>
            <a:off x="4640400" y="609480"/>
            <a:ext cx="183960" cy="924120"/>
          </a:xfrm>
          <a:prstGeom prst="rect">
            <a:avLst/>
          </a:prstGeom>
          <a:noFill/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Прямоугольник 4"/>
          <p:cNvSpPr/>
          <p:nvPr/>
        </p:nvSpPr>
        <p:spPr>
          <a:xfrm>
            <a:off x="-491760" y="609480"/>
            <a:ext cx="9949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Акционерное общество-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молочная ферма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37" name="Picture 6" descr=""/>
          <p:cNvPicPr/>
          <p:nvPr/>
        </p:nvPicPr>
        <p:blipFill>
          <a:blip r:embed="rId1"/>
          <a:stretch/>
        </p:blipFill>
        <p:spPr>
          <a:xfrm>
            <a:off x="2133720" y="2548080"/>
            <a:ext cx="5181480" cy="40050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871560" y="2674440"/>
            <a:ext cx="740880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ите массу и плотность тел.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1" name="Picture 2" descr=""/>
          <p:cNvPicPr/>
          <p:nvPr/>
        </p:nvPicPr>
        <p:blipFill>
          <a:blip r:embed="rId1"/>
          <a:stretch/>
        </p:blipFill>
        <p:spPr>
          <a:xfrm>
            <a:off x="1276200" y="1981080"/>
            <a:ext cx="65534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2" descr="http://gimnazi6a.narod.ru/urok2/telaravnogoV.gif"/>
          <p:cNvPicPr/>
          <p:nvPr/>
        </p:nvPicPr>
        <p:blipFill>
          <a:blip r:embed="rId1"/>
          <a:stretch/>
        </p:blipFill>
        <p:spPr>
          <a:xfrm>
            <a:off x="990720" y="1600200"/>
            <a:ext cx="66294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 массу куба изо льда. Плотность льда 0,9г/м</a:t>
            </a:r>
            <a:r>
              <a:rPr b="1" lang="ru-RU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1755720" y="2517840"/>
            <a:ext cx="495000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какого дерева изготовлен брус массой 7кг и объёмом 0,01 м</a:t>
            </a:r>
            <a:r>
              <a:rPr b="1" lang="ru-RU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689040" y="4194000"/>
            <a:ext cx="701028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228600" y="2438280"/>
            <a:ext cx="8686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59" name="Picture 7" descr=""/>
          <p:cNvPicPr/>
          <p:nvPr/>
        </p:nvPicPr>
        <p:blipFill>
          <a:blip r:embed="rId1"/>
          <a:stretch/>
        </p:blipFill>
        <p:spPr>
          <a:xfrm>
            <a:off x="2286000" y="2133720"/>
            <a:ext cx="4724280" cy="4724280"/>
          </a:xfrm>
          <a:prstGeom prst="rect">
            <a:avLst/>
          </a:prstGeom>
          <a:ln w="0">
            <a:noFill/>
          </a:ln>
        </p:spPr>
      </p:pic>
      <p:sp>
        <p:nvSpPr>
          <p:cNvPr id="360" name="TextBox 1"/>
          <p:cNvSpPr/>
          <p:nvPr/>
        </p:nvSpPr>
        <p:spPr>
          <a:xfrm>
            <a:off x="275400" y="685800"/>
            <a:ext cx="7527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кане  три несмешивающиеся жидкости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, ртуть, масло подсолнечно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 как они расположены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2819520"/>
            <a:ext cx="81532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Овал 1"/>
          <p:cNvSpPr/>
          <p:nvPr/>
        </p:nvSpPr>
        <p:spPr>
          <a:xfrm>
            <a:off x="5105520" y="2895480"/>
            <a:ext cx="3429000" cy="3200400"/>
          </a:xfrm>
          <a:prstGeom prst="ellipse">
            <a:avLst/>
          </a:prstGeom>
          <a:solidFill>
            <a:srgbClr val="a6a6a6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TextBox 2"/>
          <p:cNvSpPr/>
          <p:nvPr/>
        </p:nvSpPr>
        <p:spPr>
          <a:xfrm>
            <a:off x="762120" y="609480"/>
            <a:ext cx="6476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са  чугунного шара объёмом 0,001м</a:t>
            </a:r>
            <a:r>
              <a:rPr b="1" lang="ru-RU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,9 кг. Сплошной или полый шар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410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ndara"/>
              </a:rPr>
              <a:t>2</a:t>
            </a:r>
            <a:r>
              <a:rPr b="1" lang="ru-RU" sz="8000" spc="-1" strike="noStrike">
                <a:solidFill>
                  <a:srgbClr val="000000"/>
                </a:solidFill>
                <a:latin typeface="Candara"/>
                <a:ea typeface="Times New Roman"/>
              </a:rPr>
              <a:t>-й </a:t>
            </a:r>
            <a:r>
              <a:rPr b="1" i="1" lang="ru-RU" sz="8000" spc="-1" strike="noStrike">
                <a:solidFill>
                  <a:srgbClr val="000000"/>
                </a:solidFill>
                <a:latin typeface="Candara"/>
                <a:ea typeface="Times New Roman"/>
              </a:rPr>
              <a:t>этап. </a:t>
            </a:r>
            <a:br>
              <a:rPr sz="8000"/>
            </a:br>
            <a:r>
              <a:rPr b="1" i="1" lang="ru-RU" sz="8000" spc="-1" strike="noStrike">
                <a:solidFill>
                  <a:srgbClr val="ff0000"/>
                </a:solidFill>
                <a:latin typeface="Candara"/>
              </a:rPr>
              <a:t>Название АОМФ</a:t>
            </a:r>
            <a:br>
              <a:rPr sz="8000"/>
            </a:br>
            <a:endParaRPr b="0" lang="en-US" sz="8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77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тность какого металла равна 19300 кг/ м</a:t>
            </a:r>
            <a:r>
              <a:rPr b="1" lang="ru-RU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?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609480" y="3556080"/>
            <a:ext cx="693432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азвания возьмите первую букву.</a:t>
            </a:r>
            <a:r>
              <a:rPr b="1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80000"/>
              </a:lnSpc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</a:t>
            </a:r>
            <a:r>
              <a:rPr b="1" lang="ru-RU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ото</a:t>
            </a:r>
            <a:endParaRPr b="0" lang="en-US" sz="62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ую величину можно определить разделив массу на плотность?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685440" y="3555720"/>
            <a:ext cx="762012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твета возьмите первую букву.</a:t>
            </a:r>
            <a:endParaRPr b="0" lang="en-US" sz="37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ъём.</a:t>
            </a:r>
            <a:endParaRPr b="0" lang="en-US" sz="72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определил объём золотой короны царя Гиерона?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685440" y="3556080"/>
            <a:ext cx="70866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твета возьмите вторую букву.</a:t>
            </a:r>
            <a:endParaRPr b="0" lang="en-US" sz="34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ед</a:t>
            </a:r>
            <a:endParaRPr b="0" lang="en-US" sz="6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900000" y="1828800"/>
            <a:ext cx="726768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Candara"/>
                <a:ea typeface="Times New Roman"/>
              </a:rPr>
              <a:t>организовать повторение основных понятий, опытных фактов, физических величин по теме «Плотность» в игровой форме, совершенствовать навык решения задач,   познавательного интереса, мышления, внимания, смекалки, инициативности; воспитывать взаимопомощь, адаптации к современным рыночным </a:t>
            </a:r>
            <a:r>
              <a:rPr b="0" lang="ru-RU" sz="2800" spc="-1" strike="noStrike">
                <a:solidFill>
                  <a:srgbClr val="009900"/>
                </a:solidFill>
                <a:latin typeface="Candara"/>
                <a:ea typeface="Times New Roman"/>
              </a:rPr>
              <a:t>отношениям.</a:t>
            </a:r>
            <a:r>
              <a:rPr b="0" lang="ru-RU" sz="2800" spc="-1" strike="noStrike">
                <a:solidFill>
                  <a:srgbClr val="00ffff"/>
                </a:solidFill>
                <a:latin typeface="Candara"/>
                <a:ea typeface="Times New Roman"/>
              </a:rPr>
              <a:t>                                             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0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ndara"/>
                <a:ea typeface="Times New Roman"/>
              </a:rPr>
              <a:t>Цели урока</a:t>
            </a: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120" y="685800"/>
            <a:ext cx="8077320" cy="22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ая величина измеряется</a:t>
            </a:r>
            <a:br>
              <a:rPr sz="4300"/>
            </a:br>
            <a:r>
              <a:rPr b="1" lang="ru-RU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г/см</a:t>
            </a:r>
            <a:r>
              <a:rPr b="1" lang="ru-RU" sz="43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1" lang="ru-RU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?</a:t>
            </a:r>
            <a:br>
              <a:rPr sz="4300"/>
            </a:b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609120" y="3048120"/>
            <a:ext cx="7543800" cy="24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3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твета возьмите последнюю букву.</a:t>
            </a:r>
            <a:endParaRPr b="0" lang="en-US" sz="53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тност</a:t>
            </a:r>
            <a:r>
              <a:rPr b="1" lang="ru-RU" sz="6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ь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6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80520" y="68580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слово кричал Архимед?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33520" y="2895480"/>
            <a:ext cx="76960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твета возьмите предпоследнюю букву.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ри</a:t>
            </a:r>
            <a:r>
              <a:rPr b="1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</a:t>
            </a:r>
            <a:endParaRPr b="0" lang="en-US" sz="6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177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бор для измерения плотности жидкости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85440" y="3556080"/>
            <a:ext cx="7620120" cy="23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твета возьмите первую букву.</a:t>
            </a:r>
            <a:endParaRPr b="0" lang="en-US" sz="37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ометр </a:t>
            </a:r>
            <a:endParaRPr b="0" lang="en-US" sz="6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ЗОРЬКА»</a:t>
            </a:r>
            <a:endParaRPr b="0" lang="en-US" sz="9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2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768240"/>
            <a:ext cx="7772400" cy="471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-й </a:t>
            </a:r>
            <a:r>
              <a:rPr b="1" i="1" lang="ru-RU" sz="7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этап.</a:t>
            </a:r>
            <a:r>
              <a:rPr b="1" i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7200"/>
            </a:br>
            <a:r>
              <a:rPr b="1" i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еделение обязанностей.</a:t>
            </a:r>
            <a:br>
              <a:rPr sz="7200"/>
            </a:br>
            <a:endParaRPr b="0" lang="en-US" sz="7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685800" y="2362320"/>
            <a:ext cx="3733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го объёма надо соорудить отсек, чтобы вместить в него 200т пшеницы?  Плотность пшеницы 1500кг/м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title"/>
          </p:nvPr>
        </p:nvSpPr>
        <p:spPr>
          <a:xfrm>
            <a:off x="456840" y="1066320"/>
            <a:ext cx="335268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ригада строителей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83" name="Picture 5" descr=""/>
          <p:cNvPicPr/>
          <p:nvPr/>
        </p:nvPicPr>
        <p:blipFill>
          <a:blip r:embed="rId1"/>
          <a:stretch/>
        </p:blipFill>
        <p:spPr>
          <a:xfrm>
            <a:off x="4648320" y="1828800"/>
            <a:ext cx="4190760" cy="449568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4681440" y="2666880"/>
            <a:ext cx="3903840" cy="381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550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495680" y="338040"/>
            <a:ext cx="4191120" cy="126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оотехники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0" y="167652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читать массу кукурузного силоса, который будет запасён в качестве корма, если эта кукуруза занимает 200га, а для заполнения силосной ямы объёмом 5000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нужно скосить кукурузу на площади 40га, плотность силоса 600кг/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 Сколько ям будет заполнено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87" name="Picture 6" descr="F:\Qx7o7.jpg"/>
          <p:cNvPicPr/>
          <p:nvPr/>
        </p:nvPicPr>
        <p:blipFill>
          <a:blip r:embed="rId1"/>
          <a:stretch/>
        </p:blipFill>
        <p:spPr>
          <a:xfrm>
            <a:off x="438120" y="890640"/>
            <a:ext cx="3683160" cy="916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456840" y="2437920"/>
            <a:ext cx="38098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зиму  заготовили 900т сена. На какую высоту будет заполнен сеновал, если его длина 50м, ширина 20м? Плотность сена 450кг/м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title"/>
          </p:nvPr>
        </p:nvSpPr>
        <p:spPr>
          <a:xfrm>
            <a:off x="456840" y="1081440"/>
            <a:ext cx="335268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90" name="Picture 6" descr="F:\qY7Wq.jpg"/>
          <p:cNvPicPr/>
          <p:nvPr/>
        </p:nvPicPr>
        <p:blipFill>
          <a:blip r:embed="rId1"/>
          <a:stretch/>
        </p:blipFill>
        <p:spPr>
          <a:xfrm>
            <a:off x="4343400" y="1676520"/>
            <a:ext cx="46483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343400" y="685440"/>
            <a:ext cx="419112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ригада учётчиков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4571640" y="2971800"/>
            <a:ext cx="38862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потребуется рейсов  для перевозки  1000т молока, если вместимость цистерны  500 литров? Плотность молока  1030кг/м</a:t>
            </a:r>
            <a:r>
              <a:rPr b="1" lang="ru-RU" sz="2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93" name="Picture 2" descr="F:\MG_3072.jpg"/>
          <p:cNvPicPr/>
          <p:nvPr/>
        </p:nvPicPr>
        <p:blipFill>
          <a:blip r:embed="rId1"/>
          <a:stretch/>
        </p:blipFill>
        <p:spPr>
          <a:xfrm>
            <a:off x="304920" y="1752480"/>
            <a:ext cx="380988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 u="sng">
                <a:solidFill>
                  <a:srgbClr val="000000"/>
                </a:solidFill>
                <a:uFillTx/>
                <a:latin typeface="Candara"/>
              </a:rPr>
              <a:t>4 этап</a:t>
            </a:r>
            <a:endParaRPr b="0" lang="en-US" sz="9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273320" y="3352320"/>
            <a:ext cx="64008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Candara"/>
              </a:rPr>
              <a:t>Реклама</a:t>
            </a:r>
            <a:endParaRPr b="0" lang="en-US" sz="8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2"/>
          <p:cNvSpPr/>
          <p:nvPr/>
        </p:nvSpPr>
        <p:spPr>
          <a:xfrm>
            <a:off x="0" y="1066680"/>
            <a:ext cx="914400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d81d72"/>
                </a:solidFill>
                <a:uFillTx/>
                <a:latin typeface="Tahoma"/>
                <a:ea typeface="Tahoma"/>
              </a:rPr>
              <a:t>АО</a:t>
            </a:r>
            <a:r>
              <a:rPr b="1" lang="ru-RU" sz="6000" spc="-1" strike="noStrike">
                <a:solidFill>
                  <a:srgbClr val="d81d72"/>
                </a:solidFill>
                <a:latin typeface="Tahoma"/>
                <a:ea typeface="Tahoma"/>
              </a:rPr>
              <a:t> </a:t>
            </a:r>
            <a:r>
              <a:rPr b="1" lang="ru-RU" sz="6000" spc="-1" strike="noStrike">
                <a:solidFill>
                  <a:srgbClr val="073e87"/>
                </a:solidFill>
                <a:latin typeface="Tahoma"/>
                <a:ea typeface="Tahoma"/>
              </a:rPr>
              <a:t>–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73e87"/>
                </a:solidFill>
                <a:latin typeface="Tahoma"/>
                <a:ea typeface="Tahoma"/>
              </a:rPr>
              <a:t>это организация, созданная для получения прибыли</a:t>
            </a:r>
            <a:r>
              <a:rPr b="0" lang="ru-RU" sz="7200" spc="-1" strike="noStrike">
                <a:solidFill>
                  <a:srgbClr val="073e87"/>
                </a:solidFill>
                <a:latin typeface="Times New Roman"/>
              </a:rPr>
              <a:t>.</a:t>
            </a:r>
            <a:r>
              <a:rPr b="0" lang="ru-RU" sz="8000" spc="-1" strike="noStrike">
                <a:solidFill>
                  <a:srgbClr val="073e87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"/>
          <p:cNvSpPr/>
          <p:nvPr/>
        </p:nvSpPr>
        <p:spPr>
          <a:xfrm>
            <a:off x="0" y="762120"/>
            <a:ext cx="9144000" cy="61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d81d72"/>
                </a:solidFill>
                <a:uFillTx/>
                <a:latin typeface="Times New Roman"/>
                <a:ea typeface="Times New Roman"/>
              </a:rPr>
              <a:t>Последний этап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шей работы – 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реклама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пытайтесь так представить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аше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О, чтобы все обращались только к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. За лучшую рекламу  – по 2 акции каждому участнику, остальным – по одной. (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ая работа в группах.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533160" y="1905120"/>
            <a:ext cx="373356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йте, дети, молоко будете здоровы!</a:t>
            </a:r>
            <a:endParaRPr b="0" lang="en-US" sz="5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title"/>
          </p:nvPr>
        </p:nvSpPr>
        <p:spPr>
          <a:xfrm>
            <a:off x="533160" y="624240"/>
            <a:ext cx="335268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99" name="Picture 6" descr="F:\48992-1366x768.jpg"/>
          <p:cNvPicPr/>
          <p:nvPr/>
        </p:nvPicPr>
        <p:blipFill>
          <a:blip r:embed="rId1"/>
          <a:srcRect l="0" t="8974" r="0" b="8974"/>
          <a:stretch/>
        </p:blipFill>
        <p:spPr>
          <a:xfrm>
            <a:off x="4343400" y="1676520"/>
            <a:ext cx="42130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990720" y="17524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73e87"/>
                </a:solidFill>
                <a:latin typeface="Candara"/>
              </a:rPr>
              <a:t>Что такое ОАО?</a:t>
            </a:r>
            <a:endParaRPr b="0" lang="en-US" sz="5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1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73e87"/>
                </a:solidFill>
                <a:latin typeface="Candara"/>
              </a:rPr>
              <a:t>Что представляет собой акция?</a:t>
            </a:r>
            <a:endParaRPr b="0" lang="en-US" sz="5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1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73e87"/>
                </a:solidFill>
                <a:latin typeface="Candara"/>
              </a:rPr>
              <a:t>Что такое дивиденд?</a:t>
            </a:r>
            <a:endParaRPr b="0" lang="en-US" sz="5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73e87"/>
                </a:solidFill>
                <a:latin typeface="Candara"/>
              </a:rPr>
              <a:t>Подведение итогов</a:t>
            </a:r>
            <a:endParaRPr b="0" lang="en-US" sz="5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11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andara"/>
              </a:rPr>
              <a:t>6 акций – «5»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90000"/>
              </a:lnSpc>
              <a:spcBef>
                <a:spcPts val="11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andara"/>
              </a:rPr>
              <a:t>5 акций - «4»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90000"/>
              </a:lnSpc>
              <a:spcBef>
                <a:spcPts val="11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andara"/>
              </a:rPr>
              <a:t>4 акции – «3»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90000"/>
              </a:lnSpc>
              <a:spcBef>
                <a:spcPts val="11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andara"/>
              </a:rPr>
              <a:t>3 акции – «3»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ffff"/>
                </a:solidFill>
                <a:uFillTx/>
                <a:latin typeface="Candara"/>
              </a:rPr>
              <a:t>Дивиденды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Кабардин О. Ф. и др. Задания для контроля знаний учащихся по физике в средней школе (Дидактический материал): Пособие для учителей / О. Ф. Кабардин, С. И. Кабардина, В. А. Орлов. - М.: Просвещение, 1983. -142 с: ил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597240" indent="-59724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Ланина И. Я. Формирование познавательных интересов учащихся на уроках физики: Кн. для учителя. - М.: Просвещение, 1985. - 128 с: ил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597240" indent="-59724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Урок физики в современной школе. Творч. поиск учителей: Кн. для учителя/Сост. Э. М. Браверман; Под ред. В. Г. Разумовского. - М.: Про­свещение, 1993. - 288 с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Литератур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2"/>
          <p:cNvSpPr/>
          <p:nvPr/>
        </p:nvSpPr>
        <p:spPr>
          <a:xfrm>
            <a:off x="533520" y="914400"/>
            <a:ext cx="807696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d81d72"/>
                </a:solidFill>
                <a:uFillTx/>
                <a:latin typeface="Tahoma"/>
                <a:ea typeface="Tahoma"/>
              </a:rPr>
              <a:t>Акции</a:t>
            </a:r>
            <a:r>
              <a:rPr b="1" lang="ru-RU" sz="4400" spc="-1" strike="noStrike">
                <a:solidFill>
                  <a:srgbClr val="d81d72"/>
                </a:solidFill>
                <a:latin typeface="Tahoma"/>
                <a:ea typeface="Tahoma"/>
              </a:rPr>
              <a:t> </a:t>
            </a:r>
            <a:r>
              <a:rPr b="1" lang="ru-RU" sz="4400" spc="-1" strike="noStrike">
                <a:solidFill>
                  <a:srgbClr val="073e87"/>
                </a:solidFill>
                <a:latin typeface="Tahoma"/>
                <a:ea typeface="Tahoma"/>
              </a:rPr>
              <a:t>–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73e87"/>
                </a:solidFill>
                <a:latin typeface="Tahoma"/>
                <a:ea typeface="Tahoma"/>
              </a:rPr>
              <a:t>это ценные бумаги, которые свидетельствуют о том, что их держатели имеют право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73e87"/>
                </a:solidFill>
                <a:latin typeface="Tahoma"/>
                <a:ea typeface="Tahoma"/>
              </a:rPr>
              <a:t>на часть имущества предприятия</a:t>
            </a:r>
            <a:r>
              <a:rPr b="1" lang="ru-RU" sz="5400" spc="-1" strike="noStrike">
                <a:solidFill>
                  <a:srgbClr val="073e87"/>
                </a:solidFill>
                <a:latin typeface="Times New Roman"/>
              </a:rPr>
              <a:t>.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685800" y="914400"/>
            <a:ext cx="76960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73e87"/>
                </a:solidFill>
                <a:latin typeface="Tahoma"/>
                <a:ea typeface="Tahoma"/>
              </a:rPr>
              <a:t>Когда предприятие начинает приносить прибыль, владелец акций получает часть прибыли (</a:t>
            </a:r>
            <a:r>
              <a:rPr b="1" i="1" lang="ru-RU" sz="4400" spc="-1" strike="noStrike">
                <a:solidFill>
                  <a:srgbClr val="eb5605"/>
                </a:solidFill>
                <a:latin typeface="Tahoma"/>
                <a:ea typeface="Tahoma"/>
              </a:rPr>
              <a:t>дивиденды</a:t>
            </a:r>
            <a:r>
              <a:rPr b="1" lang="ru-RU" sz="4400" spc="-1" strike="noStrike">
                <a:solidFill>
                  <a:srgbClr val="073e87"/>
                </a:solidFill>
                <a:latin typeface="Tahoma"/>
                <a:ea typeface="Tahoma"/>
              </a:rPr>
              <a:t>) в зависимости от количества акций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0" y="114300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73e87"/>
                </a:solidFill>
                <a:latin typeface="Tahoma"/>
                <a:ea typeface="Tahoma"/>
              </a:rPr>
              <a:t>Владельцев акций называют </a:t>
            </a:r>
            <a:r>
              <a:rPr b="1" i="1" lang="ru-RU" sz="72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акционерами.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7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2"/>
          <p:cNvSpPr/>
          <p:nvPr/>
        </p:nvSpPr>
        <p:spPr>
          <a:xfrm>
            <a:off x="0" y="838080"/>
            <a:ext cx="91440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81d72"/>
                </a:solidFill>
                <a:latin typeface="Tahoma"/>
                <a:ea typeface="Tahoma"/>
              </a:rPr>
              <a:t>Чтобы стать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81d72"/>
                </a:solidFill>
                <a:latin typeface="Tahoma"/>
                <a:ea typeface="Tahoma"/>
              </a:rPr>
              <a:t> </a:t>
            </a:r>
            <a:r>
              <a:rPr b="1" lang="ru-RU" sz="4800" spc="-1" strike="noStrike" u="sng">
                <a:solidFill>
                  <a:srgbClr val="6600ff"/>
                </a:solidFill>
                <a:uFillTx/>
                <a:latin typeface="Tahoma"/>
                <a:ea typeface="Tahoma"/>
              </a:rPr>
              <a:t>акционером</a:t>
            </a:r>
            <a:r>
              <a:rPr b="1" lang="ru-RU" sz="4800" spc="-1" strike="noStrike">
                <a:solidFill>
                  <a:srgbClr val="d81d72"/>
                </a:solidFill>
                <a:latin typeface="Tahoma"/>
                <a:ea typeface="Tahoma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81d72"/>
                </a:solidFill>
                <a:latin typeface="Tahoma"/>
                <a:ea typeface="Tahoma"/>
              </a:rPr>
              <a:t>и получить прибыль,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81d72"/>
                </a:solidFill>
                <a:latin typeface="Tahoma"/>
                <a:ea typeface="Tahoma"/>
              </a:rPr>
              <a:t>вам потребуются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81d72"/>
                </a:solidFill>
                <a:latin typeface="Tahoma"/>
                <a:ea typeface="Tahoma"/>
              </a:rPr>
              <a:t> </a:t>
            </a:r>
            <a:r>
              <a:rPr b="1" lang="ru-RU" sz="4800" spc="-1" strike="noStrike">
                <a:solidFill>
                  <a:srgbClr val="d81d72"/>
                </a:solidFill>
                <a:latin typeface="Tahoma"/>
                <a:ea typeface="Tahoma"/>
              </a:rPr>
              <a:t>знания и умения по 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81d72"/>
                </a:solidFill>
                <a:latin typeface="Tahoma"/>
                <a:ea typeface="Tahoma"/>
              </a:rPr>
              <a:t>теме </a:t>
            </a:r>
            <a:r>
              <a:rPr b="1" lang="ru-RU" sz="4800" spc="-1" strike="noStrike" u="sng">
                <a:solidFill>
                  <a:srgbClr val="6600ff"/>
                </a:solidFill>
                <a:uFillTx/>
                <a:latin typeface="Tahoma"/>
                <a:ea typeface="Tahoma"/>
              </a:rPr>
              <a:t>«Плотность»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77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ndara"/>
                <a:ea typeface="Times New Roman"/>
              </a:rPr>
              <a:t> </a:t>
            </a:r>
            <a:r>
              <a:rPr b="1" lang="ru-RU" sz="5900" spc="-1" strike="noStrike">
                <a:solidFill>
                  <a:srgbClr val="c00000"/>
                </a:solidFill>
                <a:latin typeface="Candara"/>
                <a:ea typeface="Times New Roman"/>
              </a:rPr>
              <a:t>1-й </a:t>
            </a:r>
            <a:r>
              <a:rPr b="1" i="1" lang="ru-RU" sz="5900" spc="-1" strike="noStrike">
                <a:solidFill>
                  <a:srgbClr val="c00000"/>
                </a:solidFill>
                <a:latin typeface="Candara"/>
                <a:ea typeface="Times New Roman"/>
              </a:rPr>
              <a:t>этап. </a:t>
            </a:r>
            <a:br>
              <a:rPr sz="5900"/>
            </a:br>
            <a:r>
              <a:rPr b="1" i="1" lang="ru-RU" sz="5900" spc="-1" strike="noStrike" u="sng">
                <a:solidFill>
                  <a:srgbClr val="c00000"/>
                </a:solidFill>
                <a:uFillTx/>
                <a:latin typeface="Candara"/>
                <a:ea typeface="Times New Roman"/>
              </a:rPr>
              <a:t>Вступление </a:t>
            </a:r>
            <a:r>
              <a:rPr b="1" lang="ru-RU" sz="5900" spc="-1" strike="noStrike" u="sng">
                <a:solidFill>
                  <a:srgbClr val="c00000"/>
                </a:solidFill>
                <a:uFillTx/>
                <a:latin typeface="Candara"/>
                <a:ea typeface="Times New Roman"/>
              </a:rPr>
              <a:t>в АО</a:t>
            </a:r>
            <a:br>
              <a:rPr sz="5900"/>
            </a:br>
            <a:endParaRPr b="0" lang="en-US" sz="5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1273320" y="304776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Candara"/>
                <a:ea typeface="Times New Roman"/>
              </a:rPr>
              <a:t>Вы сможете вступить в АО, если купите хотя бы одну акцию нашего предприятия.</a:t>
            </a:r>
            <a:r>
              <a:rPr b="1" lang="ru-RU" sz="4400" spc="-1" strike="noStrike">
                <a:solidFill>
                  <a:srgbClr val="6600ff"/>
                </a:solidFill>
                <a:latin typeface="Candara"/>
              </a:rPr>
              <a:t> 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8" name=""/>
          <p:cNvGraphicFramePr/>
          <p:nvPr/>
        </p:nvGraphicFramePr>
        <p:xfrm>
          <a:off x="762120" y="2438280"/>
          <a:ext cx="7408800" cy="4251600"/>
        </p:xfrm>
        <a:graphic>
          <a:graphicData uri="http://schemas.openxmlformats.org/drawingml/2006/table">
            <a:tbl>
              <a:tblPr/>
              <a:tblGrid>
                <a:gridCol w="1852560"/>
                <a:gridCol w="1852560"/>
                <a:gridCol w="1851120"/>
                <a:gridCol w="1852560"/>
              </a:tblGrid>
              <a:tr h="153612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значение физической величи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физической величи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иница измер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ула, по которой рассчитывает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67932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67932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т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ts val="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Candar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67788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м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67896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= a·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</a:tbl>
          </a:graphicData>
        </a:graphic>
      </p:graphicFrame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ить таблицу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иктор</cp:lastModifiedBy>
  <dcterms:modified xsi:type="dcterms:W3CDTF">2014-01-09T16:41:59Z</dcterms:modified>
  <cp:revision>4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