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742-F230-4CBB-9840-A2455B97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B478-ACE8-411E-B5EF-1557854C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7C56-A123-42C1-A950-98EF7A0A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8CA2-0072-4F6C-834E-6D52CAA8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EC61-A386-48B3-9C82-4A51FD6F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2BE1-EBB1-486B-A4B3-1F667060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95A3-E43C-47B4-8EDA-4661C9CA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6936-CD1F-4B5F-90A8-39D44451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9FDE-DEF0-403D-90B7-4D753B91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1860-5113-4562-929E-8C5F9E34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90F3-4DE3-479D-AF90-F4A03491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4DFA-5DFF-4318-B7E7-17D9637F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63B3-0A42-4D8C-B41F-4E17A771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A801-84E1-4514-B320-17576F7B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4F8C-D3E0-4343-8067-88408DC5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B882-DB9A-44B6-B4B1-EE45A3A6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FCCC-5321-43BB-935D-A5972F05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2FB-B464-4D4B-923F-BFA51EEE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72F-C5F1-4EBE-A99F-B3F24BFF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E1F-F892-4C6B-9462-07D5CA66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7BEB-A517-4D65-A629-A50FB6A7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305-9F6E-484D-B0CC-9F8AFF51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E6E9-E7B6-437E-A7F8-014940B3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1C25-0DB8-4509-8FFC-7417C5A9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B587-2312-4EB6-A322-A85F5FEBD3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8583-522F-4576-BD28-CEEE9E014D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Экологический КВН.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10920" y="2421000"/>
            <a:ext cx="799308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«Я –человек, я – посредине мира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ромышленная экология -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57000"/>
            <a:ext cx="82184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Промышленная экология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– изучает влияние выбросов промышленных предприятий на окружающую среду и возможности уменьшения этого влияния за счет совершенствования технологий и применения очистных сооружений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Экологическая задача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ашей стране стали усиленно уничтожать выдру как вредителя рыболовства. Однако это повлекло за собой вспышку заболеваний и массовую гибель рыбы. Как это объяснить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Экологическая задача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тепных районах проводилось истребление сусликов путем разбрасывания отравленной приманки. Помимо сусликов гибли и лисицы которые приманку не ели. В чем причи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362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Цепь питания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– ряд взаимосвязанных видов, из которых каждый предыдущий служит пищей последующему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3792240"/>
            <a:ext cx="793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апива – гусеница - си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060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…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Ты, человек, любя природу,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Хоть иногда ее жалей.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В увеселительных походах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Не растопчи ее полей!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Не жги ее напропалую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 не исчерпывай до дна.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 помни истину простую: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Нас мало, а она -  одна!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В.Шефнер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57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бедиться в важности бережного отношения к природ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ознать необходимость экологических знаний для предотвращения исчезновения всего живого на Зем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0176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ознать свое положение в природ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вать экологическое мышл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ировать экологическую сове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Медицинская экология -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1557000"/>
            <a:ext cx="81471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Медицинская экология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– болезни человека, связанные с загрязнением среды, способы их предупреждения и лечения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773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ельскохозяйственная экология -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Сельскохозяйственная экология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– способы получения сельскохозяйственной продукции без истощения ресурсов пашни и лугов, при сохранении окружающей среды и производства экологически чистых продуктов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844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Юридическая экология -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Юридическая экология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– разрабатывает систему законов, направленных на защиту природы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1:43:28Z</dcterms:created>
  <dc:creator>Светлана</dc:creator>
  <dc:description/>
  <dc:language>en-US</dc:language>
  <cp:lastModifiedBy>Светлана</cp:lastModifiedBy>
  <dcterms:modified xsi:type="dcterms:W3CDTF">2011-11-11T13:41:44Z</dcterms:modified>
  <cp:revision>3</cp:revision>
  <dc:subject/>
  <dc:title>Экологический КВН.</dc:title>
</cp:coreProperties>
</file>