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C4D-1D72-4636-8B97-3FCFA7E6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C01-80EB-4B49-A755-75654F5A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792-B363-448B-8563-9ACB6399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8FF-C342-4DA0-AAD6-39F76314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817-0771-4FE2-86E3-F95F1248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715-F325-41AD-9815-C4C7ECD0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E07-4653-442C-BFB3-0BA349C7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19B-46F0-4FA6-83A4-3191041B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4CD-37BA-4066-8576-5A93CF5D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490-4A7C-4BEF-9C1A-565F5FB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6A4-6EDA-4460-9389-D90CD7C4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6BD-76C3-4760-A3B1-B155687F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0D0D-8D8F-41C9-8CD9-CD86B734D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938160" y="-55440"/>
            <a:ext cx="7145280" cy="1152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714760" y="100008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ТЕМА: Решение многоуровн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786040" y="214308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</a:rPr>
              <a:t>ЦЕЛЬ: Провести обобщение пройден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28960" y="2611440"/>
            <a:ext cx="6215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   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. Познакомиться с Эйфелевой башней как примером развития технической и архитектурной  мысли начала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X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2. Повторить формулы, позволяющие рассчиты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а) массу и объём по известной плотности ве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б) силу тяжести, действующую на те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в) вес покоящегося те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г) давление твёрдого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3. Путём расширения условия задачи, развивать техническое мышление, развивать представление о физике как прикладной нау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. Научиться составлять задачи с  возможным расширением её усло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Edith_Piaf_-_Padam_Padam.mp3" descr=""/>
          <p:cNvPicPr/>
          <p:nvPr/>
        </p:nvPicPr>
        <p:blipFill>
          <a:blip r:embed="rId3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26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55440" y="171360"/>
            <a:ext cx="3681360" cy="6180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Июльская колонна.jpg"/>
          <p:cNvPicPr/>
          <p:nvPr/>
        </p:nvPicPr>
        <p:blipFill>
          <a:blip r:embed="rId2"/>
          <a:stretch/>
        </p:blipFill>
        <p:spPr>
          <a:xfrm>
            <a:off x="7500960" y="285840"/>
            <a:ext cx="1476360" cy="2055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башня.jpg"/>
          <p:cNvPicPr/>
          <p:nvPr/>
        </p:nvPicPr>
        <p:blipFill>
          <a:blip r:embed="rId3"/>
          <a:stretch/>
        </p:blipFill>
        <p:spPr>
          <a:xfrm>
            <a:off x="3643200" y="285840"/>
            <a:ext cx="14763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Лувр.jpg"/>
          <p:cNvPicPr/>
          <p:nvPr/>
        </p:nvPicPr>
        <p:blipFill>
          <a:blip r:embed="rId4"/>
          <a:stretch/>
        </p:blipFill>
        <p:spPr>
          <a:xfrm>
            <a:off x="5643720" y="21420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Нотр Дам.jpg"/>
          <p:cNvPicPr/>
          <p:nvPr/>
        </p:nvPicPr>
        <p:blipFill>
          <a:blip r:embed="rId5"/>
          <a:stretch/>
        </p:blipFill>
        <p:spPr>
          <a:xfrm>
            <a:off x="5786280" y="3357720"/>
            <a:ext cx="1452600" cy="1369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Пантеон.jpg"/>
          <p:cNvPicPr/>
          <p:nvPr/>
        </p:nvPicPr>
        <p:blipFill>
          <a:blip r:embed="rId6"/>
          <a:stretch/>
        </p:blipFill>
        <p:spPr>
          <a:xfrm>
            <a:off x="7572240" y="2786040"/>
            <a:ext cx="1357560" cy="2087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Сакре Кёр.jpg"/>
          <p:cNvPicPr/>
          <p:nvPr/>
        </p:nvPicPr>
        <p:blipFill>
          <a:blip r:embed="rId7"/>
          <a:stretch/>
        </p:blipFill>
        <p:spPr>
          <a:xfrm>
            <a:off x="3929040" y="4572000"/>
            <a:ext cx="1467000" cy="1895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Сорбона.jpg"/>
          <p:cNvPicPr/>
          <p:nvPr/>
        </p:nvPicPr>
        <p:blipFill>
          <a:blip r:embed="rId8"/>
          <a:stretch/>
        </p:blipFill>
        <p:spPr>
          <a:xfrm>
            <a:off x="6929280" y="5286240"/>
            <a:ext cx="2040120" cy="132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media4.picsearch.com/is?7YIfnPodUqf6n8Q2Bq_pnh52r3TCmBNKv0KAfqYcoiI"/>
          <p:cNvPicPr/>
          <p:nvPr/>
        </p:nvPicPr>
        <p:blipFill>
          <a:blip r:embed="rId9"/>
          <a:stretch/>
        </p:blipFill>
        <p:spPr>
          <a:xfrm>
            <a:off x="3714840" y="2786040"/>
            <a:ext cx="1790640" cy="134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media3.picsearch.com/is?Zj1WlS4FqUB90HhH6w5jdEeL1JFyQhX4mhE7vYU4bf8"/>
          <p:cNvPicPr/>
          <p:nvPr/>
        </p:nvPicPr>
        <p:blipFill>
          <a:blip r:embed="rId10"/>
          <a:stretch/>
        </p:blipFill>
        <p:spPr>
          <a:xfrm>
            <a:off x="5643720" y="2071800"/>
            <a:ext cx="1612800" cy="107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:\док-ты\Мои рисунки\Мода.jpg"/>
          <p:cNvPicPr/>
          <p:nvPr/>
        </p:nvPicPr>
        <p:blipFill>
          <a:blip r:embed="rId11"/>
          <a:stretch/>
        </p:blipFill>
        <p:spPr>
          <a:xfrm>
            <a:off x="5643720" y="4929120"/>
            <a:ext cx="10792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2" descr=""/>
          <p:cNvPicPr/>
          <p:nvPr/>
        </p:nvPicPr>
        <p:blipFill>
          <a:blip r:embed="rId2"/>
          <a:stretch/>
        </p:blipFill>
        <p:spPr>
          <a:xfrm>
            <a:off x="285840" y="133200"/>
            <a:ext cx="8407440" cy="957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42920" y="1285920"/>
            <a:ext cx="40003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йфелева баш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ыла построена в 1889 году к Всемирной выставке . Тогда это было самое высокое сооружение в мире, высотою 300 метров. И с тех пор Эйфелева башня стала символом Парижа во всем мире. Это стальное построение игнорировало все традиционные правила в архитектуре того врем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5072040" y="1285920"/>
            <a:ext cx="40719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сего было использован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c090"/>
                </a:solidFill>
                <a:latin typeface="Calibri"/>
              </a:rPr>
              <a:t>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т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кол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936000 м</a:t>
            </a:r>
            <a:r>
              <a:rPr b="1" lang="ru-RU" sz="24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з них около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60000 м</a:t>
            </a:r>
            <a:r>
              <a:rPr b="1" lang="ru-RU" sz="2400" spc="-1" strike="noStrike" baseline="30000">
                <a:solidFill>
                  <a:srgbClr val="ffffff"/>
                </a:solidFill>
                <a:latin typeface="Calibri"/>
              </a:rPr>
              <a:t>3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пришлось на заклепки,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башне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2,5 милл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 уровне земли опоры башни образовывают квадрат со  стороной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104 м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ашня сто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              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а 4 опорах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лощадь каждой опо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205 м</a:t>
            </a:r>
            <a:r>
              <a:rPr b="1" lang="ru-RU" sz="24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Копия (3) tozmain.jpg"/>
          <p:cNvPicPr/>
          <p:nvPr/>
        </p:nvPicPr>
        <p:blipFill>
          <a:blip r:embed="rId1"/>
          <a:stretch/>
        </p:blipFill>
        <p:spPr>
          <a:xfrm>
            <a:off x="3143160" y="857160"/>
            <a:ext cx="2772000" cy="2229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Копия (2) tozmain.jpg"/>
          <p:cNvPicPr/>
          <p:nvPr/>
        </p:nvPicPr>
        <p:blipFill>
          <a:blip r:embed="rId2"/>
          <a:stretch/>
        </p:blipFill>
        <p:spPr>
          <a:xfrm>
            <a:off x="3143160" y="4500720"/>
            <a:ext cx="277200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tozmain.jpg"/>
          <p:cNvPicPr/>
          <p:nvPr/>
        </p:nvPicPr>
        <p:blipFill>
          <a:blip r:embed="rId3"/>
          <a:stretch/>
        </p:blipFill>
        <p:spPr>
          <a:xfrm>
            <a:off x="3143160" y="3000240"/>
            <a:ext cx="2772000" cy="15433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Копия (4) tozmain.jpg"/>
          <p:cNvPicPr/>
          <p:nvPr/>
        </p:nvPicPr>
        <p:blipFill>
          <a:blip r:embed="rId4"/>
          <a:stretch/>
        </p:blipFill>
        <p:spPr>
          <a:xfrm>
            <a:off x="3143160" y="5500800"/>
            <a:ext cx="2772000" cy="11239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5"/>
          <a:stretch/>
        </p:blipFill>
        <p:spPr>
          <a:xfrm>
            <a:off x="1468440" y="-6480"/>
            <a:ext cx="6310440" cy="901800"/>
          </a:xfrm>
          <a:prstGeom prst="rect">
            <a:avLst/>
          </a:prstGeom>
          <a:ln w="0">
            <a:noFill/>
          </a:ln>
        </p:spPr>
      </p:pic>
      <p:pic>
        <p:nvPicPr>
          <p:cNvPr id="65" name="Edith_Piaf_-_Enfin_le_Printemps.mp3" descr=""/>
          <p:cNvPicPr/>
          <p:nvPr/>
        </p:nvPicPr>
        <p:blipFill>
          <a:blip r:embed="rId6"/>
          <a:stretch/>
        </p:blipFill>
        <p:spPr>
          <a:xfrm>
            <a:off x="500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84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2" descr=""/>
          <p:cNvPicPr/>
          <p:nvPr/>
        </p:nvPicPr>
        <p:blipFill>
          <a:blip r:embed="rId1"/>
          <a:stretch/>
        </p:blipFill>
        <p:spPr>
          <a:xfrm>
            <a:off x="2541600" y="176040"/>
            <a:ext cx="3944880" cy="1135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928800" y="114300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Опираясь на решённую задачу и зная, что башня сделана не из сплошных балок, придумайте её продолжение и решите её, особенное внимание обратите на необходимость изменения площади о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143000" y="4857840"/>
            <a:ext cx="6500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2400" spc="-1" strike="noStrike">
                <a:solidFill>
                  <a:srgbClr val="604a7b"/>
                </a:solidFill>
                <a:latin typeface="Calibri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403152"/>
                </a:solidFill>
                <a:latin typeface="Arial"/>
              </a:rPr>
              <a:t>Опираясь на задачу, решённую на уроке, составить дома многоуровневую задачу, используя полученные на уроках физики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993600" y="12600"/>
            <a:ext cx="7412040" cy="308448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1071720" y="3143160"/>
            <a:ext cx="75722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дивился: так вот зачем нужна физика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1785960" y="4429080"/>
            <a:ext cx="5643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ешь! Ничего нового не узнал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1143000" y="5500800"/>
            <a:ext cx="6715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знал много интересного</a:t>
            </a:r>
            <a:endParaRPr b="1" i="1" lang="en-US" sz="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38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38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573120"/>
            <a:ext cx="8008920" cy="146844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642960" y="2214720"/>
            <a:ext cx="742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АЗЕТА</a:t>
            </a: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«Физика» -издательство «Первое сентябр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                  №№ 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21,22 ,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ЙТ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ww.home-edu.ru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en-US" sz="2400" spc="-1" strike="noStrike" u="sng">
                <a:solidFill>
                  <a:srgbClr val="1f497d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ЙТ    </a:t>
            </a:r>
            <a:r>
              <a:rPr b="1" lang="en-US" sz="2400" spc="-1" strike="noStrike" u="sng">
                <a:solidFill>
                  <a:srgbClr val="1f497d"/>
                </a:solidFill>
                <a:uFillTx/>
                <a:latin typeface="Arial"/>
              </a:rPr>
              <a:t> festival.1september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ЙТ    </a:t>
            </a:r>
            <a:r>
              <a:rPr b="1" lang="en-US" sz="2400" spc="-1" strike="noStrike">
                <a:solidFill>
                  <a:srgbClr val="7c8901"/>
                </a:solidFill>
                <a:latin typeface="Arial"/>
              </a:rPr>
              <a:t>www.nova.rambler.ru/pictur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ЙТ</a:t>
            </a:r>
            <a:r>
              <a:rPr b="1" lang="ru-RU" sz="2400" spc="-1" strike="noStrike">
                <a:solidFill>
                  <a:srgbClr val="7c890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http://edith-piaf.narod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928800" y="500040"/>
            <a:ext cx="7858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Calibri"/>
              </a:rPr>
              <a:t>      </a:t>
            </a:r>
            <a:r>
              <a:rPr b="1" i="1" lang="ru-RU" sz="4000" spc="-1" strike="noStrike">
                <a:solidFill>
                  <a:srgbClr val="cc6600"/>
                </a:solidFill>
                <a:latin typeface="Calibri"/>
              </a:rPr>
              <a:t>Информация об авторе:</a:t>
            </a:r>
            <a:br>
              <a:rPr sz="4000"/>
            </a:br>
            <a:br>
              <a:rPr sz="2800"/>
            </a:br>
            <a:r>
              <a:rPr b="1" i="1" lang="ru-RU" sz="2800" spc="-1" strike="noStrike">
                <a:solidFill>
                  <a:srgbClr val="ff9933"/>
                </a:solidFill>
                <a:latin typeface="Calibri"/>
              </a:rPr>
              <a:t>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убцова Елена Григорьевна,</a:t>
            </a:r>
            <a:br>
              <a:rPr sz="2400"/>
            </a:br>
            <a:br>
              <a:rPr sz="2400"/>
            </a:b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i="1" lang="ru-RU" sz="2400" spc="-1" strike="noStrike">
                <a:solidFill>
                  <a:srgbClr val="604a7b"/>
                </a:solidFill>
                <a:latin typeface="Calibri"/>
              </a:rPr>
              <a:t>учитель физики МОУ СОШ № 9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604a7b"/>
                </a:solidFill>
                <a:latin typeface="Calibri"/>
              </a:rPr>
              <a:t>                            стаж работы: 25 лет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604a7b"/>
                </a:solidFill>
                <a:latin typeface="Calibri"/>
              </a:rPr>
              <a:t>           адрес: г Павловский Посад Московской области</a:t>
            </a:r>
            <a:br>
              <a:rPr sz="2400"/>
            </a:br>
            <a:r>
              <a:rPr b="1" i="1" lang="ru-RU" sz="2400" spc="-1" strike="noStrike">
                <a:solidFill>
                  <a:srgbClr val="604a7b"/>
                </a:solidFill>
                <a:latin typeface="Calibri"/>
              </a:rPr>
              <a:t>                                 ул. Кузьмина д. 53</a:t>
            </a:r>
            <a:br>
              <a:rPr sz="2400"/>
            </a:br>
            <a:r>
              <a:rPr b="1" i="1" lang="ru-RU" sz="2400" spc="-1" strike="noStrike">
                <a:solidFill>
                  <a:srgbClr val="604a7b"/>
                </a:solidFill>
                <a:latin typeface="Calibri"/>
              </a:rPr>
              <a:t>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6:55:04Z</dcterms:created>
  <dc:creator>Марина</dc:creator>
  <dc:description/>
  <dc:language>en-US</dc:language>
  <cp:lastModifiedBy>Admin</cp:lastModifiedBy>
  <dcterms:modified xsi:type="dcterms:W3CDTF">2011-12-05T13:44:32Z</dcterms:modified>
  <cp:revision>49</cp:revision>
  <dc:subject/>
  <dc:title>Слайд 1</dc:title>
</cp:coreProperties>
</file>