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81D-A020-41E5-9947-9B99B7FB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A7A-1557-4D40-81BB-7909B825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E4B-1238-4834-BB24-525E5954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C09-3E81-43D4-9A14-986B6D76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F01E-0FC7-4B6A-BB4C-76721610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8104-C239-451A-9AE8-5D13B9B7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6072-6DD6-49F7-A5AB-A0694A3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8B94-4E25-43E4-93EC-684E4EB5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BBE7-D023-4620-8B10-E6B1C3C7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DBE7-2883-4167-8D5E-B0DC75B1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C9FA-6299-4611-BC2A-8639ED27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B9E-4DDD-4B4A-BEB3-E79647DA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15F2-9EDF-4679-A8D1-DD8F115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E998-24A9-421F-86C8-B3AC5B39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4E69-E4D5-47F6-8639-7E1D0D54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FE4E-222F-47BB-B3C4-A7177F48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D743-CD3E-475D-B29C-A17776CC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12A-B817-44DD-A7C4-AA583E66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E52-3780-434A-B0CA-76C29442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A8B-C7F5-48BE-85C0-15BBDEAA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64A-B805-4C46-B672-17474517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160-AFAA-4224-BFC1-2A7905F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85E-5ED0-4A5D-8563-CB8CDC1B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F8D-47B6-46B6-AF75-EF4D4D4E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E2CA-BF5A-4D39-84FD-A6C010B7CC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0D27-0609-47D2-B934-DE358879A6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Глобальные проблемы мира.</a:t>
            </a:r>
            <a:br>
              <a:rPr sz="5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Экологическая проблема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128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дготовила ученица 11 класс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БОУ « Мултановская СОШ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ельмухамбетова Регина 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ичины появления экологической проблемы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63640" y="1267920"/>
            <a:ext cx="532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бую  остроту  для   людей приобретает   пробле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семестного распространения в окружающей среде производств и продукций,  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ую очередь, радиационных и токсичных видов. В  год  на  каждого  жител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и приходится более 20 тонн промышленных и других  отходов.  В  атмосфер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падает более 200 миллионов тонн окисей серы  и  азота  и  миллионы  тон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лекислого газ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8" descr="musor1"/>
          <p:cNvPicPr/>
          <p:nvPr/>
        </p:nvPicPr>
        <p:blipFill>
          <a:blip r:embed="rId1"/>
          <a:stretch/>
        </p:blipFill>
        <p:spPr>
          <a:xfrm>
            <a:off x="428760" y="1785960"/>
            <a:ext cx="3227400" cy="3483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89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уже в обозримом  будущ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ет вызвать повышение температуры атмосферы, а вслед за  этим,   повыш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вня морей и затопление значительных участков  суши.  В  результате  сот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ллионов людей рискуют превратиться в «экологических беженцев».      Глобальные проблемы современности и, прежде всего,  резкое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стр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логической проблемы, поставило перед человечеством  задачу  поиска  новы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тей развития, перестройки своих отношений с окружающей сред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4fd78de5770d21eca1dcc5b3df10b13f"/>
          <p:cNvPicPr/>
          <p:nvPr/>
        </p:nvPicPr>
        <p:blipFill>
          <a:blip r:embed="rId1"/>
          <a:srcRect l="0" t="0" r="4332" b="0"/>
          <a:stretch/>
        </p:blipFill>
        <p:spPr>
          <a:xfrm>
            <a:off x="5429160" y="1571760"/>
            <a:ext cx="3581640" cy="3857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ути решения экологической проблемы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521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ществует некий набор общих подходов к решению проблем окружающей сре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ы улучшения качества окружающей среды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Технологическ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разработка новых технолог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очистные соору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замена топ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электрификация производства, быта, транспор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02"/>
          <p:cNvPicPr/>
          <p:nvPr/>
        </p:nvPicPr>
        <p:blipFill>
          <a:blip r:embed="rId1"/>
          <a:stretch/>
        </p:blipFill>
        <p:spPr>
          <a:xfrm>
            <a:off x="357120" y="1785960"/>
            <a:ext cx="3457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540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Архитектурно-Планировочные мероприят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зонирование территории населенного пун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озеленение населенных ме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организация санитарно-защитных зон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Экономическ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Правов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создание законодательных актов по поддержанию качества окружающей сред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Инженерно-организацион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уменьшение стоянок автомобилей у светоф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снижение интенсивности движения транспорта на перегруженных автомагистрал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8702043"/>
          <p:cNvPicPr/>
          <p:nvPr/>
        </p:nvPicPr>
        <p:blipFill>
          <a:blip r:embed="rId1"/>
          <a:stretch/>
        </p:blipFill>
        <p:spPr>
          <a:xfrm>
            <a:off x="5580000" y="1125360"/>
            <a:ext cx="338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419640" y="259920"/>
            <a:ext cx="547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е этого, за последнее столетие человечество разработало ряд оригинальны способов борьбы с экологическими проблемами. К числу таких способов можно отнести возникновение и деятельность разного рода “зеленых” движений и организаций. Кроме “Green Peace^a”, отличающегося размахом своей деятельности, существуют аналогичные организации непосредственно проводящие природоохранные акции. Также есть другой тип экологических организаций: структуры, которые стимулируют и спонсируют природоохранную деятельность(Фонд дикой природ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6" descr="title"/>
          <p:cNvPicPr/>
          <p:nvPr/>
        </p:nvPicPr>
        <p:blipFill>
          <a:blip r:embed="rId1"/>
          <a:stretch/>
        </p:blipFill>
        <p:spPr>
          <a:xfrm>
            <a:off x="250920" y="3552840"/>
            <a:ext cx="3313080" cy="282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vlad_map1"/>
          <p:cNvPicPr/>
          <p:nvPr/>
        </p:nvPicPr>
        <p:blipFill>
          <a:blip r:embed="rId2"/>
          <a:stretch/>
        </p:blipFill>
        <p:spPr>
          <a:xfrm>
            <a:off x="395280" y="18900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348000" y="333360"/>
            <a:ext cx="5796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е разного рода объединений в сфере решения экологических проблем, существует целый ряд государственных или общественных природоохранных инициатив: природоохранное законодательство в России и других странах мира, различные международные соглашения или система “Красных книг”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исле важнейших путей решения экологических проблем большинство исследователей также выделяет внедрение экологически чистых, мало- и безотходных технологий, строительство очистных сооружений, рациональное размещение производства и использование природных ресур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0005037"/>
          <p:cNvPicPr/>
          <p:nvPr/>
        </p:nvPicPr>
        <p:blipFill>
          <a:blip r:embed="rId1"/>
          <a:stretch/>
        </p:blipFill>
        <p:spPr>
          <a:xfrm>
            <a:off x="179280" y="1125360"/>
            <a:ext cx="3384720" cy="4826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пасибо за внимание!!!!!!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6:04:59Z</dcterms:created>
  <dc:creator>Пользователь</dc:creator>
  <dc:description/>
  <dc:language>en-US</dc:language>
  <cp:lastModifiedBy>дом</cp:lastModifiedBy>
  <dcterms:modified xsi:type="dcterms:W3CDTF">2004-12-31T22:48:33Z</dcterms:modified>
  <cp:revision>24</cp:revision>
  <dc:subject/>
  <dc:title>Экологические проблемы человечества</dc:title>
</cp:coreProperties>
</file>