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0B48-DA0B-4945-BB82-63116FB79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22B1-984A-483A-A389-B419053D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7640-F265-4B85-9C56-906EA39D9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4622-0FD1-4EDF-977A-C99F1C1C4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D828-F4E0-49E8-99A3-94671F013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EC81-BC36-4D17-8B40-5CE091DD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47A8-4EC0-4AA7-8376-1D505882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4709-F60B-4375-AF64-65BD25D0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E1AF-DFA5-4E34-B0AF-B92416DE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9BCA-426A-496B-A582-01456812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8AB1-6B4B-4C33-A7F1-EB16976B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9C47-E69E-4342-AFC1-44A6C200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6088D-1188-40CD-BC76-77093873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B14B-FFDA-48AE-A1AE-D9740DA8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E394-65F3-45BF-95AC-AB22C90B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3C6B-5201-4937-9124-44467ACEA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FE80-83FA-4CEE-8452-A796286A8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73296-B571-44B4-86EC-E44C3AB87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D76B8-1535-4339-BB2B-763A1C14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649C8-64E2-48E5-ABAA-15D9E5CE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B8FA4-44C7-4454-A29C-D8EC82AC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6C38B-6937-4CCA-A7FC-4DA3D848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622F-5F9E-4BDD-A3D7-AE816F60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AC7E5-EE67-4AEC-97E4-543457AE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6C96B-27F2-4960-8F3B-884312B7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D533F-0600-40B3-83DD-A3EE2D2F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D949E-97DC-4DF4-9F65-B80951FD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3F191-CC8D-4F56-A26C-C4491E47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DB5E8-3B18-4E55-B0A0-4B002A7A6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3B2B3-44A3-496D-A015-E62F06031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20288-6A0A-4234-A7E0-485AC9C13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E311C-F29C-4CF7-B803-A8DD5153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2A1AB-56E1-42EA-A6DD-8081EF5B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6ED9-D2BA-42B2-8460-89127FF2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8C020-54BC-4B18-B9AB-3C29F8F1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6F41A-A6A8-471D-8CAD-6AF1E86F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46E6A-74BF-4B4C-9D79-FB093F10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6167B-CC84-4133-85FD-336500BA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6B60C-3621-492C-8774-95DFBB50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7F268-DDC8-4182-AD05-C5F5EE6F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B6FEB-FC99-4821-AED0-D1D45723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AAEF9-8C84-48B5-BDAA-E32A971C7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430ED-C23A-460B-B5F3-26BB502D2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53FA-E38F-4D7F-856C-8CE6D1D0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513A-FF16-4708-9755-A2617420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87A3-627D-4079-904A-17B3C2A1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3C64-6B50-41C5-94FE-52968B78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90AF-6727-4B54-8DB6-846A2826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3684-41C1-4195-B8C7-76084280E37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31FF-6591-460D-9B59-2F35D0B48E8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EFCA-74B7-4C1D-824F-28C77CC2933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B428-9AD8-4217-92B8-30565784922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70680" cy="2414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4357440"/>
            <a:ext cx="7854840" cy="18572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Федоренко Максим 8 класс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мурская област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0" name="Picture 2" descr="C:\Users\user\Desktop\герба дальнего востока\Амурская область\feb5c2ca45a4.jpg"/>
          <p:cNvPicPr/>
          <p:nvPr/>
        </p:nvPicPr>
        <p:blipFill>
          <a:blip r:embed="rId1"/>
          <a:stretch/>
        </p:blipFill>
        <p:spPr>
          <a:xfrm>
            <a:off x="457200" y="2077920"/>
            <a:ext cx="4038480" cy="41198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C:\Users\user\Desktop\герба дальнего востока\Амурская область\Благовещенск\Coat_of_Arms_of_Blagoveschenskii_rayon_(Amur_oblast).gif"/>
          <p:cNvPicPr/>
          <p:nvPr/>
        </p:nvPicPr>
        <p:blipFill>
          <a:blip r:embed="rId2"/>
          <a:stretch/>
        </p:blipFill>
        <p:spPr>
          <a:xfrm>
            <a:off x="4714920" y="2071800"/>
            <a:ext cx="42148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Еврейская автономная область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Picture 2" descr="C:\Users\user\Desktop\герба дальнего востока\Еврейская Автономная область\06s1740.jpg"/>
          <p:cNvPicPr/>
          <p:nvPr/>
        </p:nvPicPr>
        <p:blipFill>
          <a:blip r:embed="rId1"/>
          <a:stretch/>
        </p:blipFill>
        <p:spPr>
          <a:xfrm>
            <a:off x="581040" y="1995480"/>
            <a:ext cx="3790800" cy="4286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C:\Users\user\Desktop\герба дальнего востока\Еврейская Автономная область\Биробиджан\g.JPG"/>
          <p:cNvPicPr/>
          <p:nvPr/>
        </p:nvPicPr>
        <p:blipFill>
          <a:blip r:embed="rId2"/>
          <a:stretch/>
        </p:blipFill>
        <p:spPr>
          <a:xfrm>
            <a:off x="5005440" y="1995480"/>
            <a:ext cx="33242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ывод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42640" indent="-2426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ербы городов России можно разделить на две категории, о которых я рассказал выш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ною определены правила составления гербо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ведено исследование геральдики Дальнего Восто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ербы субъектов федерации и их столиц отражают основные страницы истории и становления экономики региона, хотя герб субъекта и столицы несут в себе черты индивидуальност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Цель: Провести исследование геральдики  Дальнего Востока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дачи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знакомиться с историей  геральдики  Росси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еделить основные правила составления герб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кцентировать внимание на геральдике своего региона, т.е Дальнего Восто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равнить гербы субъектов федерации и их столиц, определить особенности экономики, отраженные на герба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авила составления герб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орма герба должна повторять форму средневекового щита. Гербы всех российских губерний, областей, городов (в том числе и Москвы) расположены на французских щита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ербы принято раскрашивать только определенными красками. Каждый цвет имеет свою символик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Щит бывает разделен на несколько частей, каждая из которых называется поле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каждом поле может находиться только один символ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аждый символ,  изображенный на гербе, имеет свое смысловое значени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ак правило все фигура на гербе смотрят вправ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укотский автономный округ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Picture 2" descr="C:\Users\user\Desktop\герба дальнего востока\Чукотский А.О\a541f90760977439b9f5d26d539c8ebb.jpg"/>
          <p:cNvPicPr/>
          <p:nvPr/>
        </p:nvPicPr>
        <p:blipFill>
          <a:blip r:embed="rId1"/>
          <a:stretch/>
        </p:blipFill>
        <p:spPr>
          <a:xfrm>
            <a:off x="142920" y="1928880"/>
            <a:ext cx="4357800" cy="4714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C:\Users\user\Desktop\герба дальнего востока\Чукотский А.О\Анадырь\anad_gerb.jpg"/>
          <p:cNvPicPr/>
          <p:nvPr/>
        </p:nvPicPr>
        <p:blipFill>
          <a:blip r:embed="rId2"/>
          <a:stretch/>
        </p:blipFill>
        <p:spPr>
          <a:xfrm>
            <a:off x="4648320" y="2000160"/>
            <a:ext cx="449568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Камчатский край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2" descr="C:\Users\user\Desktop\герба дальнего востока\Камчатский Край\gerb.jpg"/>
          <p:cNvPicPr/>
          <p:nvPr/>
        </p:nvPicPr>
        <p:blipFill>
          <a:blip r:embed="rId1"/>
          <a:stretch/>
        </p:blipFill>
        <p:spPr>
          <a:xfrm>
            <a:off x="598320" y="1928880"/>
            <a:ext cx="3756240" cy="4500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C:\Users\user\Desktop\герба дальнего востока\Камчатский Край\Петропавловск - камчатский\1192_1.jpg"/>
          <p:cNvPicPr/>
          <p:nvPr/>
        </p:nvPicPr>
        <p:blipFill>
          <a:blip r:embed="rId2"/>
          <a:stretch/>
        </p:blipFill>
        <p:spPr>
          <a:xfrm>
            <a:off x="4648320" y="1928880"/>
            <a:ext cx="40384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агаданская област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Picture 2" descr="C:\Users\user\Desktop\герба дальнего востока\Магаданская обл\magadan-oblast-arms.jpg"/>
          <p:cNvPicPr/>
          <p:nvPr/>
        </p:nvPicPr>
        <p:blipFill>
          <a:blip r:embed="rId1"/>
          <a:stretch/>
        </p:blipFill>
        <p:spPr>
          <a:xfrm>
            <a:off x="500040" y="1928880"/>
            <a:ext cx="4286160" cy="4429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C:\Users\user\Desktop\герба дальнего востока\Магаданская обл\Магадан\478px-COA_Magadan,_Russian_Federation.svg.png"/>
          <p:cNvPicPr/>
          <p:nvPr/>
        </p:nvPicPr>
        <p:blipFill>
          <a:blip r:embed="rId2"/>
          <a:stretch/>
        </p:blipFill>
        <p:spPr>
          <a:xfrm>
            <a:off x="4898880" y="1920960"/>
            <a:ext cx="353700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99680" y="7045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ахалинская област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Picture 2" descr="C:\Users\user\Desktop\герба дальнего востока\Сахалинская обл\gerb_sah.gif"/>
          <p:cNvPicPr/>
          <p:nvPr/>
        </p:nvPicPr>
        <p:blipFill>
          <a:blip r:embed="rId1"/>
          <a:stretch/>
        </p:blipFill>
        <p:spPr>
          <a:xfrm>
            <a:off x="584280" y="1785960"/>
            <a:ext cx="3784680" cy="4568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C:\Users\user\Desktop\герба дальнего востока\Сахалинская обл\Южно Сахалинск\gerb31_big.jpg"/>
          <p:cNvPicPr/>
          <p:nvPr/>
        </p:nvPicPr>
        <p:blipFill>
          <a:blip r:embed="rId2"/>
          <a:stretch/>
        </p:blipFill>
        <p:spPr>
          <a:xfrm>
            <a:off x="4773600" y="1920960"/>
            <a:ext cx="378792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Хабаровский край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4" name="Picture 2" descr="C:\Users\user\Desktop\герба дальнего востока\Хабаровский край\khabkray.gif"/>
          <p:cNvPicPr/>
          <p:nvPr/>
        </p:nvPicPr>
        <p:blipFill>
          <a:blip r:embed="rId1"/>
          <a:stretch/>
        </p:blipFill>
        <p:spPr>
          <a:xfrm>
            <a:off x="571680" y="2000160"/>
            <a:ext cx="3929040" cy="4500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C:\Users\user\Desktop\герба дальнего востока\Хабаровский край\Хабаровск\khv.jpg"/>
          <p:cNvPicPr/>
          <p:nvPr/>
        </p:nvPicPr>
        <p:blipFill>
          <a:blip r:embed="rId2"/>
          <a:stretch/>
        </p:blipFill>
        <p:spPr>
          <a:xfrm>
            <a:off x="4959360" y="2000160"/>
            <a:ext cx="361332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иморский край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Picture 2" descr="C:\Users\user\Desktop\герба дальнего востока\Приморский край\rus-ad2-pm.gif"/>
          <p:cNvPicPr/>
          <p:nvPr/>
        </p:nvPicPr>
        <p:blipFill>
          <a:blip r:embed="rId1"/>
          <a:stretch/>
        </p:blipFill>
        <p:spPr>
          <a:xfrm>
            <a:off x="752400" y="2233440"/>
            <a:ext cx="3448080" cy="38102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C:\Users\user\Desktop\герба дальнего востока\Приморский край\Владивосток\s1399484.jpg"/>
          <p:cNvPicPr/>
          <p:nvPr/>
        </p:nvPicPr>
        <p:blipFill>
          <a:blip r:embed="rId2"/>
          <a:stretch/>
        </p:blipFill>
        <p:spPr>
          <a:xfrm>
            <a:off x="4921200" y="1920960"/>
            <a:ext cx="349272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07:07:49Z</dcterms:created>
  <dc:creator>user</dc:creator>
  <dc:description/>
  <dc:language>en-US</dc:language>
  <cp:lastModifiedBy>Admin</cp:lastModifiedBy>
  <dcterms:modified xsi:type="dcterms:W3CDTF">2013-05-07T00:31:07Z</dcterms:modified>
  <cp:revision>9</cp:revision>
  <dc:subject/>
  <dc:title>Геральдика Дальнего Востока</dc:title>
</cp:coreProperties>
</file>