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32.jpeg" ContentType="image/jpeg"/>
  <Override PartName="/ppt/media/image13.jpeg" ContentType="image/jpeg"/>
  <Override PartName="/ppt/media/image33.png" ContentType="image/png"/>
  <Override PartName="/ppt/media/image30.gif" ContentType="image/gif"/>
  <Override PartName="/ppt/media/image14.jpeg" ContentType="image/jpeg"/>
  <Override PartName="/ppt/media/image24.jpeg" ContentType="image/jpeg"/>
  <Override PartName="/ppt/media/image37.png" ContentType="image/png"/>
  <Override PartName="/ppt/media/image34.jpeg" ContentType="image/jpeg"/>
  <Override PartName="/ppt/media/image15.gif" ContentType="image/gif"/>
  <Override PartName="/ppt/media/image28.jpeg" ContentType="image/jpeg"/>
  <Override PartName="/ppt/media/image36.png" ContentType="image/png"/>
  <Override PartName="/ppt/media/image5.gif" ContentType="image/gif"/>
  <Override PartName="/ppt/media/image7.jpeg" ContentType="image/jpeg"/>
  <Override PartName="/ppt/media/image38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3.gif" ContentType="image/gif"/>
  <Override PartName="/ppt/media/image2.png" ContentType="image/png"/>
  <Override PartName="/ppt/media/image25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9A4-F2AF-44FA-ACF2-AFD0B27D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60A-1295-4941-9C6F-2B914E6B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55A-5179-4E31-83FB-5849077C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7EF-13B6-4608-9E27-6DAB22B2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18C-2C00-4C1E-996C-FD844E87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7FA-0A8D-4EA8-AEEF-1A2F8191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F0B-87EB-4317-9B32-96C72DAB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110-1FC6-4214-AEB9-70090EDA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FE5-CCC6-4880-B9B1-1B69139D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2AB-A514-4314-92A9-AF5701E6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7D4-60A6-4EF3-838B-0F32A16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859-AA10-4198-8FEE-D954E02C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99B0-1439-4E16-AA02-BEA4233BC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spim.ru/i/tolk/katanie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img.ria.ua/photos/ria/news_common/14/1418/141842/141842m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foto.rambler.ru/public/k/s/ksdemon/_photos/10/1-web.jpe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stat15.privet.ru/lr/0907e40dbd61a9529765ee634045c148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1.xml"/><Relationship Id="rId3" Type="http://schemas.openxmlformats.org/officeDocument/2006/relationships/slide" Target="slide21.xml"/><Relationship Id="rId4" Type="http://schemas.openxmlformats.org/officeDocument/2006/relationships/slide" Target="slide29.xml"/><Relationship Id="rId5" Type="http://schemas.openxmlformats.org/officeDocument/2006/relationships/slide" Target="slide19.xml"/><Relationship Id="rId6" Type="http://schemas.openxmlformats.org/officeDocument/2006/relationships/slide" Target="slide33.xml"/><Relationship Id="rId7" Type="http://schemas.openxmlformats.org/officeDocument/2006/relationships/slide" Target="slide5.xml"/><Relationship Id="rId8" Type="http://schemas.openxmlformats.org/officeDocument/2006/relationships/slide" Target="slide23.xml"/><Relationship Id="rId9" Type="http://schemas.openxmlformats.org/officeDocument/2006/relationships/slide" Target="slide17.xml"/><Relationship Id="rId10" Type="http://schemas.openxmlformats.org/officeDocument/2006/relationships/slide" Target="slide35.xml"/><Relationship Id="rId11" Type="http://schemas.openxmlformats.org/officeDocument/2006/relationships/slide" Target="slide37.xml"/><Relationship Id="rId12" Type="http://schemas.openxmlformats.org/officeDocument/2006/relationships/slide" Target="slide7.xml"/><Relationship Id="rId13" Type="http://schemas.openxmlformats.org/officeDocument/2006/relationships/slide" Target="slide39.xml"/><Relationship Id="rId14" Type="http://schemas.openxmlformats.org/officeDocument/2006/relationships/slide" Target="slide41.xml"/><Relationship Id="rId15" Type="http://schemas.openxmlformats.org/officeDocument/2006/relationships/slide" Target="slide43.xml"/><Relationship Id="rId16" Type="http://schemas.openxmlformats.org/officeDocument/2006/relationships/slide" Target="slide15.xml"/><Relationship Id="rId17" Type="http://schemas.openxmlformats.org/officeDocument/2006/relationships/slide" Target="slide25.xml"/><Relationship Id="rId18" Type="http://schemas.openxmlformats.org/officeDocument/2006/relationships/slide" Target="slide9.xml"/><Relationship Id="rId19" Type="http://schemas.openxmlformats.org/officeDocument/2006/relationships/slide" Target="slide45.xml"/><Relationship Id="rId20" Type="http://schemas.openxmlformats.org/officeDocument/2006/relationships/slide" Target="slide13.xml"/><Relationship Id="rId21" Type="http://schemas.openxmlformats.org/officeDocument/2006/relationships/slide" Target="slide47.xml"/><Relationship Id="rId22" Type="http://schemas.openxmlformats.org/officeDocument/2006/relationships/slide" Target="slide27.xml"/><Relationship Id="rId23" Type="http://schemas.openxmlformats.org/officeDocument/2006/relationships/slide" Target="slide49.xml"/><Relationship Id="rId24" Type="http://schemas.openxmlformats.org/officeDocument/2006/relationships/slide" Target="slide11.xml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img-fotki.yandex.ru/get/3103/yzhak.0/0_23e1_150f1b76_X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hyperlink" Target="http://ezhe.ru/ib/images/1131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hyperlink" Target="http://img0.liveinternet.ru/images/attach/b/1/17966/17966547_8152361_oblaka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s57.radikal.ru/i157/0911/d5/ca166ab669f5.jpg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hyperlink" Target="http://1k.by/images/site/shopsproductsimages/56/s4/f/b/438888/i1d7f7d5b7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hyperlink" Target="http://s39.radikal.ru/i086/0812/31/c268394ad65e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a498.narod.ru/sblek14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hyperlink" Target="http://www.hotellink.ru/admin/hotel/pic_1084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hyperlink" Target="http://img-2007-05.photosight.ru/24/2106642.jp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i016.radikal.ru/0908/55/374871ad2131.jpg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27.png"/><Relationship Id="rId3" Type="http://schemas.openxmlformats.org/officeDocument/2006/relationships/hyperlink" Target="http://st.free-lance.ru/users/pavlick/upload/sm_f_486a47dbf1bae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hyperlink" Target="http://nonculture.files.wordpress.com/2008/07/lhc_hall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hyperlink" Target="http://www.terra-advertising.com/upload/tovars/ru/20081002035251_img.jpg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s53.radikal.ru/i141/0901/a4/8261cc52b311.gif" TargetMode="External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solnushki.ru/images/gtutor/00026/img11.png" TargetMode="Externa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hyperlink" Target="http://www.aif.ru/application/public/news/682/a808be50dee05052906a99020dc52c4b_big.jpg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photohost.ru/t/600/400/96260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080.radikal.ru/0912/b1/7beff99bde6c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foto.nakhodka.info/data/media/1/DSC06130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s51.radikal.ru/i134/0812/27/6eed65c48b08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54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нтеллектуальная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2852640"/>
            <a:ext cx="4465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«Разминка д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юных физик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f_zx4vb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3168720" cy="2281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648160" cy="1409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59280" y="5589720"/>
            <a:ext cx="561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ршова Ольга Викторовна, учитель физи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ОУ гимназии №9, Волгог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ьки скользят по льду, так как температура плавления льда снижается при увеличении внешнего давления; под давлением конькобежца лед подтаивает и коньки движутся по тонкой водяной пленке, которая служит смаз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774072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Картинка 11 из 39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4005360"/>
            <a:ext cx="2381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ша Черный. "Северная лирик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пнет в градуснике рту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лопнут скул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яжелей и гуще му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лод злей аку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Если считать, "что лопнет в градуснике ртуть" - поэтическое выражение факта замерзания ртути в термометре, то ответьте: какова была температура возду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81280" y="5896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9 градусов Цель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524720" y="5516640"/>
            <a:ext cx="503280" cy="649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49080"/>
              <a:gd name="textAreaBottom" fmla="*/ 616680 h 649080"/>
            </a:gdLst>
            <a:ahLst/>
            <a:rect l="textAreaLeft" t="textAreaTop" r="textAreaRight" b="textAreaBottom"/>
            <a:pathLst>
              <a:path w="21600" h="27853">
                <a:moveTo>
                  <a:pt x="0" y="0"/>
                </a:moveTo>
                <a:lnTo>
                  <a:pt x="21600" y="0"/>
                </a:lnTo>
                <a:lnTo>
                  <a:pt x="21600" y="27853"/>
                </a:lnTo>
                <a:lnTo>
                  <a:pt x="0" y="27853"/>
                </a:lnTo>
                <a:close/>
              </a:path>
              <a:path fill="lightenLess" w="21600" h="278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853">
                <a:moveTo>
                  <a:pt x="21600" y="0"/>
                </a:moveTo>
                <a:lnTo>
                  <a:pt x="21600" y="27853"/>
                </a:lnTo>
                <a:lnTo>
                  <a:pt x="20200" y="26453"/>
                </a:lnTo>
                <a:lnTo>
                  <a:pt x="20200" y="1400"/>
                </a:lnTo>
                <a:close/>
              </a:path>
              <a:path fill="darkenLess" w="21600" h="27853">
                <a:moveTo>
                  <a:pt x="21600" y="27853"/>
                </a:moveTo>
                <a:lnTo>
                  <a:pt x="0" y="27853"/>
                </a:lnTo>
                <a:lnTo>
                  <a:pt x="1400" y="26453"/>
                </a:lnTo>
                <a:lnTo>
                  <a:pt x="20200" y="26453"/>
                </a:lnTo>
                <a:close/>
              </a:path>
              <a:path fill="lighten" w="21600" h="27853">
                <a:moveTo>
                  <a:pt x="0" y="278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6453"/>
                </a:lnTo>
                <a:close/>
              </a:path>
              <a:path fill="darken" w="21600" h="27853">
                <a:moveTo>
                  <a:pt x="10800" y="6964"/>
                </a:moveTo>
                <a:lnTo>
                  <a:pt x="13376" y="9575"/>
                </a:lnTo>
                <a:lnTo>
                  <a:pt x="13376" y="7834"/>
                </a:lnTo>
                <a:lnTo>
                  <a:pt x="15152" y="7834"/>
                </a:lnTo>
                <a:lnTo>
                  <a:pt x="15152" y="11350"/>
                </a:lnTo>
                <a:lnTo>
                  <a:pt x="17763" y="13927"/>
                </a:lnTo>
                <a:lnTo>
                  <a:pt x="16109" y="13927"/>
                </a:lnTo>
                <a:lnTo>
                  <a:pt x="16109" y="21116"/>
                </a:lnTo>
                <a:lnTo>
                  <a:pt x="5491" y="21116"/>
                </a:lnTo>
                <a:lnTo>
                  <a:pt x="5491" y="13927"/>
                </a:lnTo>
                <a:lnTo>
                  <a:pt x="3837" y="13927"/>
                </a:lnTo>
                <a:close/>
              </a:path>
              <a:path fill="darkenLess" w="21600" h="27853">
                <a:moveTo>
                  <a:pt x="13376" y="9575"/>
                </a:moveTo>
                <a:lnTo>
                  <a:pt x="13376" y="7834"/>
                </a:lnTo>
                <a:lnTo>
                  <a:pt x="15152" y="7834"/>
                </a:lnTo>
                <a:lnTo>
                  <a:pt x="15152" y="11350"/>
                </a:lnTo>
                <a:close/>
              </a:path>
              <a:path fill="darkenLess" w="21600" h="27853">
                <a:moveTo>
                  <a:pt x="9877" y="17425"/>
                </a:moveTo>
                <a:lnTo>
                  <a:pt x="11723" y="17425"/>
                </a:lnTo>
                <a:lnTo>
                  <a:pt x="11723" y="21116"/>
                </a:lnTo>
                <a:lnTo>
                  <a:pt x="16109" y="21116"/>
                </a:lnTo>
                <a:lnTo>
                  <a:pt x="16109" y="13927"/>
                </a:lnTo>
                <a:lnTo>
                  <a:pt x="5491" y="13927"/>
                </a:lnTo>
                <a:lnTo>
                  <a:pt x="5491" y="21116"/>
                </a:lnTo>
                <a:lnTo>
                  <a:pt x="9877" y="211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артинка 1 из 97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270828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.А.Бунин. "На окне, серебряном от инея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 окне, серебряном от инея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За ночь хризантемы расцвел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Верхних стеклах - небо ярко-сине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И застреха в снеговой пы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  Почему оконные стела покрылись узором из ине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65280" y="56088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вективные потоки воздуха, соприкасаясь с нижними оконными стеклами охладились; при этом водные пары, содержащиеся в этих потоках, сконденсировались, охладились и кристаллизовал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6659640" y="5373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10800" y="6513"/>
                </a:moveTo>
                <a:lnTo>
                  <a:pt x="13376" y="9125"/>
                </a:lnTo>
                <a:lnTo>
                  <a:pt x="13376" y="7384"/>
                </a:lnTo>
                <a:lnTo>
                  <a:pt x="15152" y="7384"/>
                </a:lnTo>
                <a:lnTo>
                  <a:pt x="15152" y="10900"/>
                </a:lnTo>
                <a:lnTo>
                  <a:pt x="17763" y="13476"/>
                </a:lnTo>
                <a:lnTo>
                  <a:pt x="16109" y="13476"/>
                </a:lnTo>
                <a:lnTo>
                  <a:pt x="16109" y="20666"/>
                </a:lnTo>
                <a:lnTo>
                  <a:pt x="5491" y="20666"/>
                </a:lnTo>
                <a:lnTo>
                  <a:pt x="5491" y="13476"/>
                </a:lnTo>
                <a:lnTo>
                  <a:pt x="3837" y="13476"/>
                </a:lnTo>
                <a:close/>
              </a:path>
              <a:path fill="darkenLess" w="21600" h="26953">
                <a:moveTo>
                  <a:pt x="13376" y="9125"/>
                </a:moveTo>
                <a:lnTo>
                  <a:pt x="13376" y="7384"/>
                </a:lnTo>
                <a:lnTo>
                  <a:pt x="15152" y="7384"/>
                </a:lnTo>
                <a:lnTo>
                  <a:pt x="15152" y="10900"/>
                </a:lnTo>
                <a:close/>
              </a:path>
              <a:path fill="darkenLess" w="21600" h="26953">
                <a:moveTo>
                  <a:pt x="9877" y="16975"/>
                </a:moveTo>
                <a:lnTo>
                  <a:pt x="11723" y="16975"/>
                </a:lnTo>
                <a:lnTo>
                  <a:pt x="11723" y="20666"/>
                </a:lnTo>
                <a:lnTo>
                  <a:pt x="16109" y="20666"/>
                </a:lnTo>
                <a:lnTo>
                  <a:pt x="16109" y="13476"/>
                </a:lnTo>
                <a:lnTo>
                  <a:pt x="5491" y="13476"/>
                </a:lnTo>
                <a:lnTo>
                  <a:pt x="5491" y="20666"/>
                </a:lnTo>
                <a:lnTo>
                  <a:pt x="9877" y="206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Блок. "Ночь на Новый год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жат холодные тума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ят багровые костры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ша морозная Светл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ечтах таинственной иг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ипнет снег - сердца займутся -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ова тихая лу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воротами смею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ьше улица тем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1080" y="55166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очему скрипит сне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9440" y="5445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Хроника жизни"/>
          <p:cNvPicPr/>
          <p:nvPr/>
        </p:nvPicPr>
        <p:blipFill>
          <a:blip r:embed="rId2"/>
          <a:stretch/>
        </p:blipFill>
        <p:spPr>
          <a:xfrm>
            <a:off x="6948360" y="2997360"/>
            <a:ext cx="14097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3467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рип снега вызван, очевидно,  хождением по нему; при этом разрушались его ледяные кристалл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308720" y="5516640"/>
            <a:ext cx="576360" cy="6490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324">
                <a:moveTo>
                  <a:pt x="0" y="0"/>
                </a:moveTo>
                <a:lnTo>
                  <a:pt x="21600" y="0"/>
                </a:lnTo>
                <a:lnTo>
                  <a:pt x="21600" y="24324"/>
                </a:lnTo>
                <a:lnTo>
                  <a:pt x="0" y="24324"/>
                </a:lnTo>
                <a:close/>
              </a:path>
              <a:path fill="lightenLess" w="21600" h="24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24">
                <a:moveTo>
                  <a:pt x="21600" y="0"/>
                </a:moveTo>
                <a:lnTo>
                  <a:pt x="21600" y="24324"/>
                </a:lnTo>
                <a:lnTo>
                  <a:pt x="20200" y="22924"/>
                </a:lnTo>
                <a:lnTo>
                  <a:pt x="20200" y="1400"/>
                </a:lnTo>
                <a:close/>
              </a:path>
              <a:path fill="darkenLess" w="21600" h="24324">
                <a:moveTo>
                  <a:pt x="21600" y="24324"/>
                </a:moveTo>
                <a:lnTo>
                  <a:pt x="0" y="24324"/>
                </a:lnTo>
                <a:lnTo>
                  <a:pt x="1400" y="22924"/>
                </a:lnTo>
                <a:lnTo>
                  <a:pt x="20200" y="22924"/>
                </a:lnTo>
                <a:close/>
              </a:path>
              <a:path fill="lighten" w="21600" h="24324">
                <a:moveTo>
                  <a:pt x="0" y="24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24"/>
                </a:lnTo>
                <a:close/>
              </a:path>
              <a:path fill="darken" w="21600" h="24324">
                <a:moveTo>
                  <a:pt x="10800" y="5199"/>
                </a:moveTo>
                <a:lnTo>
                  <a:pt x="13376" y="7810"/>
                </a:lnTo>
                <a:lnTo>
                  <a:pt x="13376" y="6069"/>
                </a:lnTo>
                <a:lnTo>
                  <a:pt x="15152" y="6069"/>
                </a:lnTo>
                <a:lnTo>
                  <a:pt x="15152" y="9586"/>
                </a:lnTo>
                <a:lnTo>
                  <a:pt x="17763" y="12162"/>
                </a:lnTo>
                <a:lnTo>
                  <a:pt x="16109" y="12162"/>
                </a:lnTo>
                <a:lnTo>
                  <a:pt x="16109" y="19351"/>
                </a:lnTo>
                <a:lnTo>
                  <a:pt x="5491" y="19351"/>
                </a:lnTo>
                <a:lnTo>
                  <a:pt x="5491" y="12162"/>
                </a:lnTo>
                <a:lnTo>
                  <a:pt x="3837" y="12162"/>
                </a:lnTo>
                <a:close/>
              </a:path>
              <a:path fill="darkenLess" w="21600" h="24324">
                <a:moveTo>
                  <a:pt x="13376" y="7810"/>
                </a:moveTo>
                <a:lnTo>
                  <a:pt x="13376" y="6069"/>
                </a:lnTo>
                <a:lnTo>
                  <a:pt x="15152" y="6069"/>
                </a:lnTo>
                <a:lnTo>
                  <a:pt x="15152" y="9586"/>
                </a:lnTo>
                <a:close/>
              </a:path>
              <a:path fill="darkenLess" w="21600" h="24324">
                <a:moveTo>
                  <a:pt x="9877" y="15661"/>
                </a:moveTo>
                <a:lnTo>
                  <a:pt x="11723" y="15661"/>
                </a:lnTo>
                <a:lnTo>
                  <a:pt x="11723" y="19351"/>
                </a:lnTo>
                <a:lnTo>
                  <a:pt x="16109" y="19351"/>
                </a:lnTo>
                <a:lnTo>
                  <a:pt x="16109" y="12162"/>
                </a:lnTo>
                <a:lnTo>
                  <a:pt x="5491" y="12162"/>
                </a:lnTo>
                <a:lnTo>
                  <a:pt x="5491" y="19351"/>
                </a:lnTo>
                <a:lnTo>
                  <a:pt x="9877" y="193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Картинка 11 из 52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549360"/>
            <a:ext cx="2724480" cy="3809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38 из 52616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2637000"/>
            <a:ext cx="2867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 Вознесенский. "Мороз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нишь время молодо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врывались на пари,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вляя пол-ладон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ороженной к двер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чему "пол-ладони" оказалась "примороженной к двери"? Объясните это с точки зрения физ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7640" y="5751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443640" y="1989000"/>
            <a:ext cx="2016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алл, обладая большей, чем дерево теплопроводностью, активно "отводит" тепло от руки, вследствие чего влага, имеющаяся в ее порах и на ней, быстро охлаждается до температуры кристаллизации и примерзает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451640" y="558972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И.Недогонов."Холм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, туман речной сгущ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дит в простор ледя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ницы в стекла превращ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Доном ходит ходу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вдосталь вымученный за ночь,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лом поле над луной,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пящий витязь, Дон Иваныч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ит в кольчуге ледя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пр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чему в мороз над еще не замерзшим Доном был виден густой тум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6560" y="58244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15" descr="image692"/>
          <p:cNvPicPr/>
          <p:nvPr/>
        </p:nvPicPr>
        <p:blipFill>
          <a:blip r:embed="rId25"/>
          <a:stretch/>
        </p:blipFill>
        <p:spPr>
          <a:xfrm>
            <a:off x="468360" y="260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image692"/>
          <p:cNvPicPr/>
          <p:nvPr/>
        </p:nvPicPr>
        <p:blipFill>
          <a:blip r:embed="rId26"/>
          <a:stretch/>
        </p:blipFill>
        <p:spPr>
          <a:xfrm>
            <a:off x="3780000" y="263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image692"/>
          <p:cNvPicPr/>
          <p:nvPr/>
        </p:nvPicPr>
        <p:blipFill>
          <a:blip r:embed="rId27"/>
          <a:stretch/>
        </p:blipFill>
        <p:spPr>
          <a:xfrm>
            <a:off x="2124000" y="1484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image692"/>
          <p:cNvPicPr/>
          <p:nvPr/>
        </p:nvPicPr>
        <p:blipFill>
          <a:blip r:embed="rId28"/>
          <a:stretch/>
        </p:blipFill>
        <p:spPr>
          <a:xfrm>
            <a:off x="5364000" y="3789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image692"/>
          <p:cNvPicPr/>
          <p:nvPr/>
        </p:nvPicPr>
        <p:blipFill>
          <a:blip r:embed="rId29"/>
          <a:stretch/>
        </p:blipFill>
        <p:spPr>
          <a:xfrm>
            <a:off x="6948360" y="4869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image692"/>
          <p:cNvPicPr/>
          <p:nvPr/>
        </p:nvPicPr>
        <p:blipFill>
          <a:blip r:embed="rId30"/>
          <a:stretch/>
        </p:blipFill>
        <p:spPr>
          <a:xfrm>
            <a:off x="7020000" y="2602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image692"/>
          <p:cNvPicPr/>
          <p:nvPr/>
        </p:nvPicPr>
        <p:blipFill>
          <a:blip r:embed="rId31"/>
          <a:stretch/>
        </p:blipFill>
        <p:spPr>
          <a:xfrm>
            <a:off x="5364000" y="134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image692"/>
          <p:cNvPicPr/>
          <p:nvPr/>
        </p:nvPicPr>
        <p:blipFill>
          <a:blip r:embed="rId32"/>
          <a:stretch/>
        </p:blipFill>
        <p:spPr>
          <a:xfrm>
            <a:off x="2124000" y="3789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image692"/>
          <p:cNvPicPr/>
          <p:nvPr/>
        </p:nvPicPr>
        <p:blipFill>
          <a:blip r:embed="rId33"/>
          <a:stretch/>
        </p:blipFill>
        <p:spPr>
          <a:xfrm>
            <a:off x="468360" y="5013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пература воды в реке выше, чем температура окружающего воздуха. Поднимающийся с поверхности водяной пар в воздухе охлаждается и конденсируется в капельки влаги - образуется тума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885080" y="551664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Картинка 4 из 4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645000"/>
            <a:ext cx="38880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ильнее обжигает: пар, вырывающийся из носика кипящего чайника, или брызги самой кипящей вод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60720" y="53006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73 из 20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500280"/>
            <a:ext cx="36720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 обжигает значительно сильнее, так как коже еще отдается тепло, выделяющееся в процессе конденс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6948360" y="5373720"/>
            <a:ext cx="648000" cy="576360"/>
          </a:xfrm>
          <a:custGeom>
            <a:avLst/>
            <a:gdLst>
              <a:gd name="textAreaLeft" fmla="*/ 37080 w 648000"/>
              <a:gd name="textAreaRight" fmla="*/ 610920 w 6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83" h="21600">
                <a:moveTo>
                  <a:pt x="0" y="0"/>
                </a:moveTo>
                <a:lnTo>
                  <a:pt x="24283" y="0"/>
                </a:lnTo>
                <a:lnTo>
                  <a:pt x="24283" y="21600"/>
                </a:lnTo>
                <a:lnTo>
                  <a:pt x="0" y="21600"/>
                </a:lnTo>
                <a:close/>
              </a:path>
              <a:path fill="lightenLess" w="24283" h="21600">
                <a:moveTo>
                  <a:pt x="0" y="0"/>
                </a:moveTo>
                <a:lnTo>
                  <a:pt x="24283" y="0"/>
                </a:lnTo>
                <a:lnTo>
                  <a:pt x="22883" y="1400"/>
                </a:lnTo>
                <a:lnTo>
                  <a:pt x="1400" y="1400"/>
                </a:lnTo>
                <a:close/>
              </a:path>
              <a:path fill="darken" w="24283" h="21600">
                <a:moveTo>
                  <a:pt x="24283" y="0"/>
                </a:moveTo>
                <a:lnTo>
                  <a:pt x="24283" y="21600"/>
                </a:lnTo>
                <a:lnTo>
                  <a:pt x="22883" y="20200"/>
                </a:lnTo>
                <a:lnTo>
                  <a:pt x="22883" y="1400"/>
                </a:lnTo>
                <a:close/>
              </a:path>
              <a:path fill="darkenLess" w="24283" h="21600">
                <a:moveTo>
                  <a:pt x="24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3" y="20200"/>
                </a:lnTo>
                <a:close/>
              </a:path>
              <a:path fill="lighten" w="24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3" h="21600">
                <a:moveTo>
                  <a:pt x="12142" y="3837"/>
                </a:moveTo>
                <a:lnTo>
                  <a:pt x="14718" y="6448"/>
                </a:lnTo>
                <a:lnTo>
                  <a:pt x="14718" y="4707"/>
                </a:lnTo>
                <a:lnTo>
                  <a:pt x="16493" y="4707"/>
                </a:lnTo>
                <a:lnTo>
                  <a:pt x="16493" y="8224"/>
                </a:lnTo>
                <a:lnTo>
                  <a:pt x="19105" y="10800"/>
                </a:lnTo>
                <a:lnTo>
                  <a:pt x="17451" y="10800"/>
                </a:lnTo>
                <a:lnTo>
                  <a:pt x="17451" y="17989"/>
                </a:lnTo>
                <a:lnTo>
                  <a:pt x="6832" y="17989"/>
                </a:lnTo>
                <a:lnTo>
                  <a:pt x="6832" y="10800"/>
                </a:lnTo>
                <a:lnTo>
                  <a:pt x="5179" y="10800"/>
                </a:lnTo>
                <a:close/>
              </a:path>
              <a:path fill="darkenLess" w="24283" h="21600">
                <a:moveTo>
                  <a:pt x="14718" y="6448"/>
                </a:moveTo>
                <a:lnTo>
                  <a:pt x="14718" y="4707"/>
                </a:lnTo>
                <a:lnTo>
                  <a:pt x="16493" y="4707"/>
                </a:lnTo>
                <a:lnTo>
                  <a:pt x="16493" y="8224"/>
                </a:lnTo>
                <a:close/>
              </a:path>
              <a:path fill="darkenLess" w="24283" h="21600">
                <a:moveTo>
                  <a:pt x="11219" y="14299"/>
                </a:moveTo>
                <a:lnTo>
                  <a:pt x="13064" y="14299"/>
                </a:lnTo>
                <a:lnTo>
                  <a:pt x="13064" y="17989"/>
                </a:lnTo>
                <a:lnTo>
                  <a:pt x="17451" y="17989"/>
                </a:lnTo>
                <a:lnTo>
                  <a:pt x="17451" y="10800"/>
                </a:lnTo>
                <a:lnTo>
                  <a:pt x="6832" y="10800"/>
                </a:lnTo>
                <a:lnTo>
                  <a:pt x="6832" y="17989"/>
                </a:lnTo>
                <a:lnTo>
                  <a:pt x="1121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1809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образуются облак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1080" y="5229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Картинка 4 из 248481">
            <a:hlinkClick r:id="rId2"/>
          </p:cNvPr>
          <p:cNvPicPr/>
          <p:nvPr/>
        </p:nvPicPr>
        <p:blipFill>
          <a:blip r:embed="rId3"/>
          <a:stretch/>
        </p:blipFill>
        <p:spPr>
          <a:xfrm rot="21400800">
            <a:off x="539280" y="2997360"/>
            <a:ext cx="3888000" cy="291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Картинка 3 из 24848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2276640"/>
            <a:ext cx="412272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лый и влажный воздух поднимается вверх, в область пониженного атмосферного давления. Он расширяется и при этом охлаждается. Пары воды конденсируются в мельчайшие капли, образующие обла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380360" y="5589720"/>
            <a:ext cx="576360" cy="7189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8920"/>
              <a:gd name="textAreaBottom" fmla="*/ 681840 h 718920"/>
            </a:gdLst>
            <a:ahLst/>
            <a:rect l="textAreaLeft" t="textAreaTop" r="textAreaRight" b="textAreaBottom"/>
            <a:pathLst>
              <a:path w="21600" h="26939">
                <a:moveTo>
                  <a:pt x="0" y="0"/>
                </a:moveTo>
                <a:lnTo>
                  <a:pt x="21600" y="0"/>
                </a:lnTo>
                <a:lnTo>
                  <a:pt x="21600" y="26939"/>
                </a:lnTo>
                <a:lnTo>
                  <a:pt x="0" y="26939"/>
                </a:lnTo>
                <a:close/>
              </a:path>
              <a:path fill="lightenLess" w="21600" h="269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9">
                <a:moveTo>
                  <a:pt x="21600" y="0"/>
                </a:moveTo>
                <a:lnTo>
                  <a:pt x="21600" y="26939"/>
                </a:lnTo>
                <a:lnTo>
                  <a:pt x="20200" y="25539"/>
                </a:lnTo>
                <a:lnTo>
                  <a:pt x="20200" y="1400"/>
                </a:lnTo>
                <a:close/>
              </a:path>
              <a:path fill="darkenLess" w="21600" h="26939">
                <a:moveTo>
                  <a:pt x="21600" y="26939"/>
                </a:moveTo>
                <a:lnTo>
                  <a:pt x="0" y="26939"/>
                </a:lnTo>
                <a:lnTo>
                  <a:pt x="1400" y="25539"/>
                </a:lnTo>
                <a:lnTo>
                  <a:pt x="20200" y="25539"/>
                </a:lnTo>
                <a:close/>
              </a:path>
              <a:path fill="lighten" w="21600" h="26939">
                <a:moveTo>
                  <a:pt x="0" y="269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9"/>
                </a:lnTo>
                <a:close/>
              </a:path>
              <a:path fill="darken" w="21600" h="26939">
                <a:moveTo>
                  <a:pt x="10800" y="6507"/>
                </a:moveTo>
                <a:lnTo>
                  <a:pt x="13376" y="9118"/>
                </a:lnTo>
                <a:lnTo>
                  <a:pt x="13376" y="7377"/>
                </a:lnTo>
                <a:lnTo>
                  <a:pt x="15152" y="7377"/>
                </a:lnTo>
                <a:lnTo>
                  <a:pt x="15152" y="10893"/>
                </a:lnTo>
                <a:lnTo>
                  <a:pt x="17763" y="13470"/>
                </a:lnTo>
                <a:lnTo>
                  <a:pt x="16109" y="13470"/>
                </a:lnTo>
                <a:lnTo>
                  <a:pt x="16109" y="20659"/>
                </a:lnTo>
                <a:lnTo>
                  <a:pt x="5491" y="20659"/>
                </a:lnTo>
                <a:lnTo>
                  <a:pt x="5491" y="13470"/>
                </a:lnTo>
                <a:lnTo>
                  <a:pt x="3837" y="13470"/>
                </a:lnTo>
                <a:close/>
              </a:path>
              <a:path fill="darkenLess" w="21600" h="26939">
                <a:moveTo>
                  <a:pt x="13376" y="9118"/>
                </a:moveTo>
                <a:lnTo>
                  <a:pt x="13376" y="7377"/>
                </a:lnTo>
                <a:lnTo>
                  <a:pt x="15152" y="7377"/>
                </a:lnTo>
                <a:lnTo>
                  <a:pt x="15152" y="10893"/>
                </a:lnTo>
                <a:close/>
              </a:path>
              <a:path fill="darkenLess" w="21600" h="26939">
                <a:moveTo>
                  <a:pt x="9877" y="16969"/>
                </a:moveTo>
                <a:lnTo>
                  <a:pt x="11723" y="16969"/>
                </a:lnTo>
                <a:lnTo>
                  <a:pt x="11723" y="20659"/>
                </a:lnTo>
                <a:lnTo>
                  <a:pt x="16109" y="20659"/>
                </a:lnTo>
                <a:lnTo>
                  <a:pt x="16109" y="13470"/>
                </a:lnTo>
                <a:lnTo>
                  <a:pt x="5491" y="13470"/>
                </a:lnTo>
                <a:lnTo>
                  <a:pt x="5491" y="20659"/>
                </a:lnTo>
                <a:lnTo>
                  <a:pt x="9877" y="206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м кастрюлю закрывают крышк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7800" y="53006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Картинка 3 из 97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2781360"/>
            <a:ext cx="4762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горячий пар (даже до кипения) не уносил тепло. На крышке он конденсируется, и горячая вода стекает обратно, так что почти все тепло остается в кастрю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6804000" y="537372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ода гасит огонь кос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5440" y="55166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Картинка 18 из 3286">
            <a:hlinkClick r:id="rId2"/>
          </p:cNvPr>
          <p:cNvPicPr/>
          <p:nvPr/>
        </p:nvPicPr>
        <p:blipFill>
          <a:blip r:embed="rId3"/>
          <a:stretch/>
        </p:blipFill>
        <p:spPr>
          <a:xfrm rot="21206400">
            <a:off x="474480" y="2876400"/>
            <a:ext cx="4464000" cy="3362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Картинка 9 из 3286">
            <a:hlinkClick r:id="rId4"/>
          </p:cNvPr>
          <p:cNvPicPr/>
          <p:nvPr/>
        </p:nvPicPr>
        <p:blipFill>
          <a:blip r:embed="rId5"/>
          <a:stretch/>
        </p:blipFill>
        <p:spPr>
          <a:xfrm rot="269400">
            <a:off x="4571640" y="2276280"/>
            <a:ext cx="3672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сивное испарение воды охлаждает дерево, а образующаяся оболочка водяного пара препятствует доступу кислорода воздуха, и горение прекращ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7524720" y="558972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692280"/>
            <a:ext cx="7596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 сауне человек может выдержать температуру воздуха до 1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а в русской бане – вдвое меньшу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6000" y="46004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Картинка 4 из 2572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56536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фанасий Афанасьевич Фет. "Метель"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олчит, - лучина с тре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ь горит багровым блес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 по кровле ветр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Почему лучина горит с трес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5661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ауне очень сухой воздух. Интенсивное испарение влаги с поверхности кожи охлаждает её. В русской бане пар влажный и испарение слаб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812000" y="5516640"/>
            <a:ext cx="505080" cy="64908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649080"/>
              <a:gd name="textAreaBottom" fmla="*/ 616680 h 649080"/>
            </a:gdLst>
            <a:ahLst/>
            <a:rect l="textAreaLeft" t="textAreaTop" r="textAreaRight" b="textAreaBottom"/>
            <a:pathLst>
              <a:path w="21600" h="27754">
                <a:moveTo>
                  <a:pt x="0" y="0"/>
                </a:moveTo>
                <a:lnTo>
                  <a:pt x="21600" y="0"/>
                </a:lnTo>
                <a:lnTo>
                  <a:pt x="21600" y="27754"/>
                </a:lnTo>
                <a:lnTo>
                  <a:pt x="0" y="27754"/>
                </a:lnTo>
                <a:close/>
              </a:path>
              <a:path fill="lightenLess" w="21600" h="277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54">
                <a:moveTo>
                  <a:pt x="21600" y="0"/>
                </a:moveTo>
                <a:lnTo>
                  <a:pt x="21600" y="27754"/>
                </a:lnTo>
                <a:lnTo>
                  <a:pt x="20200" y="26354"/>
                </a:lnTo>
                <a:lnTo>
                  <a:pt x="20200" y="1400"/>
                </a:lnTo>
                <a:close/>
              </a:path>
              <a:path fill="darkenLess" w="21600" h="27754">
                <a:moveTo>
                  <a:pt x="21600" y="27754"/>
                </a:moveTo>
                <a:lnTo>
                  <a:pt x="0" y="27754"/>
                </a:lnTo>
                <a:lnTo>
                  <a:pt x="1400" y="26354"/>
                </a:lnTo>
                <a:lnTo>
                  <a:pt x="20200" y="26354"/>
                </a:lnTo>
                <a:close/>
              </a:path>
              <a:path fill="lighten" w="21600" h="27754">
                <a:moveTo>
                  <a:pt x="0" y="277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54"/>
                </a:lnTo>
                <a:close/>
              </a:path>
              <a:path fill="darken" w="21600" h="27754">
                <a:moveTo>
                  <a:pt x="10800" y="6914"/>
                </a:moveTo>
                <a:lnTo>
                  <a:pt x="13376" y="9525"/>
                </a:lnTo>
                <a:lnTo>
                  <a:pt x="13376" y="7784"/>
                </a:lnTo>
                <a:lnTo>
                  <a:pt x="15152" y="7784"/>
                </a:lnTo>
                <a:lnTo>
                  <a:pt x="15152" y="11301"/>
                </a:lnTo>
                <a:lnTo>
                  <a:pt x="17763" y="13877"/>
                </a:lnTo>
                <a:lnTo>
                  <a:pt x="16109" y="13877"/>
                </a:lnTo>
                <a:lnTo>
                  <a:pt x="16109" y="21066"/>
                </a:lnTo>
                <a:lnTo>
                  <a:pt x="5491" y="21066"/>
                </a:lnTo>
                <a:lnTo>
                  <a:pt x="5491" y="13877"/>
                </a:lnTo>
                <a:lnTo>
                  <a:pt x="3837" y="13877"/>
                </a:lnTo>
                <a:close/>
              </a:path>
              <a:path fill="darkenLess" w="21600" h="27754">
                <a:moveTo>
                  <a:pt x="13376" y="9525"/>
                </a:moveTo>
                <a:lnTo>
                  <a:pt x="13376" y="7784"/>
                </a:lnTo>
                <a:lnTo>
                  <a:pt x="15152" y="7784"/>
                </a:lnTo>
                <a:lnTo>
                  <a:pt x="15152" y="11301"/>
                </a:lnTo>
                <a:close/>
              </a:path>
              <a:path fill="darkenLess" w="21600" h="27754">
                <a:moveTo>
                  <a:pt x="9877" y="17376"/>
                </a:moveTo>
                <a:lnTo>
                  <a:pt x="11723" y="17376"/>
                </a:lnTo>
                <a:lnTo>
                  <a:pt x="11723" y="21066"/>
                </a:lnTo>
                <a:lnTo>
                  <a:pt x="16109" y="21066"/>
                </a:lnTo>
                <a:lnTo>
                  <a:pt x="16109" y="13877"/>
                </a:lnTo>
                <a:lnTo>
                  <a:pt x="5491" y="13877"/>
                </a:lnTo>
                <a:lnTo>
                  <a:pt x="5491" y="21066"/>
                </a:lnTo>
                <a:lnTo>
                  <a:pt x="9877" y="210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в грозу нельзя ложиться на земл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81280" y="4672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Картинка 2 из 1022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284640"/>
            <a:ext cx="36003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падая в землю, ток разряда расходится по поверхности. При этом возникает большая разность потенциалов между руками и ног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7308720" y="5589720"/>
            <a:ext cx="576360" cy="792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92000"/>
              <a:gd name="textAreaBottom" fmla="*/ 754920 h 792000"/>
            </a:gdLst>
            <a:ahLst/>
            <a:rect l="textAreaLeft" t="textAreaTop" r="textAreaRight" b="textAreaBottom"/>
            <a:pathLst>
              <a:path w="21600" h="29676">
                <a:moveTo>
                  <a:pt x="0" y="0"/>
                </a:moveTo>
                <a:lnTo>
                  <a:pt x="21600" y="0"/>
                </a:lnTo>
                <a:lnTo>
                  <a:pt x="21600" y="29676"/>
                </a:lnTo>
                <a:lnTo>
                  <a:pt x="0" y="29676"/>
                </a:lnTo>
                <a:close/>
              </a:path>
              <a:path fill="lightenLess" w="21600" h="296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76">
                <a:moveTo>
                  <a:pt x="21600" y="0"/>
                </a:moveTo>
                <a:lnTo>
                  <a:pt x="21600" y="29676"/>
                </a:lnTo>
                <a:lnTo>
                  <a:pt x="20200" y="28276"/>
                </a:lnTo>
                <a:lnTo>
                  <a:pt x="20200" y="1400"/>
                </a:lnTo>
                <a:close/>
              </a:path>
              <a:path fill="darkenLess" w="21600" h="29676">
                <a:moveTo>
                  <a:pt x="21600" y="29676"/>
                </a:moveTo>
                <a:lnTo>
                  <a:pt x="0" y="29676"/>
                </a:lnTo>
                <a:lnTo>
                  <a:pt x="1400" y="28276"/>
                </a:lnTo>
                <a:lnTo>
                  <a:pt x="20200" y="28276"/>
                </a:lnTo>
                <a:close/>
              </a:path>
              <a:path fill="lighten" w="21600" h="29676">
                <a:moveTo>
                  <a:pt x="0" y="296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76"/>
                </a:lnTo>
                <a:close/>
              </a:path>
              <a:path fill="darken" w="21600" h="29676">
                <a:moveTo>
                  <a:pt x="10800" y="7875"/>
                </a:moveTo>
                <a:lnTo>
                  <a:pt x="13376" y="10486"/>
                </a:lnTo>
                <a:lnTo>
                  <a:pt x="13376" y="8746"/>
                </a:lnTo>
                <a:lnTo>
                  <a:pt x="15152" y="8746"/>
                </a:lnTo>
                <a:lnTo>
                  <a:pt x="15152" y="12262"/>
                </a:lnTo>
                <a:lnTo>
                  <a:pt x="17763" y="14838"/>
                </a:lnTo>
                <a:lnTo>
                  <a:pt x="16109" y="14838"/>
                </a:lnTo>
                <a:lnTo>
                  <a:pt x="16109" y="22027"/>
                </a:lnTo>
                <a:lnTo>
                  <a:pt x="5491" y="22027"/>
                </a:lnTo>
                <a:lnTo>
                  <a:pt x="5491" y="14838"/>
                </a:lnTo>
                <a:lnTo>
                  <a:pt x="3837" y="14838"/>
                </a:lnTo>
                <a:close/>
              </a:path>
              <a:path fill="darkenLess" w="21600" h="29676">
                <a:moveTo>
                  <a:pt x="13376" y="10486"/>
                </a:moveTo>
                <a:lnTo>
                  <a:pt x="13376" y="8746"/>
                </a:lnTo>
                <a:lnTo>
                  <a:pt x="15152" y="8746"/>
                </a:lnTo>
                <a:lnTo>
                  <a:pt x="15152" y="12262"/>
                </a:lnTo>
                <a:close/>
              </a:path>
              <a:path fill="darkenLess" w="21600" h="29676">
                <a:moveTo>
                  <a:pt x="9877" y="18337"/>
                </a:moveTo>
                <a:lnTo>
                  <a:pt x="11723" y="18337"/>
                </a:lnTo>
                <a:lnTo>
                  <a:pt x="11723" y="22027"/>
                </a:lnTo>
                <a:lnTo>
                  <a:pt x="16109" y="22027"/>
                </a:lnTo>
                <a:lnTo>
                  <a:pt x="16109" y="14838"/>
                </a:lnTo>
                <a:lnTo>
                  <a:pt x="5491" y="14838"/>
                </a:lnTo>
                <a:lnTo>
                  <a:pt x="5491" y="22027"/>
                </a:lnTo>
                <a:lnTo>
                  <a:pt x="9877" y="2202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Картинка 11 из 1022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3429000"/>
            <a:ext cx="3959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784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1080" y="55897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1 из 99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989000"/>
            <a:ext cx="44640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вропейская организация по ядерным исследованиям, крупнейшая в мире лаборатория физики высоких энерг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164360" y="5373720"/>
            <a:ext cx="647640" cy="792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92000"/>
              <a:gd name="textAreaBottom" fmla="*/ 750240 h 792000"/>
            </a:gdLst>
            <a:ahLst/>
            <a:rect l="textAreaLeft" t="textAreaTop" r="textAreaRight" b="textAreaBottom"/>
            <a:pathLst>
              <a:path w="21600" h="26412">
                <a:moveTo>
                  <a:pt x="0" y="0"/>
                </a:moveTo>
                <a:lnTo>
                  <a:pt x="21600" y="0"/>
                </a:lnTo>
                <a:lnTo>
                  <a:pt x="21600" y="26412"/>
                </a:lnTo>
                <a:lnTo>
                  <a:pt x="0" y="26412"/>
                </a:lnTo>
                <a:close/>
              </a:path>
              <a:path fill="lightenLess" w="21600" h="264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12">
                <a:moveTo>
                  <a:pt x="21600" y="0"/>
                </a:moveTo>
                <a:lnTo>
                  <a:pt x="21600" y="26412"/>
                </a:lnTo>
                <a:lnTo>
                  <a:pt x="20200" y="25012"/>
                </a:lnTo>
                <a:lnTo>
                  <a:pt x="20200" y="1400"/>
                </a:lnTo>
                <a:close/>
              </a:path>
              <a:path fill="darkenLess" w="21600" h="26412">
                <a:moveTo>
                  <a:pt x="21600" y="26412"/>
                </a:moveTo>
                <a:lnTo>
                  <a:pt x="0" y="26412"/>
                </a:lnTo>
                <a:lnTo>
                  <a:pt x="1400" y="25012"/>
                </a:lnTo>
                <a:lnTo>
                  <a:pt x="20200" y="25012"/>
                </a:lnTo>
                <a:close/>
              </a:path>
              <a:path fill="lighten" w="21600" h="26412">
                <a:moveTo>
                  <a:pt x="0" y="264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12"/>
                </a:lnTo>
                <a:close/>
              </a:path>
              <a:path fill="darken" w="21600" h="26412">
                <a:moveTo>
                  <a:pt x="10800" y="6243"/>
                </a:moveTo>
                <a:lnTo>
                  <a:pt x="13376" y="8854"/>
                </a:lnTo>
                <a:lnTo>
                  <a:pt x="13376" y="7113"/>
                </a:lnTo>
                <a:lnTo>
                  <a:pt x="15152" y="7113"/>
                </a:lnTo>
                <a:lnTo>
                  <a:pt x="15152" y="10630"/>
                </a:lnTo>
                <a:lnTo>
                  <a:pt x="17763" y="13206"/>
                </a:lnTo>
                <a:lnTo>
                  <a:pt x="16109" y="13206"/>
                </a:lnTo>
                <a:lnTo>
                  <a:pt x="16109" y="20395"/>
                </a:lnTo>
                <a:lnTo>
                  <a:pt x="5491" y="20395"/>
                </a:lnTo>
                <a:lnTo>
                  <a:pt x="5491" y="13206"/>
                </a:lnTo>
                <a:lnTo>
                  <a:pt x="3837" y="13206"/>
                </a:lnTo>
                <a:close/>
              </a:path>
              <a:path fill="darkenLess" w="21600" h="26412">
                <a:moveTo>
                  <a:pt x="13376" y="8854"/>
                </a:moveTo>
                <a:lnTo>
                  <a:pt x="13376" y="7113"/>
                </a:lnTo>
                <a:lnTo>
                  <a:pt x="15152" y="7113"/>
                </a:lnTo>
                <a:lnTo>
                  <a:pt x="15152" y="10630"/>
                </a:lnTo>
                <a:close/>
              </a:path>
              <a:path fill="darkenLess" w="21600" h="26412">
                <a:moveTo>
                  <a:pt x="9877" y="16705"/>
                </a:moveTo>
                <a:lnTo>
                  <a:pt x="11723" y="16705"/>
                </a:lnTo>
                <a:lnTo>
                  <a:pt x="11723" y="20395"/>
                </a:lnTo>
                <a:lnTo>
                  <a:pt x="16109" y="20395"/>
                </a:lnTo>
                <a:lnTo>
                  <a:pt x="16109" y="13206"/>
                </a:lnTo>
                <a:lnTo>
                  <a:pt x="5491" y="13206"/>
                </a:lnTo>
                <a:lnTo>
                  <a:pt x="5491" y="20395"/>
                </a:lnTo>
                <a:lnTo>
                  <a:pt x="9877" y="203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большой адронный коллайде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9800" y="51577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Картинка 12 из 44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2852640"/>
            <a:ext cx="5077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коритель, в котором осуществляется столкновение встречных пучков заряженных частиц высоких энерг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164360" y="5157720"/>
            <a:ext cx="647640" cy="7923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92360"/>
              <a:gd name="textAreaBottom" fmla="*/ 750600 h 792360"/>
            </a:gdLst>
            <a:ahLst/>
            <a:rect l="textAreaLeft" t="textAreaTop" r="textAreaRight" b="textAreaBottom"/>
            <a:pathLst>
              <a:path w="21600" h="26424">
                <a:moveTo>
                  <a:pt x="0" y="0"/>
                </a:moveTo>
                <a:lnTo>
                  <a:pt x="21600" y="0"/>
                </a:lnTo>
                <a:lnTo>
                  <a:pt x="21600" y="26424"/>
                </a:lnTo>
                <a:lnTo>
                  <a:pt x="0" y="26424"/>
                </a:lnTo>
                <a:close/>
              </a:path>
              <a:path fill="lightenLess" w="21600" h="26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24">
                <a:moveTo>
                  <a:pt x="21600" y="0"/>
                </a:moveTo>
                <a:lnTo>
                  <a:pt x="21600" y="26424"/>
                </a:lnTo>
                <a:lnTo>
                  <a:pt x="20200" y="25024"/>
                </a:lnTo>
                <a:lnTo>
                  <a:pt x="20200" y="1400"/>
                </a:lnTo>
                <a:close/>
              </a:path>
              <a:path fill="darkenLess" w="21600" h="26424">
                <a:moveTo>
                  <a:pt x="21600" y="26424"/>
                </a:moveTo>
                <a:lnTo>
                  <a:pt x="0" y="26424"/>
                </a:lnTo>
                <a:lnTo>
                  <a:pt x="1400" y="25024"/>
                </a:lnTo>
                <a:lnTo>
                  <a:pt x="20200" y="25024"/>
                </a:lnTo>
                <a:close/>
              </a:path>
              <a:path fill="lighten" w="21600" h="26424">
                <a:moveTo>
                  <a:pt x="0" y="26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24"/>
                </a:lnTo>
                <a:close/>
              </a:path>
              <a:path fill="darken" w="21600" h="26424">
                <a:moveTo>
                  <a:pt x="10800" y="6249"/>
                </a:moveTo>
                <a:lnTo>
                  <a:pt x="13376" y="8860"/>
                </a:lnTo>
                <a:lnTo>
                  <a:pt x="13376" y="7119"/>
                </a:lnTo>
                <a:lnTo>
                  <a:pt x="15152" y="7119"/>
                </a:lnTo>
                <a:lnTo>
                  <a:pt x="15152" y="10636"/>
                </a:lnTo>
                <a:lnTo>
                  <a:pt x="17763" y="13212"/>
                </a:lnTo>
                <a:lnTo>
                  <a:pt x="16109" y="13212"/>
                </a:lnTo>
                <a:lnTo>
                  <a:pt x="16109" y="20401"/>
                </a:lnTo>
                <a:lnTo>
                  <a:pt x="5491" y="20401"/>
                </a:lnTo>
                <a:lnTo>
                  <a:pt x="5491" y="13212"/>
                </a:lnTo>
                <a:lnTo>
                  <a:pt x="3837" y="13212"/>
                </a:lnTo>
                <a:close/>
              </a:path>
              <a:path fill="darkenLess" w="21600" h="26424">
                <a:moveTo>
                  <a:pt x="13376" y="8860"/>
                </a:moveTo>
                <a:lnTo>
                  <a:pt x="13376" y="7119"/>
                </a:lnTo>
                <a:lnTo>
                  <a:pt x="15152" y="7119"/>
                </a:lnTo>
                <a:lnTo>
                  <a:pt x="15152" y="10636"/>
                </a:lnTo>
                <a:close/>
              </a:path>
              <a:path fill="darkenLess" w="21600" h="26424">
                <a:moveTo>
                  <a:pt x="9877" y="16711"/>
                </a:moveTo>
                <a:lnTo>
                  <a:pt x="11723" y="16711"/>
                </a:lnTo>
                <a:lnTo>
                  <a:pt x="11723" y="20401"/>
                </a:lnTo>
                <a:lnTo>
                  <a:pt x="16109" y="20401"/>
                </a:lnTo>
                <a:lnTo>
                  <a:pt x="16109" y="13212"/>
                </a:lnTo>
                <a:lnTo>
                  <a:pt x="5491" y="13212"/>
                </a:lnTo>
                <a:lnTo>
                  <a:pt x="5491" y="20401"/>
                </a:lnTo>
                <a:lnTo>
                  <a:pt x="9877" y="2040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глобус"/>
          <p:cNvPicPr/>
          <p:nvPr/>
        </p:nvPicPr>
        <p:blipFill>
          <a:blip r:embed="rId2"/>
          <a:stretch/>
        </p:blipFill>
        <p:spPr>
          <a:xfrm>
            <a:off x="900000" y="5013360"/>
            <a:ext cx="9702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открытый сосуд заполнить газом на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го вместим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21080" y="4653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aluno03"/>
          <p:cNvPicPr/>
          <p:nvPr/>
        </p:nvPicPr>
        <p:blipFill>
          <a:blip r:embed="rId2"/>
          <a:stretch/>
        </p:blipFill>
        <p:spPr>
          <a:xfrm>
            <a:off x="1332000" y="3573360"/>
            <a:ext cx="6937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, например, пропаном. Однако сохранить его длительное время в открытом сосуде не удас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6877080" y="5157720"/>
            <a:ext cx="574560" cy="79236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92360"/>
              <a:gd name="textAreaBottom" fmla="*/ 755280 h 792360"/>
            </a:gdLst>
            <a:ahLst/>
            <a:rect l="textAreaLeft" t="textAreaTop" r="textAreaRight" b="textAreaBottom"/>
            <a:pathLst>
              <a:path w="21600" h="29783">
                <a:moveTo>
                  <a:pt x="0" y="0"/>
                </a:moveTo>
                <a:lnTo>
                  <a:pt x="21600" y="0"/>
                </a:lnTo>
                <a:lnTo>
                  <a:pt x="21600" y="29783"/>
                </a:lnTo>
                <a:lnTo>
                  <a:pt x="0" y="29783"/>
                </a:lnTo>
                <a:close/>
              </a:path>
              <a:path fill="lightenLess" w="21600" h="29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83">
                <a:moveTo>
                  <a:pt x="21600" y="0"/>
                </a:moveTo>
                <a:lnTo>
                  <a:pt x="21600" y="29783"/>
                </a:lnTo>
                <a:lnTo>
                  <a:pt x="20200" y="28383"/>
                </a:lnTo>
                <a:lnTo>
                  <a:pt x="20200" y="1400"/>
                </a:lnTo>
                <a:close/>
              </a:path>
              <a:path fill="darkenLess" w="21600" h="29783">
                <a:moveTo>
                  <a:pt x="21600" y="29783"/>
                </a:moveTo>
                <a:lnTo>
                  <a:pt x="0" y="29783"/>
                </a:lnTo>
                <a:lnTo>
                  <a:pt x="1400" y="28383"/>
                </a:lnTo>
                <a:lnTo>
                  <a:pt x="20200" y="28383"/>
                </a:lnTo>
                <a:close/>
              </a:path>
              <a:path fill="lighten" w="21600" h="29783">
                <a:moveTo>
                  <a:pt x="0" y="29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83"/>
                </a:lnTo>
                <a:close/>
              </a:path>
              <a:path fill="darken" w="21600" h="29783">
                <a:moveTo>
                  <a:pt x="10800" y="7928"/>
                </a:moveTo>
                <a:lnTo>
                  <a:pt x="13376" y="10540"/>
                </a:lnTo>
                <a:lnTo>
                  <a:pt x="13376" y="8799"/>
                </a:lnTo>
                <a:lnTo>
                  <a:pt x="15152" y="8799"/>
                </a:lnTo>
                <a:lnTo>
                  <a:pt x="15152" y="12315"/>
                </a:lnTo>
                <a:lnTo>
                  <a:pt x="17763" y="14891"/>
                </a:lnTo>
                <a:lnTo>
                  <a:pt x="16109" y="14891"/>
                </a:lnTo>
                <a:lnTo>
                  <a:pt x="16109" y="22081"/>
                </a:lnTo>
                <a:lnTo>
                  <a:pt x="5491" y="22081"/>
                </a:lnTo>
                <a:lnTo>
                  <a:pt x="5491" y="14891"/>
                </a:lnTo>
                <a:lnTo>
                  <a:pt x="3837" y="14891"/>
                </a:lnTo>
                <a:close/>
              </a:path>
              <a:path fill="darkenLess" w="21600" h="29783">
                <a:moveTo>
                  <a:pt x="13376" y="10540"/>
                </a:moveTo>
                <a:lnTo>
                  <a:pt x="13376" y="8799"/>
                </a:lnTo>
                <a:lnTo>
                  <a:pt x="15152" y="8799"/>
                </a:lnTo>
                <a:lnTo>
                  <a:pt x="15152" y="12315"/>
                </a:lnTo>
                <a:close/>
              </a:path>
              <a:path fill="darkenLess" w="21600" h="29783">
                <a:moveTo>
                  <a:pt x="9877" y="18390"/>
                </a:moveTo>
                <a:lnTo>
                  <a:pt x="11723" y="18390"/>
                </a:lnTo>
                <a:lnTo>
                  <a:pt x="11723" y="22081"/>
                </a:lnTo>
                <a:lnTo>
                  <a:pt x="16109" y="22081"/>
                </a:lnTo>
                <a:lnTo>
                  <a:pt x="16109" y="14891"/>
                </a:lnTo>
                <a:lnTo>
                  <a:pt x="5491" y="14891"/>
                </a:lnTo>
                <a:lnTo>
                  <a:pt x="5491" y="22081"/>
                </a:lnTo>
                <a:lnTo>
                  <a:pt x="9877" y="220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евращения энергии происходят при свечении лампы карманного фонар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09640" y="51037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Картинка 2 из 9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4956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горении лучины из ее древесины интенсивно испаряется влаг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ар, увеличиваясь в объёме, с треском разрывает древесные волок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7740720" y="5805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3896" y="3837"/>
                </a:moveTo>
                <a:lnTo>
                  <a:pt x="16472" y="6448"/>
                </a:ln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lnTo>
                  <a:pt x="20859" y="10800"/>
                </a:lnTo>
                <a:lnTo>
                  <a:pt x="19205" y="10800"/>
                </a:lnTo>
                <a:lnTo>
                  <a:pt x="19205" y="17989"/>
                </a:lnTo>
                <a:lnTo>
                  <a:pt x="8586" y="17989"/>
                </a:lnTo>
                <a:lnTo>
                  <a:pt x="8586" y="10800"/>
                </a:lnTo>
                <a:lnTo>
                  <a:pt x="6933" y="10800"/>
                </a:lnTo>
                <a:close/>
              </a:path>
              <a:path fill="darkenLess" w="27791" h="21600">
                <a:moveTo>
                  <a:pt x="16472" y="6448"/>
                </a:move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close/>
              </a:path>
              <a:path fill="darkenLess" w="27791" h="21600">
                <a:moveTo>
                  <a:pt x="12973" y="14299"/>
                </a:moveTo>
                <a:lnTo>
                  <a:pt x="14818" y="14299"/>
                </a:lnTo>
                <a:lnTo>
                  <a:pt x="14818" y="17989"/>
                </a:lnTo>
                <a:lnTo>
                  <a:pt x="19205" y="17989"/>
                </a:lnTo>
                <a:lnTo>
                  <a:pt x="19205" y="10800"/>
                </a:lnTo>
                <a:lnTo>
                  <a:pt x="8586" y="10800"/>
                </a:lnTo>
                <a:lnTo>
                  <a:pt x="8586" y="17989"/>
                </a:lnTo>
                <a:lnTo>
                  <a:pt x="1297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3 из 22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134136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Мы наблюдаем мир"/>
          <p:cNvPicPr/>
          <p:nvPr/>
        </p:nvPicPr>
        <p:blipFill>
          <a:blip r:embed="rId4"/>
          <a:stretch/>
        </p:blipFill>
        <p:spPr>
          <a:xfrm>
            <a:off x="611280" y="562140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мическая энергия батарейки переходит в электрическую, электрическая – в тепловую и часть тепловой – в свето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236000" y="551664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10800" y="6549"/>
                </a:moveTo>
                <a:lnTo>
                  <a:pt x="13376" y="9160"/>
                </a:lnTo>
                <a:lnTo>
                  <a:pt x="13376" y="7419"/>
                </a:lnTo>
                <a:lnTo>
                  <a:pt x="15152" y="7419"/>
                </a:lnTo>
                <a:lnTo>
                  <a:pt x="15152" y="10936"/>
                </a:lnTo>
                <a:lnTo>
                  <a:pt x="17763" y="13512"/>
                </a:lnTo>
                <a:lnTo>
                  <a:pt x="16109" y="13512"/>
                </a:lnTo>
                <a:lnTo>
                  <a:pt x="16109" y="20701"/>
                </a:lnTo>
                <a:lnTo>
                  <a:pt x="5491" y="20701"/>
                </a:lnTo>
                <a:lnTo>
                  <a:pt x="5491" y="13512"/>
                </a:lnTo>
                <a:lnTo>
                  <a:pt x="3837" y="13512"/>
                </a:lnTo>
                <a:close/>
              </a:path>
              <a:path fill="darkenLess" w="21600" h="27024">
                <a:moveTo>
                  <a:pt x="13376" y="9160"/>
                </a:moveTo>
                <a:lnTo>
                  <a:pt x="13376" y="7419"/>
                </a:lnTo>
                <a:lnTo>
                  <a:pt x="15152" y="7419"/>
                </a:lnTo>
                <a:lnTo>
                  <a:pt x="15152" y="10936"/>
                </a:lnTo>
                <a:close/>
              </a:path>
              <a:path fill="darkenLess" w="21600" h="27024">
                <a:moveTo>
                  <a:pt x="9877" y="17011"/>
                </a:moveTo>
                <a:lnTo>
                  <a:pt x="11723" y="17011"/>
                </a:lnTo>
                <a:lnTo>
                  <a:pt x="11723" y="20701"/>
                </a:lnTo>
                <a:lnTo>
                  <a:pt x="16109" y="20701"/>
                </a:lnTo>
                <a:lnTo>
                  <a:pt x="16109" y="13512"/>
                </a:lnTo>
                <a:lnTo>
                  <a:pt x="5491" y="13512"/>
                </a:lnTo>
                <a:lnTo>
                  <a:pt x="5491" y="20701"/>
                </a:lnTo>
                <a:lnTo>
                  <a:pt x="9877" y="2070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есь ли вы сейчас источником све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65280" y="4743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, человек является источником рассеянного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451640" y="5445000"/>
            <a:ext cx="649440" cy="7207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3969">
                <a:moveTo>
                  <a:pt x="0" y="0"/>
                </a:moveTo>
                <a:lnTo>
                  <a:pt x="21600" y="0"/>
                </a:lnTo>
                <a:lnTo>
                  <a:pt x="21600" y="23969"/>
                </a:lnTo>
                <a:lnTo>
                  <a:pt x="0" y="23969"/>
                </a:lnTo>
                <a:close/>
              </a:path>
              <a:path fill="lightenLess" w="21600" h="23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69">
                <a:moveTo>
                  <a:pt x="21600" y="0"/>
                </a:moveTo>
                <a:lnTo>
                  <a:pt x="21600" y="23969"/>
                </a:lnTo>
                <a:lnTo>
                  <a:pt x="20200" y="22569"/>
                </a:lnTo>
                <a:lnTo>
                  <a:pt x="20200" y="1400"/>
                </a:lnTo>
                <a:close/>
              </a:path>
              <a:path fill="darkenLess" w="21600" h="23969">
                <a:moveTo>
                  <a:pt x="21600" y="23969"/>
                </a:moveTo>
                <a:lnTo>
                  <a:pt x="0" y="23969"/>
                </a:lnTo>
                <a:lnTo>
                  <a:pt x="1400" y="22569"/>
                </a:lnTo>
                <a:lnTo>
                  <a:pt x="20200" y="22569"/>
                </a:lnTo>
                <a:close/>
              </a:path>
              <a:path fill="lighten" w="21600" h="23969">
                <a:moveTo>
                  <a:pt x="0" y="23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69"/>
                </a:lnTo>
                <a:close/>
              </a:path>
              <a:path fill="darken" w="21600" h="23969">
                <a:moveTo>
                  <a:pt x="10800" y="5022"/>
                </a:moveTo>
                <a:lnTo>
                  <a:pt x="13376" y="7633"/>
                </a:lnTo>
                <a:lnTo>
                  <a:pt x="13376" y="5892"/>
                </a:lnTo>
                <a:lnTo>
                  <a:pt x="15152" y="5892"/>
                </a:lnTo>
                <a:lnTo>
                  <a:pt x="15152" y="9408"/>
                </a:lnTo>
                <a:lnTo>
                  <a:pt x="17763" y="11985"/>
                </a:lnTo>
                <a:lnTo>
                  <a:pt x="16109" y="11985"/>
                </a:lnTo>
                <a:lnTo>
                  <a:pt x="16109" y="19174"/>
                </a:lnTo>
                <a:lnTo>
                  <a:pt x="5491" y="19174"/>
                </a:lnTo>
                <a:lnTo>
                  <a:pt x="5491" y="11985"/>
                </a:lnTo>
                <a:lnTo>
                  <a:pt x="3837" y="11985"/>
                </a:lnTo>
                <a:close/>
              </a:path>
              <a:path fill="darkenLess" w="21600" h="23969">
                <a:moveTo>
                  <a:pt x="13376" y="7633"/>
                </a:moveTo>
                <a:lnTo>
                  <a:pt x="13376" y="5892"/>
                </a:lnTo>
                <a:lnTo>
                  <a:pt x="15152" y="5892"/>
                </a:lnTo>
                <a:lnTo>
                  <a:pt x="15152" y="9408"/>
                </a:lnTo>
                <a:close/>
              </a:path>
              <a:path fill="darkenLess" w="21600" h="23969">
                <a:moveTo>
                  <a:pt x="9877" y="15484"/>
                </a:moveTo>
                <a:lnTo>
                  <a:pt x="11723" y="15484"/>
                </a:lnTo>
                <a:lnTo>
                  <a:pt x="11723" y="19174"/>
                </a:lnTo>
                <a:lnTo>
                  <a:pt x="16109" y="19174"/>
                </a:lnTo>
                <a:lnTo>
                  <a:pt x="16109" y="11985"/>
                </a:lnTo>
                <a:lnTo>
                  <a:pt x="5491" y="11985"/>
                </a:lnTo>
                <a:lnTo>
                  <a:pt x="5491" y="19174"/>
                </a:lnTo>
                <a:lnTo>
                  <a:pt x="9877" y="1917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Картинка 77 из 653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213000"/>
            <a:ext cx="3168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мяч, вынесенный из комнаты на улицу зимой, становится слабо надут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5080" y="5445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Сдутый мяч с эмблемой &quot;Боруссии&quot;. Фото с сайта DW-WORLD"/>
          <p:cNvPicPr/>
          <p:nvPr/>
        </p:nvPicPr>
        <p:blipFill>
          <a:blip r:embed="rId2"/>
          <a:stretch/>
        </p:blipFill>
        <p:spPr>
          <a:xfrm>
            <a:off x="826920" y="3549600"/>
            <a:ext cx="3961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ому что при уменьшении температуры давление воздуха в мяче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164360" y="5445000"/>
            <a:ext cx="576360" cy="792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92360"/>
              <a:gd name="textAreaBottom" fmla="*/ 755280 h 792360"/>
            </a:gdLst>
            <a:ahLst/>
            <a:rect l="textAreaLeft" t="textAreaTop" r="textAreaRight" b="textAreaBottom"/>
            <a:pathLst>
              <a:path w="21600" h="29690">
                <a:moveTo>
                  <a:pt x="0" y="0"/>
                </a:moveTo>
                <a:lnTo>
                  <a:pt x="21600" y="0"/>
                </a:lnTo>
                <a:lnTo>
                  <a:pt x="21600" y="29690"/>
                </a:lnTo>
                <a:lnTo>
                  <a:pt x="0" y="29690"/>
                </a:lnTo>
                <a:close/>
              </a:path>
              <a:path fill="lightenLess" w="21600" h="29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0">
                <a:moveTo>
                  <a:pt x="21600" y="0"/>
                </a:moveTo>
                <a:lnTo>
                  <a:pt x="21600" y="29690"/>
                </a:lnTo>
                <a:lnTo>
                  <a:pt x="20200" y="28290"/>
                </a:lnTo>
                <a:lnTo>
                  <a:pt x="20200" y="1400"/>
                </a:lnTo>
                <a:close/>
              </a:path>
              <a:path fill="darkenLess" w="21600" h="29690">
                <a:moveTo>
                  <a:pt x="21600" y="29690"/>
                </a:moveTo>
                <a:lnTo>
                  <a:pt x="0" y="29690"/>
                </a:lnTo>
                <a:lnTo>
                  <a:pt x="1400" y="28290"/>
                </a:lnTo>
                <a:lnTo>
                  <a:pt x="20200" y="28290"/>
                </a:lnTo>
                <a:close/>
              </a:path>
              <a:path fill="lighten" w="21600" h="29690">
                <a:moveTo>
                  <a:pt x="0" y="29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0"/>
                </a:lnTo>
                <a:close/>
              </a:path>
              <a:path fill="darken" w="21600" h="29690">
                <a:moveTo>
                  <a:pt x="10800" y="7882"/>
                </a:moveTo>
                <a:lnTo>
                  <a:pt x="13376" y="10493"/>
                </a:lnTo>
                <a:lnTo>
                  <a:pt x="13376" y="8752"/>
                </a:lnTo>
                <a:lnTo>
                  <a:pt x="15152" y="8752"/>
                </a:lnTo>
                <a:lnTo>
                  <a:pt x="15152" y="12269"/>
                </a:lnTo>
                <a:lnTo>
                  <a:pt x="17763" y="14845"/>
                </a:lnTo>
                <a:lnTo>
                  <a:pt x="16109" y="14845"/>
                </a:lnTo>
                <a:lnTo>
                  <a:pt x="16109" y="22034"/>
                </a:lnTo>
                <a:lnTo>
                  <a:pt x="5491" y="22034"/>
                </a:lnTo>
                <a:lnTo>
                  <a:pt x="5491" y="14845"/>
                </a:lnTo>
                <a:lnTo>
                  <a:pt x="3837" y="14845"/>
                </a:lnTo>
                <a:close/>
              </a:path>
              <a:path fill="darkenLess" w="21600" h="29690">
                <a:moveTo>
                  <a:pt x="13376" y="10493"/>
                </a:moveTo>
                <a:lnTo>
                  <a:pt x="13376" y="8752"/>
                </a:lnTo>
                <a:lnTo>
                  <a:pt x="15152" y="8752"/>
                </a:lnTo>
                <a:lnTo>
                  <a:pt x="15152" y="12269"/>
                </a:lnTo>
                <a:close/>
              </a:path>
              <a:path fill="darkenLess" w="21600" h="29690">
                <a:moveTo>
                  <a:pt x="9877" y="18344"/>
                </a:moveTo>
                <a:lnTo>
                  <a:pt x="11723" y="18344"/>
                </a:lnTo>
                <a:lnTo>
                  <a:pt x="11723" y="22034"/>
                </a:lnTo>
                <a:lnTo>
                  <a:pt x="16109" y="22034"/>
                </a:lnTo>
                <a:lnTo>
                  <a:pt x="16109" y="14845"/>
                </a:lnTo>
                <a:lnTo>
                  <a:pt x="5491" y="14845"/>
                </a:lnTo>
                <a:lnTo>
                  <a:pt x="5491" y="22034"/>
                </a:lnTo>
                <a:lnTo>
                  <a:pt x="9877" y="2203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уменьшается длина рельса при его охлажден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49440" y="50846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214800"/>
            <a:ext cx="446544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ояние между ее молекулами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812000" y="551664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10800" y="5055"/>
                </a:moveTo>
                <a:lnTo>
                  <a:pt x="13376" y="7666"/>
                </a:lnTo>
                <a:lnTo>
                  <a:pt x="13376" y="5925"/>
                </a:lnTo>
                <a:lnTo>
                  <a:pt x="15152" y="5925"/>
                </a:lnTo>
                <a:lnTo>
                  <a:pt x="15152" y="9442"/>
                </a:lnTo>
                <a:lnTo>
                  <a:pt x="17763" y="12018"/>
                </a:lnTo>
                <a:lnTo>
                  <a:pt x="16109" y="12018"/>
                </a:lnTo>
                <a:lnTo>
                  <a:pt x="16109" y="19207"/>
                </a:lnTo>
                <a:lnTo>
                  <a:pt x="5491" y="19207"/>
                </a:lnTo>
                <a:lnTo>
                  <a:pt x="5491" y="12018"/>
                </a:lnTo>
                <a:lnTo>
                  <a:pt x="3837" y="12018"/>
                </a:lnTo>
                <a:close/>
              </a:path>
              <a:path fill="darkenLess" w="21600" h="24036">
                <a:moveTo>
                  <a:pt x="13376" y="7666"/>
                </a:moveTo>
                <a:lnTo>
                  <a:pt x="13376" y="5925"/>
                </a:lnTo>
                <a:lnTo>
                  <a:pt x="15152" y="5925"/>
                </a:lnTo>
                <a:lnTo>
                  <a:pt x="15152" y="9442"/>
                </a:lnTo>
                <a:close/>
              </a:path>
              <a:path fill="darkenLess" w="21600" h="24036">
                <a:moveTo>
                  <a:pt x="9877" y="15517"/>
                </a:moveTo>
                <a:lnTo>
                  <a:pt x="11723" y="15517"/>
                </a:lnTo>
                <a:lnTo>
                  <a:pt x="11723" y="19207"/>
                </a:lnTo>
                <a:lnTo>
                  <a:pt x="16109" y="19207"/>
                </a:lnTo>
                <a:lnTo>
                  <a:pt x="16109" y="12018"/>
                </a:lnTo>
                <a:lnTo>
                  <a:pt x="5491" y="12018"/>
                </a:lnTo>
                <a:lnTo>
                  <a:pt x="5491" y="19207"/>
                </a:lnTo>
                <a:lnTo>
                  <a:pt x="9877" y="1920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Картинка 12 из 45302"/>
          <p:cNvPicPr/>
          <p:nvPr/>
        </p:nvPicPr>
        <p:blipFill>
          <a:blip r:embed="rId2"/>
          <a:stretch/>
        </p:blipFill>
        <p:spPr>
          <a:xfrm>
            <a:off x="1403280" y="3068640"/>
            <a:ext cx="36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 сильный мороз палец примерзает к металлу, а к дереву не примерза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20920" y="4672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-за интенсивного отвода тепла металлом влага на пальце быстро замерзает. Дерево тепло отводит плохо, что позволяет долго держать теплый палец на охлажденной деревянной поверхности без примерз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524720" y="558972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высказал предположение, что «белый цвет есть причина всех цветов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01800" y="4797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Картинка 59 из 10022"/>
          <p:cNvPicPr/>
          <p:nvPr/>
        </p:nvPicPr>
        <p:blipFill>
          <a:blip r:embed="rId2"/>
          <a:stretch/>
        </p:blipFill>
        <p:spPr>
          <a:xfrm>
            <a:off x="971640" y="2565360"/>
            <a:ext cx="36957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.С.Пушкин. Евгений Онег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кно увидела Тат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утру побелевший дв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тина, кровли и заб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теклах легкие уз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ья в зимнем серебре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Что представляют собой, с точки зрения физики, "на стеклах легкие узоры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5440" y="5734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7740720" y="5516640"/>
            <a:ext cx="718920" cy="936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936720"/>
              <a:gd name="textAreaBottom" fmla="*/ 890280 h 936720"/>
            </a:gdLst>
            <a:ahLst/>
            <a:rect l="textAreaLeft" t="textAreaTop" r="textAreaRight" b="textAreaBottom"/>
            <a:pathLst>
              <a:path w="21600" h="28141">
                <a:moveTo>
                  <a:pt x="0" y="0"/>
                </a:moveTo>
                <a:lnTo>
                  <a:pt x="21600" y="0"/>
                </a:lnTo>
                <a:lnTo>
                  <a:pt x="21600" y="28141"/>
                </a:lnTo>
                <a:lnTo>
                  <a:pt x="0" y="28141"/>
                </a:lnTo>
                <a:close/>
              </a:path>
              <a:path fill="lightenLess" w="21600" h="28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41">
                <a:moveTo>
                  <a:pt x="21600" y="0"/>
                </a:moveTo>
                <a:lnTo>
                  <a:pt x="21600" y="28141"/>
                </a:lnTo>
                <a:lnTo>
                  <a:pt x="20200" y="26741"/>
                </a:lnTo>
                <a:lnTo>
                  <a:pt x="20200" y="1400"/>
                </a:lnTo>
                <a:close/>
              </a:path>
              <a:path fill="darkenLess" w="21600" h="28141">
                <a:moveTo>
                  <a:pt x="21600" y="28141"/>
                </a:moveTo>
                <a:lnTo>
                  <a:pt x="0" y="28141"/>
                </a:lnTo>
                <a:lnTo>
                  <a:pt x="1400" y="26741"/>
                </a:lnTo>
                <a:lnTo>
                  <a:pt x="20200" y="26741"/>
                </a:lnTo>
                <a:close/>
              </a:path>
              <a:path fill="lighten" w="21600" h="28141">
                <a:moveTo>
                  <a:pt x="0" y="28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41"/>
                </a:lnTo>
                <a:close/>
              </a:path>
              <a:path fill="darken" w="21600" h="28141">
                <a:moveTo>
                  <a:pt x="10800" y="7107"/>
                </a:moveTo>
                <a:lnTo>
                  <a:pt x="13376" y="9718"/>
                </a:lnTo>
                <a:lnTo>
                  <a:pt x="13376" y="7978"/>
                </a:lnTo>
                <a:lnTo>
                  <a:pt x="15152" y="7978"/>
                </a:lnTo>
                <a:lnTo>
                  <a:pt x="15152" y="11494"/>
                </a:lnTo>
                <a:lnTo>
                  <a:pt x="17763" y="14070"/>
                </a:lnTo>
                <a:lnTo>
                  <a:pt x="16109" y="14070"/>
                </a:lnTo>
                <a:lnTo>
                  <a:pt x="16109" y="21260"/>
                </a:lnTo>
                <a:lnTo>
                  <a:pt x="5491" y="21260"/>
                </a:lnTo>
                <a:lnTo>
                  <a:pt x="5491" y="14070"/>
                </a:lnTo>
                <a:lnTo>
                  <a:pt x="3837" y="14070"/>
                </a:lnTo>
                <a:close/>
              </a:path>
              <a:path fill="darkenLess" w="21600" h="28141">
                <a:moveTo>
                  <a:pt x="13376" y="9718"/>
                </a:moveTo>
                <a:lnTo>
                  <a:pt x="13376" y="7978"/>
                </a:lnTo>
                <a:lnTo>
                  <a:pt x="15152" y="7978"/>
                </a:lnTo>
                <a:lnTo>
                  <a:pt x="15152" y="11494"/>
                </a:lnTo>
                <a:close/>
              </a:path>
              <a:path fill="darkenLess" w="21600" h="28141">
                <a:moveTo>
                  <a:pt x="9877" y="17569"/>
                </a:moveTo>
                <a:lnTo>
                  <a:pt x="11723" y="17569"/>
                </a:lnTo>
                <a:lnTo>
                  <a:pt x="11723" y="21260"/>
                </a:lnTo>
                <a:lnTo>
                  <a:pt x="16109" y="21260"/>
                </a:lnTo>
                <a:lnTo>
                  <a:pt x="16109" y="14070"/>
                </a:lnTo>
                <a:lnTo>
                  <a:pt x="5491" y="14070"/>
                </a:lnTo>
                <a:lnTo>
                  <a:pt x="5491" y="21260"/>
                </a:lnTo>
                <a:lnTo>
                  <a:pt x="9877" y="2126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Картинка 3 из 23553"/>
          <p:cNvPicPr/>
          <p:nvPr/>
        </p:nvPicPr>
        <p:blipFill>
          <a:blip r:embed="rId2"/>
          <a:stretch/>
        </p:blipFill>
        <p:spPr>
          <a:xfrm>
            <a:off x="2987640" y="1989000"/>
            <a:ext cx="2886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а силы электрического ток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2682720" cy="3576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002000" y="4672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диница силы электрического тока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мп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76720" y="2637000"/>
            <a:ext cx="2682720" cy="3576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956720" y="5661000"/>
            <a:ext cx="502920" cy="720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720720"/>
              <a:gd name="textAreaBottom" fmla="*/ 688320 h 720720"/>
            </a:gdLst>
            <a:ahLst/>
            <a:rect l="textAreaLeft" t="textAreaTop" r="textAreaRight" b="textAreaBottom"/>
            <a:pathLst>
              <a:path w="21600" h="30948">
                <a:moveTo>
                  <a:pt x="0" y="0"/>
                </a:moveTo>
                <a:lnTo>
                  <a:pt x="21600" y="0"/>
                </a:lnTo>
                <a:lnTo>
                  <a:pt x="21600" y="30948"/>
                </a:lnTo>
                <a:lnTo>
                  <a:pt x="0" y="30948"/>
                </a:lnTo>
                <a:close/>
              </a:path>
              <a:path fill="lightenLess" w="21600" h="309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948">
                <a:moveTo>
                  <a:pt x="21600" y="0"/>
                </a:moveTo>
                <a:lnTo>
                  <a:pt x="21600" y="30948"/>
                </a:lnTo>
                <a:lnTo>
                  <a:pt x="20200" y="29548"/>
                </a:lnTo>
                <a:lnTo>
                  <a:pt x="20200" y="1400"/>
                </a:lnTo>
                <a:close/>
              </a:path>
              <a:path fill="darkenLess" w="21600" h="30948">
                <a:moveTo>
                  <a:pt x="21600" y="30948"/>
                </a:moveTo>
                <a:lnTo>
                  <a:pt x="0" y="30948"/>
                </a:lnTo>
                <a:lnTo>
                  <a:pt x="1400" y="29548"/>
                </a:lnTo>
                <a:lnTo>
                  <a:pt x="20200" y="29548"/>
                </a:lnTo>
                <a:close/>
              </a:path>
              <a:path fill="lighten" w="21600" h="30948">
                <a:moveTo>
                  <a:pt x="0" y="309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9548"/>
                </a:lnTo>
                <a:close/>
              </a:path>
              <a:path fill="darken" w="21600" h="30948">
                <a:moveTo>
                  <a:pt x="10800" y="8511"/>
                </a:moveTo>
                <a:lnTo>
                  <a:pt x="13376" y="11122"/>
                </a:lnTo>
                <a:lnTo>
                  <a:pt x="13376" y="9381"/>
                </a:lnTo>
                <a:lnTo>
                  <a:pt x="15152" y="9381"/>
                </a:lnTo>
                <a:lnTo>
                  <a:pt x="15152" y="12898"/>
                </a:lnTo>
                <a:lnTo>
                  <a:pt x="17763" y="15474"/>
                </a:lnTo>
                <a:lnTo>
                  <a:pt x="16109" y="15474"/>
                </a:lnTo>
                <a:lnTo>
                  <a:pt x="16109" y="22663"/>
                </a:lnTo>
                <a:lnTo>
                  <a:pt x="5491" y="22663"/>
                </a:lnTo>
                <a:lnTo>
                  <a:pt x="5491" y="15474"/>
                </a:lnTo>
                <a:lnTo>
                  <a:pt x="3837" y="15474"/>
                </a:lnTo>
                <a:close/>
              </a:path>
              <a:path fill="darkenLess" w="21600" h="30948">
                <a:moveTo>
                  <a:pt x="13376" y="11122"/>
                </a:moveTo>
                <a:lnTo>
                  <a:pt x="13376" y="9381"/>
                </a:lnTo>
                <a:lnTo>
                  <a:pt x="15152" y="9381"/>
                </a:lnTo>
                <a:lnTo>
                  <a:pt x="15152" y="12898"/>
                </a:lnTo>
                <a:close/>
              </a:path>
              <a:path fill="darkenLess" w="21600" h="30948">
                <a:moveTo>
                  <a:pt x="9877" y="18973"/>
                </a:moveTo>
                <a:lnTo>
                  <a:pt x="11723" y="18973"/>
                </a:lnTo>
                <a:lnTo>
                  <a:pt x="11723" y="22663"/>
                </a:lnTo>
                <a:lnTo>
                  <a:pt x="16109" y="22663"/>
                </a:lnTo>
                <a:lnTo>
                  <a:pt x="16109" y="15474"/>
                </a:lnTo>
                <a:lnTo>
                  <a:pt x="5491" y="15474"/>
                </a:lnTo>
                <a:lnTo>
                  <a:pt x="5491" y="22663"/>
                </a:lnTo>
                <a:lnTo>
                  <a:pt x="9877" y="2266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исталлики замерзшей воды, ее твердое состояние.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752472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3896" y="3837"/>
                </a:moveTo>
                <a:lnTo>
                  <a:pt x="16472" y="6448"/>
                </a:ln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lnTo>
                  <a:pt x="20859" y="10800"/>
                </a:lnTo>
                <a:lnTo>
                  <a:pt x="19205" y="10800"/>
                </a:lnTo>
                <a:lnTo>
                  <a:pt x="19205" y="17989"/>
                </a:lnTo>
                <a:lnTo>
                  <a:pt x="8586" y="17989"/>
                </a:lnTo>
                <a:lnTo>
                  <a:pt x="8586" y="10800"/>
                </a:lnTo>
                <a:lnTo>
                  <a:pt x="6933" y="10800"/>
                </a:lnTo>
                <a:close/>
              </a:path>
              <a:path fill="darkenLess" w="27791" h="21600">
                <a:moveTo>
                  <a:pt x="16472" y="6448"/>
                </a:move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close/>
              </a:path>
              <a:path fill="darkenLess" w="27791" h="21600">
                <a:moveTo>
                  <a:pt x="12973" y="14299"/>
                </a:moveTo>
                <a:lnTo>
                  <a:pt x="14818" y="14299"/>
                </a:lnTo>
                <a:lnTo>
                  <a:pt x="14818" y="17989"/>
                </a:lnTo>
                <a:lnTo>
                  <a:pt x="19205" y="17989"/>
                </a:lnTo>
                <a:lnTo>
                  <a:pt x="19205" y="10800"/>
                </a:lnTo>
                <a:lnTo>
                  <a:pt x="8586" y="10800"/>
                </a:lnTo>
                <a:lnTo>
                  <a:pt x="8586" y="17989"/>
                </a:lnTo>
                <a:lnTo>
                  <a:pt x="1297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а 2 из 2719">
            <a:hlinkClick r:id="rId2"/>
          </p:cNvPr>
          <p:cNvPicPr/>
          <p:nvPr/>
        </p:nvPicPr>
        <p:blipFill>
          <a:blip r:embed="rId3"/>
          <a:stretch/>
        </p:blipFill>
        <p:spPr>
          <a:xfrm rot="21365400">
            <a:off x="468360" y="321300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Картинка 3 из 2719">
            <a:hlinkClick r:id="rId4"/>
          </p:cNvPr>
          <p:cNvPicPr/>
          <p:nvPr/>
        </p:nvPicPr>
        <p:blipFill>
          <a:blip r:embed="rId5"/>
          <a:stretch/>
        </p:blipFill>
        <p:spPr>
          <a:xfrm rot="372600">
            <a:off x="5003640" y="2707920"/>
            <a:ext cx="360072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.С.Пушкин. "К Овидию"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бодные поля взрывал уж ранний плуг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ть веял ветерок, под вечер холодея;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два прозрачный лед, над озером тускне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сталлом покрывал недвижные стру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Что означает, используемое в стихотворении греческое слово "кристалл"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65280" y="5751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6624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Л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524720" y="558972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Картинка 18 из 797287">
            <a:hlinkClick r:id="rId2"/>
          </p:cNvPr>
          <p:cNvPicPr/>
          <p:nvPr/>
        </p:nvPicPr>
        <p:blipFill>
          <a:blip r:embed="rId3"/>
          <a:stretch/>
        </p:blipFill>
        <p:spPr>
          <a:xfrm rot="21244800">
            <a:off x="468360" y="2636640"/>
            <a:ext cx="4429080" cy="332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4 из 797287">
            <a:hlinkClick r:id="rId4"/>
          </p:cNvPr>
          <p:cNvPicPr/>
          <p:nvPr/>
        </p:nvPicPr>
        <p:blipFill>
          <a:blip r:embed="rId5"/>
          <a:stretch/>
        </p:blipFill>
        <p:spPr>
          <a:xfrm rot="346800">
            <a:off x="4643280" y="1773000"/>
            <a:ext cx="42674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ятней модного парк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истает речка, льдом од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ьчишек радостный нар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ьками звучно режет лед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Почему коньки "режут" лед и почему они  хорошо скользят по ль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76560" y="5896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1:45:40Z</dcterms:created>
  <dc:creator>Zver</dc:creator>
  <dc:description/>
  <dc:language>en-US</dc:language>
  <cp:lastModifiedBy>Admin</cp:lastModifiedBy>
  <dcterms:modified xsi:type="dcterms:W3CDTF">2013-09-04T06:38:58Z</dcterms:modified>
  <cp:revision>11</cp:revision>
  <dc:subject/>
  <dc:title>Интеллектуальная игра «Юные физики»</dc:title>
</cp:coreProperties>
</file>