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10.jpeg" ContentType="image/jpeg"/>
  <Override PartName="/ppt/media/image8.jpeg" ContentType="image/jpeg"/>
  <Override PartName="/ppt/media/image25.gif" ContentType="image/gif"/>
  <Override PartName="/ppt/media/image5.jpeg" ContentType="image/jpeg"/>
  <Override PartName="/ppt/media/image4.png" ContentType="image/png"/>
  <Override PartName="/ppt/media/image3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0.jpeg" ContentType="image/jpeg"/>
  <Override PartName="/ppt/media/image18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C1A8E-D792-4356-B20A-8DCED8A0EE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E672-FDC6-4825-897E-2542A0F49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EB2F-2DC3-4C1D-A677-4EB3D1B936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6603E-32CD-4341-9568-3869D782D7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B3AF4-CFDD-42A3-A4F7-C7AFB5152B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4E8045-094C-4DE9-A308-443FC37A1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B46AD7-89F8-43D5-BDC2-7A371FEE1C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66C96D-205F-4D45-A54C-66282792E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8AEAF5-5ACA-4348-AFC0-B328C41A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14904-F260-4185-9851-FCBE88C30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4A6D5A-6EDB-4A5E-8B75-017B11FBDB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6C707-5657-43F5-B630-94D9A72767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CD4E0-D7EF-4493-BEE9-1B7ADBC9D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48003-80E7-46F7-94AD-31F605600E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0A388-8528-4AD4-A5EB-D2875B68F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7CEB0-D207-40DF-804E-DF2FFB53A5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B6350E-081C-4350-8BE7-1551F22D9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22500-E142-4B42-9115-E037A42DF8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3E68B-C81D-4D42-AD4A-ECD8D56308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F6822-A008-48AE-9271-4F501E004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BF879-D84B-4400-826E-F3CC0E74D2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C44D-30A0-4270-AA3A-EB1172231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1FEA8-7791-4BF5-9641-231590CAA8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310E4-F2FB-4228-AA44-0E0843EEF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A099E-793C-44FA-A365-1E6EE591067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4B5BB-594F-4973-8BD3-F0D329715A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otinok.co.il/sites/default/files/images/s-6334b9a6e987ffc63135b58ab3852968_,,.jpg" TargetMode="External"/><Relationship Id="rId3" Type="http://schemas.openxmlformats.org/officeDocument/2006/relationships/image" Target="../media/image8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bms.24open.ru/images/dcc7f9fbdbaf5e209ac394fa5cf3ae9a" TargetMode="External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iphone3gua.com/assets/images/news/11-09-2009/rf2010-scr01.jpg" TargetMode="External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image" Target="../media/image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0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0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0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gif"/><Relationship Id="rId3" Type="http://schemas.openxmlformats.org/officeDocument/2006/relationships/image" Target="../media/image26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klezk.ucoz.ru/_ph/3/403844485.jpg" TargetMode="Externa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 txBox="1"/>
          <p:nvPr/>
        </p:nvSpPr>
        <p:spPr>
          <a:xfrm>
            <a:off x="179280" y="1773360"/>
            <a:ext cx="8715600" cy="942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Три состояния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2268360" y="3933720"/>
            <a:ext cx="3781440" cy="9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вещества</a:t>
            </a:r>
            <a:endParaRPr b="1" lang="en-US" sz="6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Картинка 15 из 11046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476280"/>
            <a:ext cx="9144000" cy="6089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Картинка 0 из 46251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260280"/>
            <a:ext cx="914400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1403"/>
                </a:solidFill>
                <a:latin typeface="Arial"/>
              </a:rPr>
              <a:t>Исследование механических свойств газов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.Сохраняется ли форма газообразного тела при неизменной температур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2.Сохраняется ли объем газа при неизменной температур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Возможен ли переход газа в другое состояние? Каким образом это можно осуществит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4.Как можно объяснить свойства газов с точки зрения молекулярного строения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4427640" y="1916280"/>
            <a:ext cx="4537080" cy="350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Газы  не  имеют  собственной  формы и постоянного  объема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Они  принимают  форму  сосуда  и  полностью  заполняют весь представленный  им  объе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032200" y="333360"/>
            <a:ext cx="49035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ahoma"/>
              </a:rPr>
              <a:t>Свойства газов.</a:t>
            </a: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250920" y="1268280"/>
            <a:ext cx="3878280" cy="532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116000" y="3133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0" y="1700280"/>
            <a:ext cx="5796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Молекулы  газов находятся на расстояниях, намного превышающих их размеры, поэтому не притягиваются друг к другу; они  непрерывно движутся с огромными скоростями,</a:t>
            </a:r>
            <a:r>
              <a:rPr b="0" lang="ru-RU" sz="1800" spc="-1" strike="noStrike">
                <a:solidFill>
                  <a:srgbClr val="000066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и поэтому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1403"/>
                </a:solidFill>
                <a:latin typeface="Tahoma"/>
              </a:rPr>
              <a:t>газы заполняют весь предоставленный объем, принимая форму сосуда</a:t>
            </a:r>
            <a:r>
              <a:rPr b="1" lang="ru-RU" sz="2800" spc="-1" strike="noStrike">
                <a:solidFill>
                  <a:srgbClr val="800080"/>
                </a:solidFill>
                <a:latin typeface="Tahoma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5730840" y="1989000"/>
            <a:ext cx="3267000" cy="446436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166040" y="260280"/>
            <a:ext cx="71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ahoma"/>
              </a:rPr>
              <a:t>Расположение молеку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800080"/>
                </a:solidFill>
                <a:latin typeface="Tahoma"/>
              </a:rPr>
              <a:t>в газах.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Картинка 132 из 96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392040"/>
            <a:ext cx="9144000" cy="607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179280" y="476280"/>
            <a:ext cx="864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80"/>
                </a:solidFill>
                <a:latin typeface="Tahoma"/>
              </a:rPr>
              <a:t>ИНТЕРЕСНЫЕ ФАКТ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Tahoma"/>
              </a:rPr>
              <a:t>Интересные вещи происходят с обитателями водоемов в озерах, когда температура воздуха опускается до минусовой температуры и вода замерзает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>
            <a:off x="1476360" y="2349360"/>
            <a:ext cx="6264360" cy="421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rcRect l="0" t="0" r="3588" b="0"/>
          <a:stretch/>
        </p:blipFill>
        <p:spPr>
          <a:xfrm>
            <a:off x="3708360" y="189000"/>
            <a:ext cx="4608720" cy="29527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/>
          <p:nvPr/>
        </p:nvSpPr>
        <p:spPr>
          <a:xfrm>
            <a:off x="250920" y="3108240"/>
            <a:ext cx="889308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Вода ведет себя не так как другие вещества. Вода  сжимается и превращается в более плотное вещество, когда она охлаждается до 4 </a:t>
            </a:r>
            <a:r>
              <a:rPr b="1" lang="en-US" sz="2000" spc="-1" strike="noStrike" baseline="30000">
                <a:solidFill>
                  <a:srgbClr val="003300"/>
                </a:solidFill>
                <a:latin typeface="Tahoma"/>
              </a:rPr>
              <a:t>0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C. При температуре от 4</a:t>
            </a:r>
            <a:r>
              <a:rPr b="1" lang="en-US" sz="2000" spc="-1" strike="noStrike" baseline="30000">
                <a:solidFill>
                  <a:srgbClr val="003300"/>
                </a:solidFill>
                <a:latin typeface="Tahoma"/>
              </a:rPr>
              <a:t>0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C до 0</a:t>
            </a:r>
            <a:r>
              <a:rPr b="1" lang="en-US" sz="2000" spc="-1" strike="noStrike" baseline="30000">
                <a:solidFill>
                  <a:srgbClr val="003300"/>
                </a:solidFill>
                <a:latin typeface="Tahoma"/>
              </a:rPr>
              <a:t>0</a:t>
            </a: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C вода снова увеличивается в объеме. По мере увеличения в объеме, вода становится менее плотной, чем вода, которая окружает ее, и вода вновь поднимается. Вода продолжает увеличиваться в объеме по мере ее замерзания на поверхности. Пласт льда на поверхности воды действует как изоляционный материал. Он предотвращает высвобождение тепла из воды, находящейся подо льдом. Рыбы и другие обитатели озер приспособлены к жизни под толстым слоем льда в зимнее время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142400" y="852480"/>
            <a:ext cx="25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0920" y="1557360"/>
            <a:ext cx="324144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00"/>
                </a:solidFill>
                <a:latin typeface="Tahoma"/>
              </a:rPr>
              <a:t>Вы знаете, что лед образуется на водной поверхности озер и рек, и лед плавает на поверхности во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 txBox="1"/>
          <p:nvPr/>
        </p:nvSpPr>
        <p:spPr>
          <a:xfrm>
            <a:off x="3059280" y="476280"/>
            <a:ext cx="3095280" cy="14097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3366ff"/>
                </a:solidFill>
                <a:latin typeface="Arial"/>
              </a:rPr>
              <a:t>Итак,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3366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1763640" y="2637000"/>
            <a:ext cx="5600880" cy="2724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подведем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96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ff"/>
                </a:solidFill>
                <a:latin typeface="Arial"/>
              </a:rPr>
              <a:t>итоги...</a:t>
            </a:r>
            <a:endParaRPr b="1" lang="en-US" sz="9600" spc="1" strike="noStrike">
              <a:ln w="9360">
                <a:solidFill>
                  <a:srgbClr val="000000"/>
                </a:solidFill>
                <a:miter/>
              </a:ln>
              <a:solidFill>
                <a:srgbClr val="0000ff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539640" y="3645000"/>
            <a:ext cx="2127240" cy="281916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24000" y="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0080"/>
                </a:solidFill>
                <a:latin typeface="Arial"/>
              </a:rPr>
              <a:t>Изменение физических свойств веществ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0" y="1413000"/>
            <a:ext cx="3348000" cy="21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1403"/>
                </a:solidFill>
                <a:latin typeface="Arial"/>
              </a:rPr>
              <a:t>Газы не имеют формы, они занимают весь </a:t>
            </a:r>
            <a:r>
              <a:rPr b="1" i="1" lang="en-US" sz="2400" spc="-1" strike="noStrike">
                <a:solidFill>
                  <a:srgbClr val="f71403"/>
                </a:solidFill>
                <a:latin typeface="Arial"/>
              </a:rPr>
              <a:t>предоставленный </a:t>
            </a:r>
            <a:r>
              <a:rPr b="1" i="1" lang="en-US" sz="2800" spc="-1" strike="noStrike">
                <a:solidFill>
                  <a:srgbClr val="f71403"/>
                </a:solidFill>
                <a:latin typeface="Arial"/>
              </a:rPr>
              <a:t>объё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276720" y="1600200"/>
            <a:ext cx="0" cy="4724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3"/>
          <a:stretch/>
        </p:blipFill>
        <p:spPr>
          <a:xfrm>
            <a:off x="3492360" y="4005360"/>
            <a:ext cx="2376720" cy="216828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3348000" y="1557360"/>
            <a:ext cx="280836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1403"/>
                </a:solidFill>
                <a:latin typeface="Arial"/>
              </a:rPr>
              <a:t>Жидкости принимают форму сосуда и сохраняют объе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095880" y="1600200"/>
            <a:ext cx="0" cy="472428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84720" y="1557360"/>
            <a:ext cx="30592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71403"/>
                </a:solidFill>
                <a:latin typeface="Arial"/>
              </a:rPr>
              <a:t>Твёрдые тела сохраняют постоянную форму и объё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6227640" y="4051440"/>
            <a:ext cx="2737080" cy="205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1116000" y="278136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133720"/>
            <a:ext cx="236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68360" y="342900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0920" y="2565360"/>
            <a:ext cx="2673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в</a:t>
            </a:r>
            <a:r>
              <a:rPr b="1" lang="en-US" sz="3200" spc="-1" strike="noStrike">
                <a:solidFill>
                  <a:srgbClr val="009900"/>
                </a:solidFill>
                <a:latin typeface="Tahoma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тверд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700360" y="335772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00"/>
                </a:solidFill>
                <a:latin typeface="Tahoma"/>
              </a:rPr>
              <a:t>      </a:t>
            </a:r>
            <a:r>
              <a:rPr b="1" lang="en-US" sz="3200" spc="-1" strike="noStrike">
                <a:solidFill>
                  <a:srgbClr val="ff0000"/>
                </a:solidFill>
                <a:latin typeface="Tahoma"/>
              </a:rPr>
              <a:t>жидк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693760" y="3789360"/>
            <a:ext cx="31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71403"/>
                </a:solidFill>
                <a:latin typeface="Tahoma"/>
              </a:rPr>
              <a:t>газообразно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8604360" y="476280"/>
            <a:ext cx="244440" cy="24444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179280" y="189000"/>
            <a:ext cx="86425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66"/>
                </a:solidFill>
                <a:latin typeface="Tahoma"/>
              </a:rPr>
              <a:t>Любое вещество в зависимости от внешних условий может находиться в одном из трех агрегатных состояний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4000" y="-17136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800080"/>
                </a:solidFill>
                <a:latin typeface="Arial"/>
              </a:rPr>
              <a:t>Причина этого - характер движения и взаимодействия частиц в веществе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971800" y="1600200"/>
            <a:ext cx="0" cy="487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172200" y="1600200"/>
            <a:ext cx="0" cy="4876920"/>
          </a:xfrm>
          <a:prstGeom prst="line">
            <a:avLst/>
          </a:prstGeom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1125360"/>
            <a:ext cx="29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В газах молекулы непрерывно движутся от столкновения до столкнов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0" y="5661000"/>
            <a:ext cx="298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Взаимодействие практически отсутству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43280" y="1197000"/>
            <a:ext cx="338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В жидкостях  молекулы колеблются и перескакивают на свободные мест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156360" y="1197000"/>
            <a:ext cx="2987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В твёрдых телах молекулы колеблются около положения равновеси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227640" y="6035760"/>
            <a:ext cx="291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Взаимодействие сильн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59280" y="6035760"/>
            <a:ext cx="2952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66"/>
                </a:solidFill>
                <a:latin typeface="Arial"/>
              </a:rPr>
              <a:t>Взаимодействие слаб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6300720" y="3213000"/>
            <a:ext cx="2637000" cy="280836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3"/>
          <a:stretch/>
        </p:blipFill>
        <p:spPr>
          <a:xfrm>
            <a:off x="3203640" y="3284640"/>
            <a:ext cx="2616120" cy="273672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4"/>
          <a:stretch/>
        </p:blipFill>
        <p:spPr>
          <a:xfrm>
            <a:off x="324000" y="3141720"/>
            <a:ext cx="204444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323640" y="533160"/>
            <a:ext cx="8134200" cy="66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en-US" sz="3100" spc="-1" strike="noStrike">
                <a:solidFill>
                  <a:srgbClr val="800080"/>
                </a:solidFill>
                <a:latin typeface="Arial"/>
              </a:rPr>
              <a:t>Примеры процессов, при которых происходят превращения веществ из одного состояния в другое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2049480" y="1771560"/>
            <a:ext cx="5330880" cy="327024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01680" y="5316480"/>
            <a:ext cx="8540640" cy="78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Comic Sans MS"/>
              </a:rPr>
              <a:t>Плавление - таяние льда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6600ff"/>
                </a:solidFill>
                <a:latin typeface="Comic Sans MS"/>
              </a:rPr>
              <a:t>     </a:t>
            </a:r>
            <a:r>
              <a:rPr b="1" lang="en-US" sz="5200" spc="-1" strike="noStrike">
                <a:solidFill>
                  <a:srgbClr val="800080"/>
                </a:solidFill>
                <a:latin typeface="Comic Sans MS"/>
              </a:rPr>
              <a:t>Кристаллизация</a:t>
            </a:r>
            <a:endParaRPr b="0" lang="en-US" sz="5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2050920" y="1557360"/>
            <a:ext cx="5256360" cy="3384360"/>
          </a:xfrm>
          <a:prstGeom prst="rect">
            <a:avLst/>
          </a:prstGeom>
          <a:ln w="0">
            <a:noFill/>
          </a:ln>
        </p:spPr>
      </p:pic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01680" y="5235120"/>
            <a:ext cx="854064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6600ff"/>
                </a:solidFill>
                <a:latin typeface="Comic Sans MS"/>
              </a:rPr>
              <a:t>          </a:t>
            </a:r>
            <a:r>
              <a:rPr b="1" lang="en-US" sz="3500" spc="-1" strike="noStrike">
                <a:solidFill>
                  <a:srgbClr val="000066"/>
                </a:solidFill>
                <a:latin typeface="Comic Sans MS"/>
              </a:rPr>
              <a:t>замерзание воды</a:t>
            </a:r>
            <a:endParaRPr b="0" lang="en-US" sz="3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400" spc="-1" strike="noStrike">
                <a:solidFill>
                  <a:srgbClr val="ffffff"/>
                </a:solidFill>
                <a:latin typeface="Comic Sans MS"/>
              </a:rPr>
              <a:t>   </a:t>
            </a:r>
            <a:r>
              <a:rPr b="1" lang="en-US" sz="6400" spc="-1" strike="noStrike">
                <a:solidFill>
                  <a:srgbClr val="800080"/>
                </a:solidFill>
                <a:latin typeface="Comic Sans MS"/>
              </a:rPr>
              <a:t>Парообразование</a:t>
            </a:r>
            <a:endParaRPr b="0" lang="en-US" sz="6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2411280" y="1773360"/>
            <a:ext cx="4899240" cy="345096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301680" y="5478480"/>
            <a:ext cx="854064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en-US" sz="2800" spc="-1" strike="noStrike">
                <a:solidFill>
                  <a:srgbClr val="000066"/>
                </a:solidFill>
                <a:latin typeface="Comic Sans MS"/>
              </a:rPr>
              <a:t>Испарение воды, выбрасываемой гейзеро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ffff"/>
                </a:solidFill>
                <a:latin typeface="Comic Sans MS"/>
              </a:rPr>
              <a:t>     </a:t>
            </a:r>
            <a:r>
              <a:rPr b="1" lang="en-US" sz="4700" spc="-1" strike="noStrike">
                <a:solidFill>
                  <a:srgbClr val="800080"/>
                </a:solidFill>
                <a:latin typeface="Comic Sans MS"/>
              </a:rPr>
              <a:t>Конденсация –</a:t>
            </a:r>
            <a:endParaRPr b="0" lang="en-US" sz="47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2556000" y="1413000"/>
            <a:ext cx="4959360" cy="37209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565440" y="5443560"/>
            <a:ext cx="349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образование облаков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ffff"/>
                </a:solidFill>
                <a:latin typeface="Arial"/>
              </a:rPr>
              <a:t>           </a:t>
            </a:r>
            <a:r>
              <a:rPr b="1" lang="en-US" sz="4400" spc="-1" strike="noStrike">
                <a:solidFill>
                  <a:srgbClr val="800080"/>
                </a:solidFill>
                <a:latin typeface="Comic Sans MS"/>
              </a:rPr>
              <a:t>РЕШИ КРОССВОРД</a:t>
            </a:r>
            <a:br>
              <a:rPr sz="4400"/>
            </a:b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0" y="920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7758000" y="614196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7207200" y="6141960"/>
            <a:ext cx="550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6657840" y="614196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108840" y="6141960"/>
            <a:ext cx="5490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559480" y="614196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008680" y="6141960"/>
            <a:ext cx="550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459320" y="614196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09960" y="614196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359160" y="6141960"/>
            <a:ext cx="550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809800" y="614196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260440" y="614196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711440" y="6141960"/>
            <a:ext cx="5490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187280" y="6141960"/>
            <a:ext cx="5241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11280" y="6141960"/>
            <a:ext cx="5760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758000" y="564048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207200" y="5640480"/>
            <a:ext cx="5508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657840" y="564048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08840" y="5640480"/>
            <a:ext cx="549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559480" y="564048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5008680" y="5640480"/>
            <a:ext cx="5508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4459320" y="564048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909960" y="564048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359160" y="5640480"/>
            <a:ext cx="5508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260440" y="564048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11440" y="5640480"/>
            <a:ext cx="549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7280" y="5640480"/>
            <a:ext cx="524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5640480"/>
            <a:ext cx="576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108840" y="5138640"/>
            <a:ext cx="5490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559480" y="513864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5008680" y="5138640"/>
            <a:ext cx="550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4459320" y="513864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3909960" y="513864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359160" y="5138640"/>
            <a:ext cx="550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260440" y="513864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11440" y="5138640"/>
            <a:ext cx="5490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87280" y="5138640"/>
            <a:ext cx="5241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11280" y="5138640"/>
            <a:ext cx="5760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758000" y="463716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207200" y="4637160"/>
            <a:ext cx="5508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380360" y="558972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108840" y="4637160"/>
            <a:ext cx="549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611280" y="4637160"/>
            <a:ext cx="576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7758000" y="413532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207200" y="4135320"/>
            <a:ext cx="550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6657840" y="413532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6108840" y="4135320"/>
            <a:ext cx="5490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559480" y="413532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5008680" y="4135320"/>
            <a:ext cx="550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59320" y="413532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909960" y="413532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359160" y="4135320"/>
            <a:ext cx="550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260440" y="413532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711440" y="4135320"/>
            <a:ext cx="5490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1187280" y="4135320"/>
            <a:ext cx="5241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611280" y="4135320"/>
            <a:ext cx="5760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7758000" y="363384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07200" y="3633840"/>
            <a:ext cx="5508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6657840" y="363384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5559480" y="363384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459320" y="363384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909960" y="363384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3359160" y="3633840"/>
            <a:ext cx="5508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260440" y="363384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711440" y="3633840"/>
            <a:ext cx="549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1187280" y="3633840"/>
            <a:ext cx="524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11280" y="3633840"/>
            <a:ext cx="576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1711440" y="3132000"/>
            <a:ext cx="5490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1187280" y="3132000"/>
            <a:ext cx="5241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611280" y="3132000"/>
            <a:ext cx="5760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7758000" y="263052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7207200" y="2630520"/>
            <a:ext cx="5508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657840" y="263052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5559480" y="263052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459320" y="263052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359160" y="2630520"/>
            <a:ext cx="5508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09800" y="263052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1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260440" y="263052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711440" y="2630520"/>
            <a:ext cx="549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187280" y="2630520"/>
            <a:ext cx="524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11280" y="2630520"/>
            <a:ext cx="576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758000" y="212868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207200" y="2128680"/>
            <a:ext cx="550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657840" y="212868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6108840" y="2128680"/>
            <a:ext cx="5490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4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559480" y="212868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459320" y="212868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359160" y="2128680"/>
            <a:ext cx="550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809800" y="212868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2260440" y="212868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711440" y="2128680"/>
            <a:ext cx="5490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187280" y="2128680"/>
            <a:ext cx="5241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11280" y="2128680"/>
            <a:ext cx="5760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7758000" y="162720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7207200" y="1627200"/>
            <a:ext cx="5508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657840" y="162720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08840" y="1627200"/>
            <a:ext cx="549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559480" y="162720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459320" y="162720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909960" y="162720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2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3359160" y="1627200"/>
            <a:ext cx="5508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809800" y="162720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260440" y="1627200"/>
            <a:ext cx="5493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711440" y="1627200"/>
            <a:ext cx="549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1187280" y="1627200"/>
            <a:ext cx="52416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611280" y="1627200"/>
            <a:ext cx="576000" cy="50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758000" y="112536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7207200" y="1125360"/>
            <a:ext cx="550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6657840" y="112536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08840" y="1125360"/>
            <a:ext cx="5490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559480" y="112536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08680" y="1125360"/>
            <a:ext cx="550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3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459320" y="112536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3909960" y="112536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3359160" y="1125360"/>
            <a:ext cx="5508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809800" y="112536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260440" y="1125360"/>
            <a:ext cx="5493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1711440" y="1125360"/>
            <a:ext cx="5490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1187280" y="1125360"/>
            <a:ext cx="52416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11280" y="1125360"/>
            <a:ext cx="57600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11280" y="1125360"/>
            <a:ext cx="7696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11280" y="6643800"/>
            <a:ext cx="769608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11280" y="1125360"/>
            <a:ext cx="0" cy="5518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8307360" y="1125360"/>
            <a:ext cx="0" cy="20066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008680" y="1627200"/>
            <a:ext cx="550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909960" y="2128680"/>
            <a:ext cx="549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008680" y="1627200"/>
            <a:ext cx="0" cy="25081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008680" y="2128680"/>
            <a:ext cx="550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559480" y="1627200"/>
            <a:ext cx="0" cy="250812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3909960" y="2128680"/>
            <a:ext cx="0" cy="15051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909960" y="2630520"/>
            <a:ext cx="549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4459320" y="2128680"/>
            <a:ext cx="0" cy="15051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008680" y="2630520"/>
            <a:ext cx="550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108840" y="2630520"/>
            <a:ext cx="549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260440" y="3132000"/>
            <a:ext cx="604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108840" y="2630520"/>
            <a:ext cx="0" cy="1504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6657840" y="2630520"/>
            <a:ext cx="0" cy="150480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2260440" y="3132000"/>
            <a:ext cx="0" cy="5018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2260440" y="3633840"/>
            <a:ext cx="604692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809800" y="3132000"/>
            <a:ext cx="0" cy="30099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359160" y="3132000"/>
            <a:ext cx="0" cy="300996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7207200" y="3132000"/>
            <a:ext cx="0" cy="5018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7758000" y="3132000"/>
            <a:ext cx="0" cy="5018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307360" y="3132000"/>
            <a:ext cx="0" cy="50184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8307360" y="3633840"/>
            <a:ext cx="0" cy="30099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09800" y="4135320"/>
            <a:ext cx="549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008680" y="4135320"/>
            <a:ext cx="5508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6108840" y="4135320"/>
            <a:ext cx="54900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187280" y="4637160"/>
            <a:ext cx="4921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1187280" y="4637160"/>
            <a:ext cx="0" cy="5014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187280" y="5138640"/>
            <a:ext cx="49215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1711440" y="4637160"/>
            <a:ext cx="0" cy="5014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260440" y="4637160"/>
            <a:ext cx="0" cy="5014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909960" y="4637160"/>
            <a:ext cx="0" cy="5014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4459320" y="4637160"/>
            <a:ext cx="0" cy="5014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008680" y="4637160"/>
            <a:ext cx="0" cy="5014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5559480" y="4637160"/>
            <a:ext cx="0" cy="5014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08840" y="4637160"/>
            <a:ext cx="0" cy="50148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09800" y="5640480"/>
            <a:ext cx="549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809800" y="6141960"/>
            <a:ext cx="549360" cy="0"/>
          </a:xfrm>
          <a:prstGeom prst="line">
            <a:avLst/>
          </a:prstGeom>
          <a:ln cap="rnd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Вопросы к кроссворду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9040" indent="-41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По горизонта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ffff"/>
                </a:solidFill>
                <a:latin typeface="Arial"/>
              </a:rPr>
              <a:t>1.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Что такое, расскажите, 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ереход из газа в жидкость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. Как явление называется,</a:t>
            </a:r>
            <a:br>
              <a:rPr sz="2400"/>
            </a:b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Когда в пар вода превращается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-41904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По вертикали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1.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Прямо с неба, свысока, на нас смотрят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2. Он известен иногда, как замерзшая вод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3. Время, когда снеговые горы тают, им не до сна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66"/>
                </a:solidFill>
                <a:latin typeface="Arial"/>
              </a:rPr>
              <a:t>4. Скажем, между нами, его много в бан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26" name=""/>
          <p:cNvGrpSpPr/>
          <p:nvPr/>
        </p:nvGrpSpPr>
        <p:grpSpPr>
          <a:xfrm>
            <a:off x="6309000" y="1962000"/>
            <a:ext cx="1929600" cy="1971720"/>
            <a:chOff x="6309000" y="1962000"/>
            <a:chExt cx="1929600" cy="1971720"/>
          </a:xfrm>
        </p:grpSpPr>
        <p:sp>
          <p:nvSpPr>
            <p:cNvPr id="327" name=""/>
            <p:cNvSpPr/>
            <p:nvPr/>
          </p:nvSpPr>
          <p:spPr>
            <a:xfrm rot="1050000">
              <a:off x="6588000" y="2205000"/>
              <a:ext cx="1371600" cy="1486080"/>
            </a:xfrm>
            <a:custGeom>
              <a:avLst/>
              <a:gdLst>
                <a:gd name="textAreaLeft" fmla="*/ 565200 w 1371600"/>
                <a:gd name="textAreaRight" fmla="*/ 806400 w 1371600"/>
                <a:gd name="textAreaTop" fmla="*/ 612360 h 1486080"/>
                <a:gd name="textAreaBottom" fmla="*/ 873720 h 148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2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19807200">
              <a:off x="6588000" y="2204640"/>
              <a:ext cx="1371600" cy="1486080"/>
            </a:xfrm>
            <a:custGeom>
              <a:avLst/>
              <a:gdLst>
                <a:gd name="textAreaLeft" fmla="*/ 565200 w 1371600"/>
                <a:gd name="textAreaRight" fmla="*/ 806400 w 1371600"/>
                <a:gd name="textAreaTop" fmla="*/ 612360 h 1486080"/>
                <a:gd name="textAreaBottom" fmla="*/ 873720 h 14860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blipFill rotWithShape="0">
              <a:blip r:embed="rId3"/>
              <a:srcRect/>
              <a:stretch/>
            </a:blipFill>
            <a:ln w="3816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Домашнее задание: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3600" spc="-1" strike="noStrike">
                <a:solidFill>
                  <a:srgbClr val="000066"/>
                </a:solidFill>
                <a:latin typeface="Arial"/>
              </a:rPr>
              <a:t>Сочините сказку о путешествии молекулы воды, которой пришлось вместе с другими молекулами участвовать в различных агрегатных превращениях воды в природе.</a:t>
            </a:r>
            <a:r>
              <a:rPr b="0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en-US" sz="4400" spc="-1" strike="noStrike">
                <a:solidFill>
                  <a:srgbClr val="800080"/>
                </a:solidFill>
                <a:latin typeface="Arial"/>
              </a:rPr>
              <a:t>Спасибо за внимание!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32" name="" descr=""/>
          <p:cNvPicPr/>
          <p:nvPr/>
        </p:nvPicPr>
        <p:blipFill>
          <a:blip r:embed="rId2"/>
          <a:stretch/>
        </p:blipFill>
        <p:spPr>
          <a:xfrm>
            <a:off x="2693880" y="1690560"/>
            <a:ext cx="3167280" cy="4335480"/>
          </a:xfrm>
          <a:prstGeom prst="rect">
            <a:avLst/>
          </a:prstGeom>
          <a:ln w="0">
            <a:noFill/>
          </a:ln>
        </p:spPr>
      </p:pic>
      <p:pic>
        <p:nvPicPr>
          <p:cNvPr id="333" name="" descr=""/>
          <p:cNvPicPr/>
          <p:nvPr/>
        </p:nvPicPr>
        <p:blipFill>
          <a:blip r:embed="rId3"/>
          <a:stretch/>
        </p:blipFill>
        <p:spPr>
          <a:xfrm>
            <a:off x="2771640" y="1413000"/>
            <a:ext cx="4362480" cy="4400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78920" y="260280"/>
            <a:ext cx="8510760" cy="132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1403"/>
                </a:solidFill>
                <a:latin typeface="Arial"/>
              </a:rPr>
              <a:t>Исследование механических свойств твердого тела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Сохраняется ли форма твердого тела при неизменной температур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Сохраняется ли объем тела при неизменной температур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Возможен ли переход твердого тела в другое состояние? Каким образом это можно осуществ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Как можно объяснить свойства твердых тел с точки зрения молекулярного стро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1154880" y="260280"/>
            <a:ext cx="6732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ahoma"/>
              </a:rPr>
              <a:t>Свойства твердых те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176560" y="193212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258920" y="1268280"/>
            <a:ext cx="65055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Твердые тела сохраняют свою форму и объем.</a:t>
            </a:r>
            <a:r>
              <a:rPr b="0" lang="en-US" sz="1800" spc="-1" strike="noStrike">
                <a:solidFill>
                  <a:srgbClr val="000066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2627280" y="2708280"/>
            <a:ext cx="4286160" cy="357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6372360" y="2637000"/>
            <a:ext cx="2636640" cy="28080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0" y="1773360"/>
            <a:ext cx="6507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В  твердых  телах расстояния между молекулами равно размерам молекул, поэтому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71403"/>
                </a:solidFill>
                <a:latin typeface="Tahoma"/>
              </a:rPr>
              <a:t>твердые тела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71403"/>
                </a:solidFill>
                <a:latin typeface="Tahoma"/>
              </a:rPr>
              <a:t>сохраняют форму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. </a:t>
            </a:r>
            <a:r>
              <a:rPr b="1" lang="en-US" sz="2800" spc="-1" strike="noStrike">
                <a:solidFill>
                  <a:srgbClr val="000066"/>
                </a:solidFill>
                <a:latin typeface="Tahoma"/>
              </a:rPr>
              <a:t>Молекулы расположены в определенном порядке, называемом кристаллическая решетка, поэтому в  обычных  условиях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1403"/>
                </a:solidFill>
                <a:latin typeface="Tahoma"/>
              </a:rPr>
              <a:t>твердые  тела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en-US" sz="2800" spc="-1" strike="noStrike">
                <a:solidFill>
                  <a:srgbClr val="f71403"/>
                </a:solidFill>
                <a:latin typeface="Tahoma"/>
              </a:rPr>
              <a:t>сохраняют сво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71403"/>
                </a:solidFill>
                <a:latin typeface="Tahoma"/>
              </a:rPr>
              <a:t>объём</a:t>
            </a:r>
            <a:r>
              <a:rPr b="1" lang="en-US" sz="2800" spc="-1" strike="noStrike">
                <a:solidFill>
                  <a:srgbClr val="80008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971640" y="260280"/>
            <a:ext cx="7653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ahoma"/>
              </a:rPr>
              <a:t>Расположение молекул в твердых телах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Картинка 38 из 96000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45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71403"/>
                </a:solidFill>
                <a:latin typeface="Arial"/>
              </a:rPr>
              <a:t>Исследование механических свойств жидкостей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Сохраняется ли форма жидкого тела при неизменной температур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Сохраняется ли объем жидкости при неизменной температур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Возможен ли переход жидкого тела в другое состояние? Каким образом это можно осуществить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Как можно объяснить свойства жидких тел с точки зрения молекулярного строения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1547640" y="2276640"/>
            <a:ext cx="5832720" cy="437508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1408320" y="189000"/>
            <a:ext cx="6419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ahoma"/>
              </a:rPr>
              <a:t>Свойства жидкостей</a:t>
            </a:r>
            <a:r>
              <a:rPr b="1" lang="en-US" sz="1800" spc="-1" strike="noStrike">
                <a:solidFill>
                  <a:srgbClr val="800080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358920" y="1052640"/>
            <a:ext cx="8785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66"/>
                </a:solidFill>
                <a:latin typeface="Tahoma"/>
              </a:rPr>
              <a:t>Жидкости  легко  меняют  свою форму, но  сохраняют  объе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1413000"/>
            <a:ext cx="5867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Молекулы в жидкостях расположены на расстояниях, равных размерам молекул, сохраняя так называемый ближний порядок, поэтому</a:t>
            </a:r>
            <a:r>
              <a:rPr b="1" lang="ru-RU" sz="28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f71403"/>
                </a:solidFill>
                <a:latin typeface="Tahoma"/>
              </a:rPr>
              <a:t>жидкости сохраняют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1403"/>
                </a:solidFill>
                <a:latin typeface="Tahoma"/>
              </a:rPr>
              <a:t>свой объем</a:t>
            </a:r>
            <a:r>
              <a:rPr b="1" lang="ru-RU" sz="2800" spc="-1" strike="noStrike">
                <a:solidFill>
                  <a:srgbClr val="800080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</a:t>
            </a:r>
            <a:r>
              <a:rPr b="1" lang="ru-RU" sz="2800" spc="-1" strike="noStrike">
                <a:solidFill>
                  <a:srgbClr val="000066"/>
                </a:solidFill>
                <a:latin typeface="Tahoma"/>
              </a:rPr>
              <a:t>Молекулы непрерывно движутся, совершая перескоки, поэтому</a:t>
            </a:r>
            <a:r>
              <a:rPr b="1" lang="ru-RU" sz="28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71403"/>
                </a:solidFill>
                <a:latin typeface="Tahoma"/>
              </a:rPr>
              <a:t>жидкости текут, принимая форму сосуда</a:t>
            </a:r>
            <a:r>
              <a:rPr b="1" lang="ru-RU" sz="2800" spc="-1" strike="noStrike">
                <a:solidFill>
                  <a:srgbClr val="800080"/>
                </a:solidFill>
                <a:latin typeface="Tahoma"/>
              </a:rPr>
              <a:t>.</a:t>
            </a:r>
            <a:r>
              <a:rPr b="0" lang="ru-RU" sz="2800" spc="-1" strike="noStrike">
                <a:solidFill>
                  <a:srgbClr val="ff6600"/>
                </a:solidFill>
                <a:latin typeface="Tahoma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5665680" y="2421000"/>
            <a:ext cx="3303720" cy="345600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>
            <a:off x="1094400" y="0"/>
            <a:ext cx="7177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ahoma"/>
              </a:rPr>
              <a:t>Расположение молекул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800080"/>
                </a:solidFill>
                <a:latin typeface="Tahoma"/>
              </a:rPr>
              <a:t> </a:t>
            </a:r>
            <a:r>
              <a:rPr b="1" lang="en-US" sz="4400" spc="-1" strike="noStrike">
                <a:solidFill>
                  <a:srgbClr val="800080"/>
                </a:solidFill>
                <a:latin typeface="Tahoma"/>
              </a:rPr>
              <a:t>в жидкостях.</a:t>
            </a:r>
            <a:r>
              <a:rPr b="0" lang="en-US" sz="1800" spc="-1" strike="noStrike">
                <a:solidFill>
                  <a:srgbClr val="80008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1T07:51:33Z</dcterms:created>
  <dc:creator>cnit12</dc:creator>
  <dc:description/>
  <dc:language>en-US</dc:language>
  <cp:lastModifiedBy>Nabster</cp:lastModifiedBy>
  <dcterms:modified xsi:type="dcterms:W3CDTF">2011-08-09T08:10:40Z</dcterms:modified>
  <cp:revision>61</cp:revision>
  <dc:subject/>
  <dc:title>Слайд 1</dc:title>
</cp:coreProperties>
</file>