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F8D-E488-407E-9422-5D58ECAD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20D-7C15-4D31-9559-48731F97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0FE-EAC1-4CD0-BAD3-C1C3889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ECF-20E0-4A60-85B3-BFD7A78A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2AD6-D911-4782-AB17-D31365EE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BF98-2E3C-40FD-B0C8-10CFFD7B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D960-1943-4941-9A8D-B0C7C6B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5EE1-9B8B-4C96-A5D2-A7BC223B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4CCF-7123-4B10-8939-95BA0165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658E-B359-4F35-96E8-5B7D76E0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B222-6BA0-4367-8DE5-673F2D50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553-6613-46CA-899B-7737AFA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557A-6B51-4CB7-8818-AE92E11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137C-7069-4583-87D2-A50748A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8FD4-7195-47A5-9DEB-44E58429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9C46-E683-446E-B40E-B569B34C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5164-243F-4378-87F7-AA358D4E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A973-0DC4-499E-8F91-061036FB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518C-ADC4-46A0-A372-B2B19C8F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F7B5-6FA3-45B6-96D3-54EEB455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6D67-0B08-4FB6-8829-79ADC89E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B353-E8AC-45E0-8DC5-262A93BA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634-1849-4ADB-977F-1FDD3AE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B0CF-5F6E-48D5-9117-85036D8C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A147-2681-4411-81A5-51FF0605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A2C7-486B-406E-AAB0-E93B9AF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1271-36D6-4ED4-AF4F-1D32B7E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1B97-2C6D-4673-BC3B-545A0B18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03FF-4E87-4469-82C9-A58B8910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5B088-6614-4D4A-B415-19614FFF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F2DF-4694-4E83-8D69-1B4ECD4C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CF96-43E0-48EB-90E4-069ED6EF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C6A1-D6F9-4E47-943E-918F6A7E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7C9-5710-4ED1-AD72-BFE6244B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F6D33-12AC-4B6C-973C-EAF90469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03D1-71ED-4504-AE7B-C94FFDE4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604F-BDBE-4315-8DE9-9073D710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7A65-BA6E-4FF2-9A28-C31E41D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1995-F3C0-4FBF-954E-0F62E08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6FA4-013B-46D5-9772-7B047C1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204A-EE37-4AD1-9D4F-AAF3BA4C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3681-4F20-4F92-8E6A-311C7A19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0FD9-5DA9-4335-A947-2856C56B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672E-B08A-4E3F-864D-25C96795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10E-A44C-40DF-8E97-CEBBBE05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AEBF-4D27-4CA5-8463-EBAB2489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E7FA-201B-4A22-8D22-16FEE62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D4CB-1398-4F83-BBB0-0957E9B9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6898E-24AC-48B9-932B-2B96A282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1529-1C43-4381-81B0-7A713FE1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E353-66C4-4C0B-800E-0CF9FFDC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02196-0D1D-4994-8E11-799A1F9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B50BD-DF23-4D70-A131-0286CC60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923C2-2BA6-4405-9241-7E3128C4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2AB1E-5EC3-4138-8F33-03A61DEA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48B-27E5-459A-96F7-B6D435E8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9AD87-E63F-4519-B552-5BE4A035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9091-2732-49E8-9D77-EB0101D0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190B-E619-4424-A99C-FD64525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6ABB7-D3E8-475D-890F-EB29DD8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5161-4FA4-47C6-9F6F-9789347C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D3579-D497-438D-9E97-4A3C446D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3D0E-42C8-40F6-B4CF-F1F96D5F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A8764-4CB9-415E-B7D7-978F9F6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37FAB-8692-49BC-A00C-C75BC32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41877-0400-42CE-AD4B-A735CB4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472-A4EA-4C1C-8E44-5851E82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1DEF-C075-4C66-9D0F-21FF26B4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24D92-D14F-4FA4-8BB4-8DA66417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9313-9B8A-46CE-BAD9-8698DD2B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E1C31-02A5-4691-A904-E8F8BF4F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3B848-26DB-498D-8D76-3A97BF80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84B6D-1327-4AB3-B2BF-09F7958D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594C3-66E4-44C2-AB12-9CBA9313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6262A-A2F8-4E3A-AF03-2335843A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FD01-D45B-4753-8954-F2854CE5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E973-CE9C-4E14-B5A0-8EC5D7D9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708-8594-43A3-B937-406FFB54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C9127-B346-4056-81FF-8375058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DDCCA-C7AA-4782-BB4C-162EFE9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3CC15-FD2B-4DD2-862D-09608ED7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7BD44-6552-4C4F-99C1-5F115968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47364-5FCC-42DE-A3D5-E97E38DC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2CDD-B4FA-415D-A8EF-ACA3C91A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19911-9A4C-4FA4-B7FB-22A2BFEE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D0BDD-9286-4470-83D0-B60ED79F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2FC5D-2A74-4656-80C6-136A68A1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EB3D-2A19-4FA2-B63A-8EEAE0AB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A49-92E4-4AB5-A9DE-4C7D5895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6D9A-39D8-4549-B288-A6E4DE5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DC233-7650-4AA9-8C3D-26C689E5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B300E-96A5-4B87-A522-208BF5E6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C0138-D83A-4575-A55A-D669F9BC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DA2D8-C0A8-4853-8873-2BFB88BE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493AE-0044-4041-9269-1A870514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C1372-8F16-4229-AF20-0B5F1466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F199-0FC6-460C-B50B-038DA7F4DEBA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C8D3-B18D-4E13-AA6D-5CD690B7997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D9C7-4C8A-4734-AB54-DAFB0FA30B29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5287-61EA-4C09-BF61-479F6B792E4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F5A0-5E80-4BF2-B547-0D07A1376C5C}" type="datetime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D226-1C68-4874-8849-ACECACDA37B2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4968-57C1-4D14-9C2F-326FE2693A21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D5A7-2100-4A9A-91A5-CA2741651D8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FE2F-4875-4298-BFE3-6550FAA34BCC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0AA2-3C5A-44BD-8844-B92B767130F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8B9F-606D-474C-AC36-BECDDA82DDBD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7B67-1472-41A4-9212-B9F285C59BC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4413-2FA4-462C-93AE-56DFB8FDFDC1}" type="datetime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3679-A98F-4AAF-81CC-45A4E82BE80C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864E-A454-46B7-A442-98C47F6DFC6B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E9A1-5C0A-41DD-93E8-B5C9889B5F1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5_&#1075;&#1086;&#1076;" TargetMode="External"/><Relationship Id="rId2" Type="http://schemas.openxmlformats.org/officeDocument/2006/relationships/hyperlink" Target="http://ru.wikipedia.org/wiki/&#1058;&#1099;&#1089;&#1103;&#1095;&#1077;&#1083;&#1077;&#1090;&#1080;&#1077;_&#1050;&#1072;&#1079;&#1072;&#1085;&#1080;" TargetMode="External"/><Relationship Id="rId3" Type="http://schemas.openxmlformats.org/officeDocument/2006/relationships/hyperlink" Target="http://ru.wikipedia.org/wiki/&#1040;&#1076;&#1084;&#1080;&#1085;&#1080;&#1089;&#1090;&#1088;&#1072;&#1090;&#1080;&#1074;&#1085;&#1099;&#1081;_&#1094;&#1077;&#1085;&#1090;&#1088;" TargetMode="External"/><Relationship Id="rId4" Type="http://schemas.openxmlformats.org/officeDocument/2006/relationships/hyperlink" Target="http://ru.wikipedia.org/wiki/&#1052;&#1072;&#1084;&#1072;&#1077;&#1074;_&#1082;&#1091;&#1088;&#1075;&#1072;&#1085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59;&#1083;&#1100;&#1103;&#1085;&#1086;&#1074;&#1089;&#1082;&#1072;&#1103;_&#1086;&#1073;&#1083;&#1072;&#1089;&#1090;&#1100;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2999880"/>
            <a:ext cx="68580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раз экономического района. Европейская часть России.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Дидактические материалы по географии как способ самостоятельной работы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Учитель географии Бердникова О. 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ижний колонтитул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9" descr="991_069"/>
          <p:cNvPicPr/>
          <p:nvPr/>
        </p:nvPicPr>
        <p:blipFill>
          <a:blip r:embed="rId1"/>
          <a:stretch/>
        </p:blipFill>
        <p:spPr>
          <a:xfrm>
            <a:off x="214200" y="285840"/>
            <a:ext cx="3870360" cy="2643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6" descr="209"/>
          <p:cNvPicPr/>
          <p:nvPr/>
        </p:nvPicPr>
        <p:blipFill>
          <a:blip r:embed="rId2"/>
          <a:stretch/>
        </p:blipFill>
        <p:spPr>
          <a:xfrm>
            <a:off x="214200" y="5000760"/>
            <a:ext cx="1825560" cy="16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907-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72160" y="857160"/>
            <a:ext cx="1658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оздание дидактических рабо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011-2012 г. После выполнения данных и однотипных работ в 9 классе ученики выполняли самостоятельно с использованием  разнообразных энциклопедий задание «Дать краткое описание субъектов Поволжского района.» Получилась данная работа, которая будет предложена в следующем году ученикам 9 клас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рода Поволжья. Определи гор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олица республики. Миллионный город. В 15-16 веках столица ханства. В </a:t>
            </a:r>
            <a:r>
              <a:rPr b="0" lang="ru-RU" sz="14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2005 го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было отпраздновано </a:t>
            </a:r>
            <a:r>
              <a:rPr b="0" lang="ru-RU" sz="1400" spc="-1" strike="noStrike" u="sng">
                <a:solidFill>
                  <a:srgbClr val="b292ca"/>
                </a:solidFill>
                <a:uFillTx/>
                <a:latin typeface="Calibri"/>
                <a:hlinkClick r:id="rId2"/>
              </a:rPr>
              <a:t>тысячелетие город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 Город носит бренд «третья столица России» Благодаря выгодному географическому расположению, издавна был торговым посредником между Востоком и Западом.  Порт на Волге. В городе есть кремль.  Крупный машиностроительный и химический центр, вертолетостроение. Метрополитен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Сорокин Юри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род в низовьях крупной реки расположен  на 11 островах в  северной части дельты. В 100 км южнее морской торговый порт Оля. В городе сохранился Кремль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XVI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ека. Ведущие предприятия в городе ТЭК, добыча газоконденсата.   Это самый засушливый крупный город Европы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Бахур Вади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род на юго-востоке европейской части России , областной  </a:t>
            </a:r>
            <a:r>
              <a:rPr b="0" lang="ru-RU" sz="1400" spc="-1" strike="noStrike" u="sng">
                <a:solidFill>
                  <a:srgbClr val="b292ca"/>
                </a:solidFill>
                <a:uFillTx/>
                <a:latin typeface="Calibri"/>
                <a:hlinkClick r:id="rId3"/>
              </a:rPr>
              <a:t>цент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город-герой. Один из самых протяжённых городов. Основная часть города расположена на правом берегу Волги. К территории города относится канал, соединяющий 2 крупные реки. Город  находится в зоне степи.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упнейшие предприятия: Алюминиевый завод, тракторный  и судостроительный заводы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b292ca"/>
                </a:solidFill>
                <a:uFillTx/>
                <a:latin typeface="Calibri"/>
                <a:hlinkClick r:id="rId4"/>
              </a:rPr>
              <a:t>Мамаев курган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— «главная высота России». В разных районах города поставлено 17 башен танков Т-34-76, символизирующих линию обороны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Филатова Мари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упный город в </a:t>
            </a:r>
            <a:r>
              <a:rPr b="0" lang="ru-RU" sz="1400" spc="-1" strike="noStrike" u="sng">
                <a:solidFill>
                  <a:srgbClr val="b292ca"/>
                </a:solidFill>
                <a:uFillTx/>
                <a:latin typeface="Calibri"/>
                <a:hlinkClick r:id="rId5"/>
              </a:rPr>
              <a:t>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административный центр </a:t>
            </a:r>
            <a:r>
              <a:rPr b="0" lang="ru-RU" sz="1400" spc="-1" strike="noStrike" u="sng">
                <a:solidFill>
                  <a:srgbClr val="b292ca"/>
                </a:solidFill>
                <a:uFillTx/>
                <a:latin typeface="Calibri"/>
                <a:hlinkClick r:id="rId6"/>
              </a:rPr>
              <a:t> обла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Расположен на Приволжской возвышенности, на берегах рек Волги (Куйбышевское водохранилище) и Свияги , до 1924 года город назывался Симбирск. Предприятия: Открытое акционерное общество «Симбирск-Лада» , ОАО «Автодеталь — Сервис» (производство запасных частей к автомобилям УАЗ, ГАЗ, ВАЗ)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Свистунов Ива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истематизировать знания кур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ать образную характеристику субъектов географ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дготовка к итоговой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верка и отработка умения работать с различными источниками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анной работы выбраны 3 типа  задан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тавить пропуски в предложенном текс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соответствие объ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ть субъек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сто выполн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дидактические материалы используются на уроках и даются для домашних заданий.  Задания выполняются на  первом этапе самостоятельно при использовании любых источников информации, при проверке в классе обязательно проговариваются правильные ответы с объяснением. При достаточной проработке методики выполнения заданий ученики сами составляют аналогичные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Центральный </a:t>
            </a: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экономический район</a:t>
            </a: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йди соответств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85880" y="2286000"/>
          <a:ext cx="7286400" cy="4449600"/>
        </p:xfrm>
        <a:graphic>
          <a:graphicData uri="http://schemas.openxmlformats.org/drawingml/2006/table">
            <a:tbl>
              <a:tblPr/>
              <a:tblGrid>
                <a:gridCol w="585720"/>
                <a:gridCol w="1494000"/>
                <a:gridCol w="556920"/>
                <a:gridCol w="4649760"/>
              </a:tblGrid>
              <a:tr h="2811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з древнейших русских городов на Днепре, западный форпост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е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пряников, самоваров, оруж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ильная столица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а Афанасия Никитина, центр вагоностро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я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основан Юрием Долгоруким в 1147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инный русский город на берегу Десны в лесостепной зоне, родина монаха Пересвета, героя Куликовской битв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основан Ярославом Мудрым в 1010 году, родина русского теа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ослав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на берегу Оки, связан с имен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Э. Циолков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5" descr="Ярославль"/>
          <p:cNvPicPr/>
          <p:nvPr/>
        </p:nvPicPr>
        <p:blipFill>
          <a:blip r:embed="rId1"/>
          <a:stretch/>
        </p:blipFill>
        <p:spPr>
          <a:xfrm>
            <a:off x="6858000" y="285840"/>
            <a:ext cx="19573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857160" y="1397160"/>
          <a:ext cx="7786800" cy="4759200"/>
        </p:xfrm>
        <a:graphic>
          <a:graphicData uri="http://schemas.openxmlformats.org/drawingml/2006/table">
            <a:tbl>
              <a:tblPr/>
              <a:tblGrid>
                <a:gridCol w="684360"/>
                <a:gridCol w="3225600"/>
                <a:gridCol w="650880"/>
                <a:gridCol w="3225960"/>
              </a:tblGrid>
              <a:tr h="2808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ов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й город за Полярным круг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рма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мод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есец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ческий комбинат полного ци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нгель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промысел: чернение по сереб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й Устю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й лесоэкспортный 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дви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Б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ктывк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добычи уг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к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остро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завод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евый за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оростроительный за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алак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а апатитовых 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1"/>
          <p:cNvSpPr/>
          <p:nvPr/>
        </p:nvSpPr>
        <p:spPr>
          <a:xfrm>
            <a:off x="500040" y="218160"/>
            <a:ext cx="8001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верный экономический рай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 соответ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Центральный экономический район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и горо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нтральной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род основан в 1146 году,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х стал центром обороны южных границ. Народные промыслы связаны с металлообработкой, производством оружия. Центр машиностроения, черной металлургии, пищевой промышленности. Около города музей-усадьба Л.Н. Толстого «Ясная Поля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род основан в 1010 году. В 1612 г. здесь  находилось ополчение Козьмы Минина и Дмитрия Пожарского. Порт на реке Волге. Входит в «Золотое кольцо» русских городов. Население более 600 ты. чел. Построен первый в стране завод синтетического каучука. Центр нефтехимии (нефтепереработка, синт. каучук, шины, пластмассы) . Вблизи города в с. Карабиха находится музей Н. А. Некрас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Город основан в 1871 году как текстильный цент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еление 400 тыс. чел. Большая часть населения заня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текстильных фабриках, построен станкостроитель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од. Знаменитая палехская лаковая миниатю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12" descr="b-39"/>
          <p:cNvPicPr/>
          <p:nvPr/>
        </p:nvPicPr>
        <p:blipFill>
          <a:blip r:embed="rId1"/>
          <a:stretch/>
        </p:blipFill>
        <p:spPr>
          <a:xfrm>
            <a:off x="7143840" y="4500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464653"/>
                </a:solidFill>
                <a:latin typeface="Cambria"/>
              </a:rPr>
              <a:t>Определите субъект РФ в составе Волго-Вятского экономического района по описанию. Напишите его название. Заполните пропуски в тексте.</a:t>
            </a:r>
            <a:br>
              <a:rPr sz="2900"/>
            </a:b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лго-Вятский район. Города и республи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спублика находится на левом берегу Волги. Титульный народ говорит на языке финно-угорской группы. Столица в прошлом называлась Царевококшайском. Развиты целлюлозно-бумажная и промышленность, льно –животноводческое сельское хозяйство.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род расположен на слиянии крупнейшей реки Восточно-Европейской равнины………и её самого полноводного правого притока…………Здесь сконцентрирована значительная часть промышленного потенциала района. Центр области является центром региона, федерального округа. Входит в пятерку самых крупных городов России «Карманом России» называли его в старину. Крупнейшие предприятия областного центра – судостроительный завод «Красное Сормово», Автомобильный завод ГАЗ. С 1932 по 1990 г.г. город назывался………………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яду с Волгой эта река…………..(таким же было название города до 1934 года) дала название экономическому району. Это самый залесенный регион района. В таежной зоне плотность населения невысокая. Развиты деревообработка и целлюлозно-бумажная промышленность. Область знаменита глиняной дымковской игрушкой. Здесь родились художники братья Васнецовы, основан  музей А. Грина, М. Е. Салтыкова-Щедрина. Город назван в честь советского политического деятеля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12" descr="07"/>
          <p:cNvPicPr/>
          <p:nvPr/>
        </p:nvPicPr>
        <p:blipFill>
          <a:blip r:embed="rId1"/>
          <a:stretch/>
        </p:blipFill>
        <p:spPr>
          <a:xfrm>
            <a:off x="6643800" y="4786200"/>
            <a:ext cx="21700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Вставить пропуски в предложенном тексте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веро-Западный экономический рай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-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йон имеет ____________ положение, он омывается _____________ заливом ____________ мор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морской порт г._______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систему каналов имеет выход в ______________и___________________мор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еди района – _____________________________________________________________ рай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йон имеет__________________ положение – он граничит с 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территории района проходят_______________________ дороги. Они от г. Санкт-Петербурга расходятся веером во все соседние терри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Европейская часть России: </a:t>
            </a:r>
            <a:br>
              <a:rPr sz="2900"/>
            </a:br>
            <a:r>
              <a:rPr b="1" lang="ru-RU" sz="2800" spc="-1" strike="noStrike">
                <a:solidFill>
                  <a:srgbClr val="464653"/>
                </a:solidFill>
                <a:latin typeface="Cambria"/>
              </a:rPr>
              <a:t>итоговое задание </a:t>
            </a:r>
            <a:br>
              <a:rPr sz="2900"/>
            </a:b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и область. «Пограничная область, сильно пострадавшая от аварии на Чернобыльской АЭС.  В Великую Отечественную войну в лесах был центр партизанского движ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ите область. «Здесь родились писатели И. С.  Тургенев, Н. С. Лесков, поэт А. А.  Фет; берет свое начало р.  Ока, на которой расположен областной центр.  В области развито племенное коневодство и была выведена знаменитая порода лошадей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и область. «Южная область самого густонаселенного района, производящая разнообразную продукцию от спичек до тепловозов.  В областном центре работал «отец космонавтики» Циолковский.  Здесь была построена первая АЭС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и область. «Областной центр – город оружейников, самоваров.  В Ясной поляне находится музей писателя Л. Н. Толстого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Определи район. «Самый крупный по численности населения район, беден природными ресурсами, но славится своим городом – сердцем России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Определи район. «Выгодное ЭГП.  Большие запасы железных руд, плодородные почвы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 Определи область. «С 17 века – центр текстильной промышленности страны с городом невест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и область. «Эта самая большая область в Центральном районе.  Здесь выращивают больше всего льна, в области берет начало р.  Волга и находится много озер, включая оз.  Селигер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МБОУ "Перемская ООШ"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19:41:40Z</dcterms:modified>
  <cp:revision>8</cp:revision>
  <dc:subject/>
  <dc:title>Дидактические материалы по географии</dc:title>
</cp:coreProperties>
</file>