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541-A5D5-40EF-8A1D-E4B48546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C96-AB3B-4FDF-81CD-A0F5F75A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FC0-BDC7-484C-AB7E-6DC18D4E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FCD-66C0-4FAD-8908-79811F0E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2FD9-8140-4481-948B-496DC882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6E6-C00E-457C-96E3-47D2F5B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2260-DFD9-430C-BF9D-5F18D72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6B9B-65E2-4A7A-BE37-3A0662D6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42E2-E9A4-48E9-82B8-8AAB2A0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AA41-4B7E-42F9-AA3C-C710C69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76C-50A1-4840-8325-4ED2884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1FA-529D-4E6A-9B6F-32AC8A85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3B7-4F70-49A4-BEE4-8FF3F89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45B-F705-416F-A244-13E44C4A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996-0D49-4201-BEF1-24474BA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2269-4890-4E7F-9FD2-71E7C9C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0C43-85D6-46C1-B79D-D891EE2C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A75-50EC-440F-909B-0B2B0D9E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F8D-8B5B-48D0-A742-DDC463EF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D05-CD12-42C1-B539-B32A097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218-A186-4104-829B-88511B0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6FB-8034-4FA4-9371-64AA8B9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4D5-26E8-4074-B6A0-6025DA3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C9E-8DD2-40E3-80E0-753F600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E11D-B587-4504-A71F-E511FD35E8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c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BA7-4E8E-4345-B5CC-86C0EB2B12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u/imgre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6875640" cy="630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ГБОУ ООШ №17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 г. Новокуйбышевск Самарской области</a:t>
            </a:r>
            <a:br>
              <a:rPr sz="1600"/>
            </a:br>
            <a:br>
              <a:rPr sz="16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Законы Ньютона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в литературе</a:t>
            </a:r>
            <a:br>
              <a:rPr sz="4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3200"/>
            </a:br>
            <a:br>
              <a:rPr sz="32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оробьева Татьяна Александровна,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учитель физик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201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324000" y="19890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ло Коню остановиться... как Рыцарь тут же летел вперед. А когда Конь снова трогался с места... Рыцарь тотчас падал назад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411840" y="47628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Л.Кэррол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Алиса в Зазеркал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151600" y="50846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ъясните явл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il_fi" descr="http://www.konevoz.ru/catalog/bigphotos/Drache.jpg"/>
          <p:cNvPicPr/>
          <p:nvPr/>
        </p:nvPicPr>
        <p:blipFill>
          <a:blip r:embed="rId1"/>
          <a:stretch/>
        </p:blipFill>
        <p:spPr>
          <a:xfrm>
            <a:off x="6372360" y="260280"/>
            <a:ext cx="2562120" cy="2382840"/>
          </a:xfrm>
          <a:prstGeom prst="rect">
            <a:avLst/>
          </a:prstGeom>
          <a:ln w="0">
            <a:noFill/>
          </a:ln>
        </p:spPr>
      </p:pic>
      <p:pic>
        <p:nvPicPr>
          <p:cNvPr id="142" name="il_fi" descr="http://img1.liveinternet.ru/images/attach/c/0/47/769/47769806_alisa.jpg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132000" y="3357720"/>
            <a:ext cx="58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чь на железный лист и сильными рывк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нит подбрасывать. Он лист железный с в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тянет кверху. Вы опя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до Луны и упражняйтесь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763200" y="6206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ирано де Бержер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утешествие на Лу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276720" y="486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озможен ли такой способ путешествия на Лу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il_fi" descr="http://img-fotki.yandex.ru/get/3308/innalove.15/0_aa40_a987fef3_XL.jpg"/>
          <p:cNvPicPr/>
          <p:nvPr/>
        </p:nvPicPr>
        <p:blipFill>
          <a:blip r:embed="rId1"/>
          <a:srcRect l="11632" t="-3448" r="6974" b="0"/>
          <a:stretch/>
        </p:blipFill>
        <p:spPr>
          <a:xfrm>
            <a:off x="324000" y="1916280"/>
            <a:ext cx="2519280" cy="4149720"/>
          </a:xfrm>
          <a:prstGeom prst="rect">
            <a:avLst/>
          </a:prstGeom>
          <a:ln w="0">
            <a:noFill/>
          </a:ln>
        </p:spPr>
      </p:pic>
      <p:pic>
        <p:nvPicPr>
          <p:cNvPr id="147" name="il_fi" descr="http://www.senicheff.ru/wp-content/uploads/2011/03/moon.jpg"/>
          <p:cNvPicPr/>
          <p:nvPr/>
        </p:nvPicPr>
        <p:blipFill>
          <a:blip r:embed="rId2"/>
          <a:stretch/>
        </p:blipFill>
        <p:spPr>
          <a:xfrm>
            <a:off x="6084720" y="189000"/>
            <a:ext cx="28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7527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Тихомирова С.А. Дидактический материал по физике: Физика в художественной литературе: 7-11 класс – М.: Просвещение,199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Интернет-ресур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  <a:ea typeface="Times New Roman"/>
                <a:hlinkClick r:id="rId1"/>
              </a:rPr>
              <a:t>http://www.google.ru/img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l_fi" descr="http://upload.wikimedia.org/wikipedia/commons/1/17/Prinicipia-title.png"/>
          <p:cNvPicPr/>
          <p:nvPr/>
        </p:nvPicPr>
        <p:blipFill>
          <a:blip r:embed="rId1"/>
          <a:stretch/>
        </p:blipFill>
        <p:spPr>
          <a:xfrm>
            <a:off x="7236000" y="26028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il_fi" descr="http://www.skybox.net.ua/userfiles/newton.jpg"/>
          <p:cNvPicPr/>
          <p:nvPr/>
        </p:nvPicPr>
        <p:blipFill>
          <a:blip r:embed="rId2"/>
          <a:stretch/>
        </p:blipFill>
        <p:spPr>
          <a:xfrm>
            <a:off x="324000" y="1989000"/>
            <a:ext cx="2735280" cy="3961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3598920" y="379368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Кромешной тьмой был мир окутан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И в тайны естества наш взор не проникал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о Бог сказал: «Да будет Нью́тон!»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И свет над миром воссия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124000" y="260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аак Ньюто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5 декабря 164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улстроп, Линкольншир, Королевство Анг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изик, астроном, математик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C:\Users\sysadmin\AppData\Local\Microsoft\Windows\Temporary Internet Files\Content.IE5\DKGEFMES\land2[1].jpg"/>
          <p:cNvPicPr/>
          <p:nvPr/>
        </p:nvPicPr>
        <p:blipFill>
          <a:blip r:embed="rId1"/>
          <a:stretch/>
        </p:blipFill>
        <p:spPr>
          <a:xfrm>
            <a:off x="539640" y="4653000"/>
            <a:ext cx="3151440" cy="2004840"/>
          </a:xfrm>
          <a:prstGeom prst="rect">
            <a:avLst/>
          </a:prstGeom>
          <a:ln w="0">
            <a:noFill/>
          </a:ln>
        </p:spPr>
      </p:pic>
      <p:pic>
        <p:nvPicPr>
          <p:cNvPr id="104" name="il_fi" descr="http://www.proza.ru/pics/2008/12/17/31.jpg"/>
          <p:cNvPicPr/>
          <p:nvPr/>
        </p:nvPicPr>
        <p:blipFill>
          <a:blip r:embed="rId2"/>
          <a:stretch/>
        </p:blipFill>
        <p:spPr>
          <a:xfrm>
            <a:off x="5651640" y="189000"/>
            <a:ext cx="3186000" cy="1800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755640" y="1989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ашный вихрь бушевал между небом и землей, не давая мистеру Фодерингею приподнять голову. Некоторое время он был настолько ошеломлен и подавлен, что не мог осознать, где он и что собственно произошло, … откуда взялся этот ветер? Я ведь не приказывал дуть ветру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…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одерингей сквозь пыль и мокрый снег увидел при вспышке молний надвигающуюся на него громадную стену воды”.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43740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Г. Уэлл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Человек, который умел творить чуд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4067280" y="49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ъясните, откуда взялся ветер, и почему пришла в движение вода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l_fi" descr="http://assets1.lookatme.ru/1271539498/assets/article_image-image/7b/0b/815413/article_image-image-article.jpg"/>
          <p:cNvPicPr/>
          <p:nvPr/>
        </p:nvPicPr>
        <p:blipFill>
          <a:blip r:embed="rId1"/>
          <a:stretch/>
        </p:blipFill>
        <p:spPr>
          <a:xfrm>
            <a:off x="179280" y="4581360"/>
            <a:ext cx="3963960" cy="20656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lib.aldebaran.ru/author/ronistarshii_zhozef/ronistarshii_zhozef_borba_za_ogon/cover.jpg"/>
          <p:cNvPicPr/>
          <p:nvPr/>
        </p:nvPicPr>
        <p:blipFill>
          <a:blip r:embed="rId2"/>
          <a:stretch/>
        </p:blipFill>
        <p:spPr>
          <a:xfrm>
            <a:off x="6875640" y="189000"/>
            <a:ext cx="1898640" cy="3033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250920" y="1923480"/>
            <a:ext cx="68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гу, уверенный, что теперь победа над противником, которого он приговорил к смерти, обеспечена, взмахнул палицей и с ужасающей силой опустил ее,… Нао еще раз молниеносно отскочил, и Агу, увлеченный силой удара и тяжестью палицы, подался всем телом вперед, едва не упав на колени. В ту секунду палица Нао опустилась на его затылок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4572000" y="501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акое физическое явление оказалось роковым для Агу?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179280" y="404640"/>
            <a:ext cx="42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Ж. Рони-старш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Борьба за ого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l_fi" descr="http://bigpicture.ru/wp-content/uploads/2011/07/1879.jpg"/>
          <p:cNvPicPr/>
          <p:nvPr/>
        </p:nvPicPr>
        <p:blipFill>
          <a:blip r:embed="rId1"/>
          <a:srcRect l="9995" t="33099" r="23336" b="6813"/>
          <a:stretch/>
        </p:blipFill>
        <p:spPr>
          <a:xfrm>
            <a:off x="4859280" y="0"/>
            <a:ext cx="3960720" cy="2303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611280" y="18046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авка за кустом можжевельника присела и напружинила задние лапы для могучего броска и, когда увидела уши, бросила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раз в это время заяц, большой, старый, матерый русак, ковыляя еле-еле, вздумал внезапно остановиться и даже, привстав на задние ноги, послушать, далеко ли тявкает лис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 вот одновременно сошлось - Травка бросилась, а заяц остановил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Травку перенесло через зайца. Пока собака выправлялась, заяц огромными скачками летел уже по Митрашиной тропе…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909000" y="476280"/>
            <a:ext cx="22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М.М. Приш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Кладовая солнц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4549680" y="5373720"/>
            <a:ext cx="30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ъясните случившеес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il_fi" descr="http://forumimage.ru/thumbs/20101130/129110979154008518.jpg"/>
          <p:cNvPicPr/>
          <p:nvPr/>
        </p:nvPicPr>
        <p:blipFill>
          <a:blip r:embed="rId2"/>
          <a:srcRect l="0" t="0" r="0" b="14001"/>
          <a:stretch/>
        </p:blipFill>
        <p:spPr>
          <a:xfrm>
            <a:off x="611280" y="436572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539640" y="2609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Я стал рядом с огромнейшей пушкой,… и когда из пушки вылетело ядро, я вскочил на него верхом и лихо понесся вперед… мимо меня пролетело встречное ядро, … я пересел на него и как ни в чем не бывало, помчался обратно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Э. Рас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ключения барона Мюнхгауз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3564000" y="4941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 каким ускорением вылетело ядро из пушки, если масса ядра 20 кг, а сила, подействовавшая на ядро, равна 300 Н.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il_fi" descr="http://www.liveedu.ru/uploads/posts/2010-10/1285915119_f876103b64f5bc34280b24c20f7f8003.jpg"/>
          <p:cNvPicPr/>
          <p:nvPr/>
        </p:nvPicPr>
        <p:blipFill>
          <a:blip r:embed="rId1"/>
          <a:srcRect l="0" t="0" r="-38" b="11297"/>
          <a:stretch/>
        </p:blipFill>
        <p:spPr>
          <a:xfrm>
            <a:off x="5148360" y="260280"/>
            <a:ext cx="3741480" cy="2311560"/>
          </a:xfrm>
          <a:prstGeom prst="rect">
            <a:avLst/>
          </a:prstGeom>
          <a:ln w="0">
            <a:noFill/>
          </a:ln>
        </p:spPr>
      </p:pic>
      <p:pic>
        <p:nvPicPr>
          <p:cNvPr id="122" name="il_fi" descr="http://my-shop.ru/_files/product/2/55/549169.jpg"/>
          <p:cNvPicPr/>
          <p:nvPr/>
        </p:nvPicPr>
        <p:blipFill>
          <a:blip r:embed="rId2"/>
          <a:stretch/>
        </p:blipFill>
        <p:spPr>
          <a:xfrm>
            <a:off x="1187280" y="4005360"/>
            <a:ext cx="1899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24000" y="1749240"/>
            <a:ext cx="59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"Однажды, спасаясь от турок, я попробовал перепрыгнуть болото верхом на коне. Но конь не допрыгнул до берега, и мы с разбегу шлёпнулись в жидкую грязь. Нужно было выбирать одно из двух: погибнуть или как-то спастись. Я решил спастись. Но как? Ничего под рукой не было. Но голова-то у нас всегда под рукой. Я рванул себя за волосы и таким образом вытащил из болота вместе с конём, которого сжал обеими ногами, как щипцами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60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Э. Рас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ключения барона Мюнхгауз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147200" y="47973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оснуйте невозможность эт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il_fi" descr="http://demotivators.ru/media/posters/257789_problemyi-tyi-v-profil-pohozh-na-barona-myunhgauzena-.jpg"/>
          <p:cNvPicPr/>
          <p:nvPr/>
        </p:nvPicPr>
        <p:blipFill>
          <a:blip r:embed="rId1"/>
          <a:srcRect l="24826" t="11286" r="23351" b="35109"/>
          <a:stretch/>
        </p:blipFill>
        <p:spPr>
          <a:xfrm>
            <a:off x="6443640" y="18900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il_fi" descr="http://rd.foto.radikal.ru/0708/9e/60d521bcbb62.jpg"/>
          <p:cNvPicPr/>
          <p:nvPr/>
        </p:nvPicPr>
        <p:blipFill>
          <a:blip r:embed="rId2"/>
          <a:stretch/>
        </p:blipFill>
        <p:spPr>
          <a:xfrm>
            <a:off x="539640" y="4508640"/>
            <a:ext cx="3041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2"/>
          <p:cNvSpPr/>
          <p:nvPr/>
        </p:nvSpPr>
        <p:spPr>
          <a:xfrm>
            <a:off x="4427640" y="501336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чему лягушка упала на землю не на то место, над которым она начала падать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705240" y="40464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В.М.Гар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Лягушка-путешествен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il_fi" descr="http://post.kards.qip.ru/images/postcard/d4/03/980.jpg"/>
          <p:cNvPicPr/>
          <p:nvPr/>
        </p:nvPicPr>
        <p:blipFill>
          <a:blip r:embed="rId1"/>
          <a:srcRect l="0" t="0" r="329" b="7267"/>
          <a:stretch/>
        </p:blipFill>
        <p:spPr>
          <a:xfrm>
            <a:off x="324000" y="4149720"/>
            <a:ext cx="4032000" cy="2519280"/>
          </a:xfrm>
          <a:prstGeom prst="rect">
            <a:avLst/>
          </a:prstGeom>
          <a:ln w="0">
            <a:noFill/>
          </a:ln>
        </p:spPr>
      </p:pic>
      <p:pic>
        <p:nvPicPr>
          <p:cNvPr id="131" name="il_fi" descr="http://img.1tvrus.com/2011-06-20/fmt_73_024_1.png"/>
          <p:cNvPicPr/>
          <p:nvPr/>
        </p:nvPicPr>
        <p:blipFill>
          <a:blip r:embed="rId2"/>
          <a:srcRect l="0" t="0" r="1528" b="12514"/>
          <a:stretch/>
        </p:blipFill>
        <p:spPr>
          <a:xfrm>
            <a:off x="5435640" y="0"/>
            <a:ext cx="3457440" cy="2133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250920" y="1903680"/>
            <a:ext cx="86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ут лягушка уж не выдержала и, забыв всякую осторожность, закричала изо всей мочи: “Это я! Я!” И с этим криком она полетела вверх тормашками на землю. Утки громко закричали; одна из них хотела подхватить бедную спутницу на лету, но промахнулась. Лягушка, дрыгая всеми четырьмя лапками, быстро падала на землю; но так как утки летели очень быстро, то она упала не прямо на то место, над которым закричала и где была твердая дорога, а гораздо дальше, что было для нее большим счастьем, потому что она бултыхнулась в грязный пруд на краю деревни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95280" y="2025720"/>
            <a:ext cx="73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иновник, приехавший за налогами, стал придираться к отцу мальчика, требуя деньги. Тогда мальчик заступился за отц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чтенный гость! Подпругу твоего коня сжевали козы. Вот и заставь их плат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молчал чиновник, потом вскочил на коня и пустил галопом. Но конь провалился ногой в кротовую нору, и седок полетел на землю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79280" y="18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Монгольская 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“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Мудрый малыш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4971960" y="508464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чему “седок полетел на землю”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il_fi" descr="http://us.123rf.com/400wm/400/400/ozbandit/ozbandit0812/ozbandit081200009/4019567-.jpg"/>
          <p:cNvPicPr/>
          <p:nvPr/>
        </p:nvPicPr>
        <p:blipFill>
          <a:blip r:embed="rId1"/>
          <a:stretch/>
        </p:blipFill>
        <p:spPr>
          <a:xfrm>
            <a:off x="826920" y="4292640"/>
            <a:ext cx="3600720" cy="2333520"/>
          </a:xfrm>
          <a:prstGeom prst="rect">
            <a:avLst/>
          </a:prstGeom>
          <a:ln w="0">
            <a:noFill/>
          </a:ln>
        </p:spPr>
      </p:pic>
      <p:pic>
        <p:nvPicPr>
          <p:cNvPr id="137" name="il_fi" descr="http://3.bp.blogspot.com/_1ZmhCsaPrU4/S580hhSvq8I/AAAAAAAABRw/Rn9GEeWLx9c/s320/Boy-Wearing-Traditional-Dell-Standing-Next-to-Baby-Goat-Mongolia-Photographic-Print-C12454834.jpg"/>
          <p:cNvPicPr/>
          <p:nvPr/>
        </p:nvPicPr>
        <p:blipFill>
          <a:blip r:embed="rId2"/>
          <a:srcRect l="9449" t="4724" r="11795" b="3142"/>
          <a:stretch/>
        </p:blipFill>
        <p:spPr>
          <a:xfrm>
            <a:off x="7164360" y="189000"/>
            <a:ext cx="180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9:32:48Z</dcterms:created>
  <dc:creator>Таньяна</dc:creator>
  <dc:description/>
  <dc:language>en-US</dc:language>
  <cp:lastModifiedBy>sysadmin</cp:lastModifiedBy>
  <dcterms:modified xsi:type="dcterms:W3CDTF">2014-10-29T13:29:53Z</dcterms:modified>
  <cp:revision>92</cp:revision>
  <dc:subject/>
  <dc:title>Слайд 1</dc:title>
</cp:coreProperties>
</file>