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3E4-1C09-47AB-B773-6E020CFA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9B0-CA44-4227-8E77-49199BBC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A1D-30F2-4DD8-8832-85F826E0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03B3-8F94-4FF7-903E-E1ABBCA2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EB6-090C-44A5-BF8C-333B0D32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8C3-DD03-4B05-AF87-0B769169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84F-8E84-4741-BC49-48C0C604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0F2-C0A5-4B4D-A1EA-C82A6BA0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01C-3D30-4FA3-B6F9-93287FB5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586-F433-4BC2-864E-18C994C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565-841F-4C41-B09E-480D7A1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904-9C3D-42B1-84AE-80D7334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CE02-F79E-4B63-86CE-12B40F863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fresher.ru/images7/bu-sobaka-kotoraya-nravitsya-vsem/47.jpg" TargetMode="External"/><Relationship Id="rId2" Type="http://schemas.openxmlformats.org/officeDocument/2006/relationships/hyperlink" Target="http://top-desktop.ru/files/zhivotnye/1024/76.jpg" TargetMode="External"/><Relationship Id="rId3" Type="http://schemas.openxmlformats.org/officeDocument/2006/relationships/hyperlink" Target="http://magic-zagovori.ru/wp-content/uploads/1zagovor-na-korovu-pozvolit-uvelichit-nadoi.jpg" TargetMode="External"/><Relationship Id="rId4" Type="http://schemas.openxmlformats.org/officeDocument/2006/relationships/hyperlink" Target="http://catfoto.com/uploads/images/00/00/01/2011/05/20/2f29354070.jpg" TargetMode="External"/><Relationship Id="rId5" Type="http://schemas.openxmlformats.org/officeDocument/2006/relationships/hyperlink" Target="http://webmandry.com/images/stories/2013/prirodnyje-zony/004-tundra/tundra-3.jpg" TargetMode="External"/><Relationship Id="rId6" Type="http://schemas.openxmlformats.org/officeDocument/2006/relationships/hyperlink" Target="http://www.goldensites.ru/media/1/20090503-b_709.jpg" TargetMode="External"/><Relationship Id="rId7" Type="http://schemas.openxmlformats.org/officeDocument/2006/relationships/hyperlink" Target="http://www.rupor.lt/uploads/monthly_05_2009/post-1426-1243231239.jpg" TargetMode="External"/><Relationship Id="rId8" Type="http://schemas.openxmlformats.org/officeDocument/2006/relationships/hyperlink" Target="http://www.ua.all.biz/img/ua/catalog/1948833.jpeg" TargetMode="External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nature.sfu-kras.ru/files/nature/ljagushka-ostr.jpg" TargetMode="External"/><Relationship Id="rId2" Type="http://schemas.openxmlformats.org/officeDocument/2006/relationships/hyperlink" Target="http://nature.sfu-kras.ru/files/nature/ljagushka-ostr.jpg" TargetMode="External"/><Relationship Id="rId3" Type="http://schemas.openxmlformats.org/officeDocument/2006/relationships/hyperlink" Target="http://nature.sfu-kras.ru/files/nature/ljagushka-ostr.jpg" TargetMode="External"/><Relationship Id="rId4" Type="http://schemas.openxmlformats.org/officeDocument/2006/relationships/hyperlink" Target="http://nature.sfu-kras.ru/files/nature/ljagushka-ostr.jpg&#1048;" TargetMode="External"/><Relationship Id="rId5" Type="http://schemas.openxmlformats.org/officeDocument/2006/relationships/hyperlink" Target="http://sinizi.narod.ru/singal38.jpg" TargetMode="External"/><Relationship Id="rId6" Type="http://schemas.openxmlformats.org/officeDocument/2006/relationships/hyperlink" Target="http://nature.sfu-kras.ru/files/nature/ljagushka-ostr.jpg&#1048;" TargetMode="External"/><Relationship Id="rId7" Type="http://schemas.openxmlformats.org/officeDocument/2006/relationships/hyperlink" Target="http://belorechie.net/uploads/posts/2013-02/1361865498_kaban.jpg" TargetMode="External"/><Relationship Id="rId8" Type="http://schemas.openxmlformats.org/officeDocument/2006/relationships/hyperlink" Target="http://pticyrus.info/img/7.jpg" TargetMode="External"/><Relationship Id="rId9" Type="http://schemas.openxmlformats.org/officeDocument/2006/relationships/hyperlink" Target="http://pticyrus.info/img/7.jpg" TargetMode="External"/><Relationship Id="rId10" Type="http://schemas.openxmlformats.org/officeDocument/2006/relationships/hyperlink" Target="http://nature.sfu-kras.ru/files/nature/ljagushka-ostr.jpg" TargetMode="External"/><Relationship Id="rId11" Type="http://schemas.openxmlformats.org/officeDocument/2006/relationships/hyperlink" Target="http://nature.sfu-kras.ru/files/nature/ljagushka-ostr.jpg" TargetMode="External"/><Relationship Id="rId12" Type="http://schemas.openxmlformats.org/officeDocument/2006/relationships/hyperlink" Target="http://1.bp.blogspot.com/-iErqBI9mZs0/UC60FX4uZ_I/AAAAAAAAB_4/s5nZ_74wmhI/s1600/&#1084;&#1080;&#1096;&#1082;&#1072;+&#1084;&#1077;&#1076;&#1074;&#1077;&#1076;&#1100;.jpg" TargetMode="External"/><Relationship Id="rId13" Type="http://schemas.openxmlformats.org/officeDocument/2006/relationships/hyperlink" Target="http://animals-birds.ru/dytel.jpg" TargetMode="External"/><Relationship Id="rId14" Type="http://schemas.openxmlformats.org/officeDocument/2006/relationships/hyperlink" Target="http://image.tsn.ua/media/images2/original/Jan2012/383552902.jpg" TargetMode="External"/><Relationship Id="rId15" Type="http://schemas.openxmlformats.org/officeDocument/2006/relationships/hyperlink" Target="http://wolki.name/uploads/posts/2012-06/1340053768_wolf_09_007.jpg" TargetMode="External"/><Relationship Id="rId16" Type="http://schemas.openxmlformats.org/officeDocument/2006/relationships/hyperlink" Target="http://lifeglobe.net/x/entry/940/26021_3.jpg" TargetMode="External"/><Relationship Id="rId17" Type="http://schemas.openxmlformats.org/officeDocument/2006/relationships/hyperlink" Target="http://www.kapishe.ru/kupala07b/P6222035.JPG" TargetMode="External"/><Relationship Id="rId18" Type="http://schemas.openxmlformats.org/officeDocument/2006/relationships/hyperlink" Target="http://i39.beon.ru/89/20/292089/92/8662192/0.jpeg" TargetMode="External"/><Relationship Id="rId19" Type="http://schemas.openxmlformats.org/officeDocument/2006/relationships/hyperlink" Target="http://tulaklub.ru/wp-content/uploads/2011/07/myravei.jpg" TargetMode="External"/><Relationship Id="rId2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67/Crow_Nest_Moscow.jpg" TargetMode="External"/><Relationship Id="rId2" Type="http://schemas.openxmlformats.org/officeDocument/2006/relationships/hyperlink" Target="http://www.oxothik.ru/userimages/image/articles/med_berloga.jpg" TargetMode="External"/><Relationship Id="rId3" Type="http://schemas.openxmlformats.org/officeDocument/2006/relationships/hyperlink" Target="http://russianpoetry.ru/images/photos/39e6556c7ea9ce0e008a1551ba4a34b8.jpg" TargetMode="External"/><Relationship Id="rId4" Type="http://schemas.openxmlformats.org/officeDocument/2006/relationships/hyperlink" Target="http://proffihunter.ru/uploads/posts/hatka_bobra.jpg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Tahoma"/>
                <a:ea typeface="Tahoma"/>
              </a:rPr>
              <a:t>КВН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ahoma"/>
                <a:ea typeface="Tahoma"/>
              </a:rPr>
              <a:t>«Путешествие по родному краю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572000" y="414972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ОУ «СОШ» пгт.Кож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еспублика Коми Печорский рай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иберт Ирина Анатольев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учитель географии и биолог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3"/>
          <p:cNvSpPr/>
          <p:nvPr/>
        </p:nvSpPr>
        <p:spPr>
          <a:xfrm>
            <a:off x="395280" y="404640"/>
            <a:ext cx="820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Дятлы могут безболезненно долбить кору деревьев благодаря особому строению черепа. В отличие от других птиц, клюв у дятлов не соединён напрямую с остальной частью черепа. Между ними имеется специальная ткань, выполняющая ту же функцию, что и амортизатор в автомобиле. В 1995 году пара дятлов принесла значительный ущерб НАСА, продолбив множество дырок в изоляции топливного бака шаттла Дискавери. Американцы были вынуждены перенести старт на два меся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395280" y="3333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На латыни снегирь именуется «пиррула», что в переводе означает «огненный», и получил он такое название из-за своего щегольского оперения: у него серая спинка и розовато-красные грудка, живот и бока. Впрочем, такой красивый наряд есть только у самцов, самочки же «одеты» гораздо скромнее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усское название снегиря возникло из распространенного заблуждения, что будто бы эти птицы прилетают в российские леса на зимовку. На самом деле значительная часть этих птиц живёт в них круглы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Мало кому известно ,что снегири хорошие певцы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Tahoma"/>
                <a:ea typeface="Tahoma"/>
              </a:rPr>
              <a:t>Давайте послушаем его пе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www.mypriroda.ru/im/birds_les/big_snegir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86520"/>
          </a:xfrm>
          <a:prstGeom prst="rect">
            <a:avLst/>
          </a:prstGeom>
          <a:ln w="0">
            <a:noFill/>
          </a:ln>
        </p:spPr>
      </p:pic>
      <p:pic>
        <p:nvPicPr>
          <p:cNvPr id="65" name="Snegir_obyknovennyj_Pyrrhula_pyrrhula_-_Penie_(get-tune.net).mp3" descr=""/>
          <p:cNvPicPr/>
          <p:nvPr/>
        </p:nvPicPr>
        <p:blipFill>
          <a:blip r:embed="rId2"/>
          <a:stretch/>
        </p:blipFill>
        <p:spPr>
          <a:xfrm>
            <a:off x="8244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9646"/>
                </a:solidFill>
                <a:latin typeface="Tahoma"/>
                <a:ea typeface="Tahoma"/>
              </a:rPr>
              <a:t>Конкурс «Звуки Лес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Определи по голосу живот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http://nature.sfu-kras.ru/files/nature/ljagushka-ostr.jpg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0">
            <a:noFill/>
          </a:ln>
        </p:spPr>
      </p:pic>
      <p:pic>
        <p:nvPicPr>
          <p:cNvPr id="69" name="Golosa_zhivoy_prirodi_-_Ozernaya_lyagushka_(get-tune.net)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9308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http://sinizi.narod.ru/singal38.jpg"/>
          <p:cNvPicPr/>
          <p:nvPr/>
        </p:nvPicPr>
        <p:blipFill>
          <a:blip r:embed="rId1"/>
          <a:stretch/>
        </p:blipFill>
        <p:spPr>
          <a:xfrm>
            <a:off x="395280" y="189000"/>
            <a:ext cx="8496360" cy="6337080"/>
          </a:xfrm>
          <a:prstGeom prst="rect">
            <a:avLst/>
          </a:prstGeom>
          <a:ln w="0">
            <a:noFill/>
          </a:ln>
        </p:spPr>
      </p:pic>
      <p:pic>
        <p:nvPicPr>
          <p:cNvPr id="72" name="Sinitsa_-_Penie_sinitsi_(get-tune.net).mp3" descr=""/>
          <p:cNvPicPr/>
          <p:nvPr/>
        </p:nvPicPr>
        <p:blipFill>
          <a:blip r:embed="rId2"/>
          <a:stretch/>
        </p:blipFill>
        <p:spPr>
          <a:xfrm>
            <a:off x="853272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belorechie.net/uploads/posts/2013-02/1361865498_kaban.jpg"/>
          <p:cNvPicPr/>
          <p:nvPr/>
        </p:nvPicPr>
        <p:blipFill>
          <a:blip r:embed="rId1"/>
          <a:stretch/>
        </p:blipFill>
        <p:spPr>
          <a:xfrm>
            <a:off x="395280" y="189000"/>
            <a:ext cx="8353440" cy="6408720"/>
          </a:xfrm>
          <a:prstGeom prst="rect">
            <a:avLst/>
          </a:prstGeom>
          <a:ln w="0">
            <a:noFill/>
          </a:ln>
        </p:spPr>
      </p:pic>
      <p:pic>
        <p:nvPicPr>
          <p:cNvPr id="74" name="ZHivie_zvuki_prirodi_-_Hryukane_kabana_(get-tune.net).mp3" descr=""/>
          <p:cNvPicPr/>
          <p:nvPr/>
        </p:nvPicPr>
        <p:blipFill>
          <a:blip r:embed="rId2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18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pticyrus.info/img/7.jpg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6264360"/>
          </a:xfrm>
          <a:prstGeom prst="rect">
            <a:avLst/>
          </a:prstGeom>
          <a:ln w="0">
            <a:noFill/>
          </a:ln>
        </p:spPr>
      </p:pic>
      <p:pic>
        <p:nvPicPr>
          <p:cNvPr id="76" name="Penie_ptits_-_Teterev_(get-tune.net).mp3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82449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1.bp.blogspot.com/-iErqBI9mZs0/UC60FX4uZ_I/AAAAAAAAB_4/s5nZ_74wmhI/s1600/%D0%BC%D0%B8%D1%88%D0%BA%D0%B0+%D0%BC%D0%B5%D0%B4%D0%B2%D0%B5%D0%B4%D1%8C.jpg"/>
          <p:cNvPicPr/>
          <p:nvPr/>
        </p:nvPicPr>
        <p:blipFill>
          <a:blip r:embed="rId1"/>
          <a:stretch/>
        </p:blipFill>
        <p:spPr>
          <a:xfrm>
            <a:off x="431640" y="260280"/>
            <a:ext cx="8317080" cy="6292800"/>
          </a:xfrm>
          <a:prstGeom prst="rect">
            <a:avLst/>
          </a:prstGeom>
          <a:ln w="0">
            <a:noFill/>
          </a:ln>
        </p:spPr>
      </p:pic>
      <p:pic>
        <p:nvPicPr>
          <p:cNvPr id="78" name="Rev_medvedya_-_Bez_nazvaniya_(get-tune.net).mp3" descr=""/>
          <p:cNvPicPr/>
          <p:nvPr/>
        </p:nvPicPr>
        <p:blipFill>
          <a:blip r:embed="rId2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996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animals-birds.ru/dytel.jpg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pic>
        <p:nvPicPr>
          <p:cNvPr id="80" name="Zvuki-prirody-Dyatel(muzofon.com).mp3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2576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4a2"/>
                </a:solidFill>
                <a:latin typeface="Tahoma"/>
                <a:ea typeface="Tahoma"/>
              </a:rPr>
              <a:t>КОНК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1. Отгадай загад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ru-RU" sz="2800" spc="-1" strike="noStrike">
                <a:solidFill>
                  <a:srgbClr val="1f497d"/>
                </a:solidFill>
                <a:latin typeface="Tahoma"/>
                <a:ea typeface="Tahoma"/>
              </a:rPr>
              <a:t>2. Самый умны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1" lang="ru-RU" sz="2800" spc="-1" strike="noStrike">
                <a:solidFill>
                  <a:srgbClr val="953735"/>
                </a:solidFill>
                <a:latin typeface="Tahoma"/>
                <a:ea typeface="Tahoma"/>
              </a:rPr>
              <a:t>3. « Звуки лес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4a7b"/>
                </a:solidFill>
                <a:latin typeface="Tahoma"/>
                <a:ea typeface="Tahoma"/>
              </a:rPr>
              <a:t>                                    </a:t>
            </a:r>
            <a:r>
              <a:rPr b="1" lang="ru-RU" sz="2800" spc="-1" strike="noStrike">
                <a:solidFill>
                  <a:srgbClr val="604a7b"/>
                </a:solidFill>
                <a:latin typeface="Tahoma"/>
                <a:ea typeface="Tahoma"/>
              </a:rPr>
              <a:t>4. « Кто? Где живёт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9646"/>
                </a:solidFill>
                <a:latin typeface="Tahoma"/>
                <a:ea typeface="Tahoma"/>
              </a:rPr>
              <a:t>  </a:t>
            </a:r>
            <a:r>
              <a:rPr b="1" lang="ru-RU" sz="2800" spc="-1" strike="noStrike">
                <a:solidFill>
                  <a:srgbClr val="4f6228"/>
                </a:solidFill>
                <a:latin typeface="Tahoma"/>
                <a:ea typeface="Tahoma"/>
              </a:rPr>
              <a:t>5.Литератур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age.tsn.ua/media/images2/original/Jan2012/383552902.jpg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  <p:pic>
        <p:nvPicPr>
          <p:cNvPr id="82" name="Ursus_arctos.wav" descr=""/>
          <p:cNvPicPr/>
          <p:nvPr/>
        </p:nvPicPr>
        <p:blipFill>
          <a:blip r:embed="rId2"/>
          <a:stretch/>
        </p:blipFill>
        <p:spPr>
          <a:xfrm>
            <a:off x="8172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19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olki.name/uploads/posts/2012-06/1340053768_wolf_09_007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pic>
        <p:nvPicPr>
          <p:cNvPr id="84" name="Muzika_prirodi._-_Voy_volka._(get-tune.net).mp3" descr=""/>
          <p:cNvPicPr/>
          <p:nvPr/>
        </p:nvPicPr>
        <p:blipFill>
          <a:blip r:embed="rId2"/>
          <a:stretch/>
        </p:blipFill>
        <p:spPr>
          <a:xfrm>
            <a:off x="8172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952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lifeglobe.net/x/entry/940/26021_3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0">
            <a:noFill/>
          </a:ln>
        </p:spPr>
      </p:pic>
      <p:pic>
        <p:nvPicPr>
          <p:cNvPr id="86" name="Filin_obiknovenniy_-_Zvuk_filina_(get-tune.net).mp3" descr=""/>
          <p:cNvPicPr/>
          <p:nvPr/>
        </p:nvPicPr>
        <p:blipFill>
          <a:blip r:embed="rId2"/>
          <a:stretch/>
        </p:blipFill>
        <p:spPr>
          <a:xfrm>
            <a:off x="802800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6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64804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64a2"/>
                </a:solidFill>
                <a:latin typeface="Tahoma"/>
                <a:ea typeface="Tahoma"/>
              </a:rPr>
              <a:t>Кто где живё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Назови жилище животного и определи,  какое животное в нём живё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www.kapishe.ru/kupala07b/P6222035.JPG"/>
          <p:cNvPicPr/>
          <p:nvPr/>
        </p:nvPicPr>
        <p:blipFill>
          <a:blip r:embed="rId1"/>
          <a:stretch/>
        </p:blipFill>
        <p:spPr>
          <a:xfrm>
            <a:off x="324000" y="260280"/>
            <a:ext cx="365760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i39.beon.ru/89/20/292089/92/8662192/0.jpeg"/>
          <p:cNvPicPr/>
          <p:nvPr/>
        </p:nvPicPr>
        <p:blipFill>
          <a:blip r:embed="rId2"/>
          <a:stretch/>
        </p:blipFill>
        <p:spPr>
          <a:xfrm>
            <a:off x="3924360" y="260280"/>
            <a:ext cx="4895640" cy="345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ttp://tulaklub.ru/wp-content/uploads/2011/07/myravei.jpg"/>
          <p:cNvPicPr/>
          <p:nvPr/>
        </p:nvPicPr>
        <p:blipFill>
          <a:blip r:embed="rId3"/>
          <a:stretch/>
        </p:blipFill>
        <p:spPr>
          <a:xfrm>
            <a:off x="324000" y="3716280"/>
            <a:ext cx="3527280" cy="292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t0.gstatic.com/images?q=tbn:ANd9GcQTiWrdXdhMzy_5DKpUR6oBexb-SNmzODJVmSr5eRFEe3ZymIIf"/>
          <p:cNvPicPr/>
          <p:nvPr/>
        </p:nvPicPr>
        <p:blipFill>
          <a:blip r:embed="rId4"/>
          <a:stretch/>
        </p:blipFill>
        <p:spPr>
          <a:xfrm>
            <a:off x="3851280" y="3716280"/>
            <a:ext cx="4968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oxothik.ru/userimages/image/articles/med_berloga.jpg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s://encrypted-tbn2.gstatic.com/images?q=tbn:ANd9GcQTg0o90Nxm-6vYuFIoRS7_mWqF2updJ2u-EniNwwk5Hesapodc"/>
          <p:cNvPicPr/>
          <p:nvPr/>
        </p:nvPicPr>
        <p:blipFill>
          <a:blip r:embed="rId2"/>
          <a:stretch/>
        </p:blipFill>
        <p:spPr>
          <a:xfrm>
            <a:off x="4643280" y="333360"/>
            <a:ext cx="4176720" cy="309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http://t1.gstatic.com/images?q=tbn:ANd9GcQLFbdNr_u5r0qfL04zHu697F5BAF68FufCnI1eDTSPLJCzAldt"/>
          <p:cNvPicPr/>
          <p:nvPr/>
        </p:nvPicPr>
        <p:blipFill>
          <a:blip r:embed="rId3"/>
          <a:stretch/>
        </p:blipFill>
        <p:spPr>
          <a:xfrm>
            <a:off x="324000" y="3429000"/>
            <a:ext cx="4319280" cy="314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kremennaya.com.ua/uploads/pi_157.jpg"/>
          <p:cNvPicPr/>
          <p:nvPr/>
        </p:nvPicPr>
        <p:blipFill>
          <a:blip r:embed="rId4"/>
          <a:stretch/>
        </p:blipFill>
        <p:spPr>
          <a:xfrm>
            <a:off x="4643280" y="3429000"/>
            <a:ext cx="4140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Tahoma"/>
                <a:ea typeface="Tahoma"/>
              </a:rPr>
              <a:t>Провери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Нора-Барс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Логово-Вол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Муравейник-Муравь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Гнездо-Во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Берлога-Медве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Дупло-Бел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Хатка-Бобё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Лежбище-Каб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Tahoma"/>
                <a:ea typeface="Tahoma"/>
              </a:rPr>
              <a:t>Литерату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ahoma"/>
                <a:ea typeface="Tahoma"/>
              </a:rPr>
              <a:t>Назовите известных коми-писателей, которые пишут об удивительном животном мире Коми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Литерату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http://foto11.com/komi/writer/pics/parmabook.jpg"/>
          <p:cNvPicPr/>
          <p:nvPr/>
        </p:nvPicPr>
        <p:blipFill>
          <a:blip r:embed="rId1"/>
          <a:stretch/>
        </p:blipFill>
        <p:spPr>
          <a:xfrm>
            <a:off x="3492360" y="3068640"/>
            <a:ext cx="2232000" cy="34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vorkuta-cbs.ru/wp-content/uploads/2012/05/%D1%88%D0%BE%D0%BC%D1%8B%D1%81%D0%BB%D0%BE%D0%B2.jpg"/>
          <p:cNvPicPr/>
          <p:nvPr/>
        </p:nvPicPr>
        <p:blipFill>
          <a:blip r:embed="rId2"/>
          <a:stretch/>
        </p:blipFill>
        <p:spPr>
          <a:xfrm>
            <a:off x="5796000" y="1341360"/>
            <a:ext cx="2987640" cy="3332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maaam.ru/upload/blogs/8c89394a3cda454c4e2f56286dfaadf7.png.jpg"/>
          <p:cNvPicPr/>
          <p:nvPr/>
        </p:nvPicPr>
        <p:blipFill>
          <a:blip r:embed="rId3"/>
          <a:stretch/>
        </p:blipFill>
        <p:spPr>
          <a:xfrm>
            <a:off x="395280" y="1197000"/>
            <a:ext cx="288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  <a:ea typeface="Tahoma"/>
              </a:rPr>
              <a:t>М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4f81bd"/>
                </a:solidFill>
                <a:latin typeface="Tahoma"/>
                <a:ea typeface="Tahoma"/>
              </a:rPr>
              <a:t>О </a:t>
            </a:r>
            <a:r>
              <a:rPr b="1" lang="ru-RU" sz="4400" spc="-1" strike="noStrike">
                <a:solidFill>
                  <a:srgbClr val="c0504d"/>
                </a:solidFill>
                <a:latin typeface="Tahoma"/>
                <a:ea typeface="Tahoma"/>
              </a:rPr>
              <a:t>Л </a:t>
            </a:r>
            <a:r>
              <a:rPr b="1" lang="ru-RU" sz="4400" spc="-1" strike="noStrike">
                <a:solidFill>
                  <a:srgbClr val="00b050"/>
                </a:solidFill>
                <a:latin typeface="Tahoma"/>
                <a:ea typeface="Tahom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ahoma"/>
                <a:ea typeface="Tahoma"/>
              </a:rPr>
              <a:t>Д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0070c0"/>
                </a:solidFill>
                <a:latin typeface="Tahoma"/>
                <a:ea typeface="Tahoma"/>
              </a:rPr>
              <a:t>Ц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Tahoma"/>
                <a:ea typeface="Tahoma"/>
              </a:rPr>
              <a:t>Ы </a:t>
            </a:r>
            <a:r>
              <a:rPr b="1" lang="ru-RU" sz="4400" spc="-1" strike="noStrike">
                <a:solidFill>
                  <a:srgbClr val="1f497d"/>
                </a:solidFill>
                <a:latin typeface="Tahoma"/>
                <a:ea typeface="Tahoma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тгадай</a:t>
            </a:r>
            <a:r>
              <a:rPr b="1" lang="ru-RU" sz="4400" spc="-1" strike="noStrike">
                <a:solidFill>
                  <a:srgbClr val="376092"/>
                </a:solidFill>
                <a:latin typeface="Times New Roman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загадки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971640" y="1413000"/>
            <a:ext cx="49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ahoma"/>
                <a:ea typeface="Tahoma"/>
              </a:rPr>
              <a:t>Днём скамья, а ночью  круг или хом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www.fresher.ru/images7/bu-sobaka-kotoraya-nravitsya-vsem/47.jpg"/>
          <p:cNvPicPr/>
          <p:nvPr/>
        </p:nvPicPr>
        <p:blipFill>
          <a:blip r:embed="rId1"/>
          <a:stretch/>
        </p:blipFill>
        <p:spPr>
          <a:xfrm>
            <a:off x="3276720" y="2565360"/>
            <a:ext cx="55162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Список  использованных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Собака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fresher.ru/images7/bu-sobaka-kotoraya-nravitsya-vsem/47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» Петух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top-desktop.ru/files/zhivotnye/1024/76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Корова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magic-zagovori.ru/wp-content/uploads/1zagovor-na-korovu-pozvolit-uvelichit-nadoi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Котёнок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catfoto.com/uploads/images/00/00/01/2011/05/20/2f29354070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 Олень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ebmandry.com/images/stories/2013/prirodnyje-zony/004-tundra/tundra-3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»Сова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goldensites.ru/media/1/20090503-b_709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Дятел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rupor.lt/uploads/monthly_05_2009/post-1426-1243231239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«Снегирь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http://www.ua.all.biz/img/ua/catalog/1948833.jp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92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Лягушка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nature.sfu-kras.ru/files/nature/ljagushka-ostr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Синица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sinizi.narod.ru/singal3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</a:rPr>
              <a:t>зображение « Кабан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belorechie.net/uploads/posts/2013-02/1361865498_kaba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Тетерев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 http://pticyrus.info/img/7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Изображение «Медведь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1.bp.blogspot.com/-iErqBI9mZs0/UC60FX4uZ_I/AAAAAAAAB_4/s5nZ_74wmhI/s1600/%D0%BC%D0%B8%D1%88%D0%BA%D0%B0+%D0%BC%D0%B5%D0%B4%D0%B2%D0%B5%D0%B4%D1%8C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Дятел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animals-birds.ru/dytel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» Лось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image.tsn.ua/media/images2/original/Jan2012/38355290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»Волк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olki.name/uploads/posts/2012-06/1340053768_wolf_09_007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Сова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lifeglobe.net/x/entry/940/26021_3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Нора барсука»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www.kapishe.ru/kupala07b/P622203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Логово волка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i39.beon.ru/89/20/292089/92/8662192/0.jp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»Муравейник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tulaklub.ru/wp-content/uploads/2011/07/myravei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Гнездо вороны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ic.academic.ru/pictures/wiki/files/67/Crow_Nest_Moscow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Берлога медведя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oxothik.ru/userimages/image/articles/med_berloga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дупло белки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ussianpoetry.ru/images/photos/39e6556c7ea9ce0e008a1551ba4a34b8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Хатка бобра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roffihunter.ru/uploads/posts/hatka_bobra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Лежбище кабана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ttp://kremennaya.com.ua/uploads/pi_157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рассказы о животных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ttp://i.livelib.ru/boocover/1000536157/l/7597/Mihail_Prishvin__Rasskazy_o_zhivotnyh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»Родники Пармы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ttp://foto11.com/komi/writer/pics/parmabook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Коми –русский словарь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ttp://www.vorkuta-cbs.ru/wp-content/uploads/2012/05/%D1%88%D0%BE%D0%BC%D1%8B%D1%81%D0%BB%D0%BE%D0%B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ображение « Мы живём в Республике Коми»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http://www.maaam.ru/upload/blogs/8c89394a3cda454c4e2f56286dfaadf7.png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47628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</a:t>
            </a:r>
            <a:r>
              <a:rPr b="1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  Сначала хлоп-хлоп, а затем резкий к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top-desktop.ru/files/zhivotnye/1024/76.jpg"/>
          <p:cNvPicPr/>
          <p:nvPr/>
        </p:nvPicPr>
        <p:blipFill>
          <a:blip r:embed="rId1"/>
          <a:stretch/>
        </p:blipFill>
        <p:spPr>
          <a:xfrm>
            <a:off x="4716360" y="1557360"/>
            <a:ext cx="417672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468360" y="620640"/>
            <a:ext cx="64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   </a:t>
            </a: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Стоит копна посреди дв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   </a:t>
            </a: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Спереди вилы, сзади мет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http://magic-zagovori.ru/wp-content/uploads/1zagovor-na-korovu-pozvolit-uvelichit-nadoi.jpg"/>
          <p:cNvPicPr/>
          <p:nvPr/>
        </p:nvPicPr>
        <p:blipFill>
          <a:blip r:embed="rId1"/>
          <a:stretch/>
        </p:blipFill>
        <p:spPr>
          <a:xfrm>
            <a:off x="3276720" y="1916280"/>
            <a:ext cx="55036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3"/>
          <p:cNvSpPr/>
          <p:nvPr/>
        </p:nvSpPr>
        <p:spPr>
          <a:xfrm>
            <a:off x="468360" y="404640"/>
            <a:ext cx="518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859c"/>
                </a:solidFill>
                <a:latin typeface="Tahoma"/>
                <a:ea typeface="Tahoma"/>
              </a:rPr>
              <a:t>У мышиной норы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ahoma"/>
                <a:ea typeface="Tahoma"/>
              </a:rPr>
              <a:t>Лежат крючья остры.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ahoma"/>
                <a:ea typeface="Tahoma"/>
              </a:rPr>
              <a:t>И повисли, горя,</a:t>
            </a:r>
            <a:br>
              <a:rPr sz="3200"/>
            </a:br>
            <a:r>
              <a:rPr b="1" lang="ru-RU" sz="3200" spc="-1" strike="noStrike">
                <a:solidFill>
                  <a:srgbClr val="31859c"/>
                </a:solidFill>
                <a:latin typeface="Tahoma"/>
                <a:ea typeface="Tahoma"/>
              </a:rPr>
              <a:t>Два зеленых фона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ourkoshki.ru/images/large_01_kotenok.jpg"/>
          <p:cNvPicPr/>
          <p:nvPr/>
        </p:nvPicPr>
        <p:blipFill>
          <a:blip r:embed="rId1"/>
          <a:stretch/>
        </p:blipFill>
        <p:spPr>
          <a:xfrm>
            <a:off x="3708360" y="2421000"/>
            <a:ext cx="5243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4"/>
          <p:cNvSpPr/>
          <p:nvPr/>
        </p:nvSpPr>
        <p:spPr>
          <a:xfrm>
            <a:off x="3419640" y="33336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ahoma"/>
                <a:ea typeface="Tahoma"/>
              </a:rPr>
              <a:t>Старик в пушистом совике в прорубь смотр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http://webmandry.com/images/stories/2013/prirodnyje-zony/004-tundra/tundra-3.jpg"/>
          <p:cNvPicPr/>
          <p:nvPr/>
        </p:nvPicPr>
        <p:blipFill>
          <a:blip r:embed="rId1"/>
          <a:stretch/>
        </p:blipFill>
        <p:spPr>
          <a:xfrm>
            <a:off x="395280" y="2205000"/>
            <a:ext cx="5616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395280" y="260280"/>
            <a:ext cx="518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Есть сторож ночной у огромного дома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Как только на лес опускается дрема,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Ухая гулко, на вахту спешит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ahoma"/>
                <a:ea typeface="Tahoma"/>
              </a:rPr>
              <a:t>И светит фонариком: кто там шурш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goldensites.ru/media/1/20090503-b_709.jpg"/>
          <p:cNvPicPr/>
          <p:nvPr/>
        </p:nvPicPr>
        <p:blipFill>
          <a:blip r:embed="rId1"/>
          <a:stretch/>
        </p:blipFill>
        <p:spPr>
          <a:xfrm>
            <a:off x="4140360" y="2924280"/>
            <a:ext cx="45720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ум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Что ты знаешь об этих птица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http://www.rupor.lt/uploads/monthly_05_2009/post-1426-1243231239.jpg"/>
          <p:cNvPicPr/>
          <p:nvPr/>
        </p:nvPicPr>
        <p:blipFill>
          <a:blip r:embed="rId1"/>
          <a:stretch/>
        </p:blipFill>
        <p:spPr>
          <a:xfrm>
            <a:off x="395280" y="1989000"/>
            <a:ext cx="3600360" cy="4526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http://www.ua.all.biz/img/ua/catalog/1948833.jpeg"/>
          <p:cNvPicPr/>
          <p:nvPr/>
        </p:nvPicPr>
        <p:blipFill>
          <a:blip r:embed="rId2"/>
          <a:stretch/>
        </p:blipFill>
        <p:spPr>
          <a:xfrm>
            <a:off x="4211640" y="1916280"/>
            <a:ext cx="4537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9T17:09:31Z</dcterms:created>
  <dc:creator>Катенок</dc:creator>
  <dc:description/>
  <dc:language>en-US</dc:language>
  <cp:lastModifiedBy>Пользователь</cp:lastModifiedBy>
  <dcterms:modified xsi:type="dcterms:W3CDTF">2013-06-26T19:15:28Z</dcterms:modified>
  <cp:revision>63</cp:revision>
  <dc:subject/>
  <dc:title>Презентация PowerPoint</dc:title>
</cp:coreProperties>
</file>