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5.jpeg" ContentType="image/jpeg"/>
  <Override PartName="/ppt/media/image43.png" ContentType="image/png"/>
  <Override PartName="/ppt/media/image5.jpeg" ContentType="image/jpeg"/>
  <Override PartName="/ppt/media/image26.jpeg" ContentType="image/jpeg"/>
  <Override PartName="/ppt/media/image53.jpeg" ContentType="image/jpeg"/>
  <Override PartName="/ppt/media/image20.gif" ContentType="image/gif"/>
  <Override PartName="/ppt/media/image12.jpeg" ContentType="image/jpeg"/>
  <Override PartName="/ppt/media/image27.png" ContentType="image/png"/>
  <Override PartName="/ppt/media/image22.jpeg" ContentType="image/jpeg"/>
  <Override PartName="/ppt/media/image42.wmf" ContentType="image/x-wmf"/>
  <Override PartName="/ppt/media/image17.gif" ContentType="image/gif"/>
  <Override PartName="/ppt/media/image23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29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10.jpeg" ContentType="image/jpeg"/>
  <Override PartName="/ppt/media/image21.gif" ContentType="image/gif"/>
  <Override PartName="/ppt/media/image3.png" ContentType="image/png"/>
  <Override PartName="/ppt/media/image56.jpeg" ContentType="image/jpeg"/>
  <Override PartName="/ppt/media/image54.jpeg" ContentType="image/jpeg"/>
  <Override PartName="/ppt/media/image33.png" ContentType="image/png"/>
  <Override PartName="/ppt/media/image61.jpeg" ContentType="image/jpeg"/>
  <Override PartName="/ppt/media/image40.png" ContentType="image/png"/>
  <Override PartName="/ppt/media/image60.png" ContentType="image/png"/>
  <Override PartName="/ppt/media/image6.jpeg" ContentType="image/jpeg"/>
  <Override PartName="/ppt/media/image59.png" ContentType="image/png"/>
  <Override PartName="/ppt/media/image24.jpeg" ContentType="image/jpeg"/>
  <Override PartName="/ppt/media/image19.jpeg" ContentType="image/jpeg"/>
  <Override PartName="/ppt/media/image18.jpeg" ContentType="image/jpeg"/>
  <Override PartName="/ppt/media/image63.wmf" ContentType="image/x-wmf"/>
  <Override PartName="/ppt/media/image15.jpeg" ContentType="image/jpeg"/>
  <Override PartName="/ppt/media/image50.wmf" ContentType="image/x-wmf"/>
  <Override PartName="/ppt/media/image28.png" ContentType="image/png"/>
  <Override PartName="/ppt/media/image38.jpeg" ContentType="image/jpeg"/>
  <Override PartName="/ppt/media/image4.png" ContentType="image/png"/>
  <Override PartName="/ppt/media/image7.jpeg" ContentType="image/jpeg"/>
  <Override PartName="/ppt/media/image16.png" ContentType="image/pn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png" ContentType="image/png"/>
  <Override PartName="/ppt/media/image31.png" ContentType="image/png"/>
  <Override PartName="/ppt/media/image32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36.jpeg" ContentType="image/jpeg"/>
  <Override PartName="/ppt/media/image57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media/image13.jpeg" ContentType="image/jpeg"/>
  <Override PartName="/ppt/media/image47.wmf" ContentType="image/x-wmf"/>
  <Override PartName="/ppt/media/image49.wmf" ContentType="image/x-wmf"/>
  <Override PartName="/ppt/media/image51.png" ContentType="image/png"/>
  <Override PartName="/ppt/media/image5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dt" idx="2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5C9B0-1543-4063-BBBD-9BB6D1B64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F6675-8507-419E-9084-6E3C09C767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E3A1A-0415-4DE6-945C-8BFF92660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A311D-627E-4071-9398-B2525A6F8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37181-AF92-4170-ABB5-F21A58FE0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614F1-25FF-45D6-80F1-5415A7DFC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779D-A46F-46A1-A369-3948FDC13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4761B-A9B0-4376-8ECD-46EC3EDCE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152ED-BBB3-4A4B-B4E1-5B23CF70F1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9309F7-4815-460B-AFA1-6F2C98FC9C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BDEB-1E50-4864-B6A0-E563A38CF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AD625-D15A-43A7-A784-FD48BC6B6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7C43F-46EC-450B-BB59-CA97075FBD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58D2D-90B3-4C8A-89EA-EC034E1B7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3F46-1C68-4900-A405-F056786F3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D56CD-531F-46C7-A06C-C72D6AB36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2165B-7086-4C6C-AF64-E4B59257B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3D02-49A4-413A-813D-861606CFF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E73A88-9C99-44A6-B591-9506E72C1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AF7BA-D794-44CC-96E5-3B0D0EB69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28F75A-6FA6-464E-80F9-6BAC78444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F41F2-00A7-4449-855B-BC689573E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402DA-8095-4C3B-8428-6951FD7B6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85759F-EC5F-4A2E-A910-8A1B93D85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F5436-11D7-4E1B-ABC7-3E7E4CAC8E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64ADA-83F1-40E2-9C34-D105FF955D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49FC1-A89E-454D-936F-A3FD699F5B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C1DD-79DF-4DB5-AA15-7715E0A84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09A5-2B01-4033-8A8D-549C4DE5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74B9-244B-43FF-A010-DF16884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507E-1DF3-49CA-9C06-8840C89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D372-D5D6-48F3-9557-90CDA36A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5B9D-1AE5-47C3-95F2-D7B2A6C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A8C3-7047-4875-B687-75D102ED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34CD-19DE-41FB-8974-77C7B11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08C8-F6BE-42DF-8DC5-E45DC338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56E9-9B5D-4DE2-919A-FF2274A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0C57-4637-41B5-8715-D570697F66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DB673-72CC-4072-8A74-77892FE4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479C-D961-41F7-8A84-585C905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DE9FF-D027-4345-8FAE-D63AF9CFBC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4B2C92-8EC7-4487-8AFE-FBFFF4E191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A4B88-1126-44CA-A0B4-F98BE9705D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2F96A-CE20-4E4B-8538-25E4C273E3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4AF9B6-4053-4814-9B52-F3596F30569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D3660-9D49-4FB0-8BA7-D8FFBAF738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D79D3-F581-4B24-8EFB-296561D8F1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42474D-81A6-4602-A078-4A9CF91F2A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5BB53-1DAA-4B08-8F6E-EEA46368E0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0AA94-D5BD-4318-8964-FDD491882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5F67-B31B-46A2-980F-00F4D7F61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D9F42-9395-47B8-83F6-8C38647223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70CF2-51A7-4601-BCF7-5872EA4D63F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1979C-F049-4A42-A3DC-A7BCEA5FFE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1B69D-F35C-4BB3-B844-E43C8F735F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12064-9538-4367-A020-8CF1BAC7827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B833D-1076-4CB0-9207-251B0FEFBF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510DA-251C-410D-9B67-C9D59DC9DD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CDB03-EEE2-422A-AAA6-1442D84695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11F31-4072-4333-9237-354C2F289C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511DD-16BF-4E81-85CE-90655CAF4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55A1-B639-4C7F-A36B-53381AC02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11E21-B1E6-4B17-BFA6-5D5A5C0E7E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EA562-7F7B-4070-B9F7-D12FB27309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FEB40-5C80-42D5-8078-6301BC587C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D439-84EF-429F-BFD2-4463557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7868F-B8DC-4F69-BB72-E72484E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7E71-1D65-42E3-8B42-A8312045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84DE-DC8F-4D62-8E65-C8FB06F1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E4074-BEC1-4A41-B7E1-A9911223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0F66-35CF-45AB-BF0A-EDC8032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1368-906B-48CE-82DC-74B98A64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56E9B-F827-4075-94EF-0E3754E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6FA9-E0BA-4B73-87AE-A9ADB69B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ED6F6-DD9C-4581-A85B-96C62C5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40B19-1320-413E-8526-9673A17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F7024-BAAC-495A-892E-2B952166C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069A-B041-4F60-92D2-54B306BEA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199-F738-49F1-9A9D-023F74AC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A062-7F04-48EE-8392-D439B0E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29D5-0519-4CE7-8FEE-AB8143E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E6EB-4D4A-4997-9E07-6FE7EA78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919D-1D96-40A6-93BD-0110D771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12C-EBC1-4EAF-ADE7-6BC79A1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AC5-617A-4005-9E0A-0C1A0A4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639-5EBA-4F59-A9FE-5C0665D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0F7D-E053-4E2E-8D65-FA4703AC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502-2269-449A-8E12-B2FDE2AA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3FF-3387-4A29-BE2D-78A19FA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7A61-0829-446B-8168-5FC576E3C8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0AC6D-1728-43F3-A8A3-16C288F4B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C0A7E-AE69-4FAC-BAAF-216D4DD8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9A6E0-6334-4AA2-B592-B89A0A8D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594E-523C-4BDF-B4D9-E60E30A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32494-5E96-4B0F-B52E-A65FC032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D0B8C-C66D-47C6-B367-BBEDA62C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DA0FD-39AA-43C0-8F8F-2357B19E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4A5AF-F27D-407D-BA95-154C8DBE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E8670-48AE-49CE-BE82-C296F5B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A833-4BB0-4DD7-A2CE-C6053EEE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9C1AD-F209-4568-952E-E6127B3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DEC63-E496-43F7-93CD-DD00846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07E17-30F7-4F53-9616-D3EBD8361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46735-E703-40A7-A778-1388C7BE92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CD36-AE32-48C8-BE75-D8C6943F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DBF60-99A8-47F4-8CEA-529E12E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0E836-5E30-48F9-AE13-014CCB95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1A8D5-338C-453A-B144-BD85F09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CE71D-89C4-4F55-9DFC-EAC9F1E5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2BA59-531A-473B-B57B-5D310623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03E98-3291-43A4-A1B4-16861F4C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DFE99-380F-4401-8353-BA68E937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F3648-EC03-4684-A716-83D6A338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401D9-A1CB-49CE-B419-DE05871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FBB0B-1B64-4908-BC8B-C3F7F9A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2A44-79B1-47F8-A066-B02BC65C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3BA1C-7D02-436F-859C-2002ED3C3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6137-F1C4-4A68-A0E1-E471B7007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B960-4281-4B88-B31F-F5CF7C97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4B23-1F58-4E75-BA15-2538F31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66AD0-FE70-4ED2-A3FD-93D7A6C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890A-5686-4DD5-89A7-2BFE9A8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A254-D54F-4DD8-AB4A-58DE740B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02A6-7789-4534-B757-DD8026D5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3D88-083E-45DF-BF24-386C946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FF1E-33FE-4610-BFCE-7C67F5D7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5B5D-84F8-4213-AD27-433F5F8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0C7C-4E19-40DB-AD44-3B4682F1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9A794-40EE-42EB-A93B-8756227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7092-8ABA-4437-8D2F-561DE3813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BB483-FA54-4714-B334-EC13BE932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A7584-78A6-4F35-9787-47AD709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FE29D-CE21-4A71-8560-C6A37BAC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B3E68-2751-42A9-8854-C972C69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1A100-240E-4A23-BAF2-8B39593C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F4356-6F2E-48AC-9092-C57BB58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F7239-84C5-411C-8977-E04E0CD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F5BE-7AF3-4A66-844B-55BCA254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F5F41-FC55-487A-B28E-32B6A078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9A782-5C4A-4548-B50B-DBD70A4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D57D0-A266-46F3-A2BC-7697C2C0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49DEB-06E5-4927-AF07-B3A5B3EF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C49F2-B37B-4FE1-A7B6-1CDE003B1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6D809-5EE2-4E85-BDA1-98FC2A4D2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EC003-5EF2-4DBE-A453-B32B8A2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3EA5A-2146-44B7-9534-B7448521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CEF1F-2B91-424E-8B5C-4512061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83C8ED-78F9-4E66-85C6-C5642AEA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BF05-6CE1-4339-8AF9-255714E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7806B-9AA9-423D-9126-FB49AC2A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186D3-AD35-4EF8-BE45-D9FCF26D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4188E-16F8-4F4C-8F55-328A598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0B5A5-612F-486B-8776-94F3B1C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83326-36B0-44B0-91CD-76B87E22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3534A-7520-469B-8AE2-85F12AD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50A474-A8E4-41B3-9E25-8510D5D4D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9AB0-2E18-4D06-89A7-87BF97554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C1FB0-23E2-4D76-85FE-4AAC350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00A0-A856-45B6-B6D3-7D59303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5947F6-453F-44F3-BE77-379937B6E0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0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03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406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9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3C9A3A-05A1-418A-BB43-72AAD58CB27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5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53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6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456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9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C731C7-DC7E-475D-9297-D44939E5890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080" y="534924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AF997C-004F-4F31-913C-F2883B6FCF0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0C01DC-CD41-4439-9A9A-AB0CE8B8D0F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080" y="344376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C1E747-85B3-421A-A8F6-E61A3FC44E2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080" y="60192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5C0CAD-6FCA-4398-9012-98B29D06430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61B4AD-D0E7-4D1B-BE96-AA1F7D4491AB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080" y="584748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65AD8-182A-4CC2-AC77-3FDC5192950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9420BA-A84D-4514-BD13-9B19307160A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989EB9-82B7-4025-A97C-F892403E9518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jpeg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WordArt 1"/>
          <p:cNvSpPr txBox="1"/>
          <p:nvPr/>
        </p:nvSpPr>
        <p:spPr>
          <a:xfrm>
            <a:off x="395280" y="2060640"/>
            <a:ext cx="8136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214200" y="28584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Georgia"/>
              </a:rPr>
              <a:t>                             </a:t>
            </a:r>
            <a:r>
              <a:rPr b="1" i="1" lang="ru-RU" sz="1400" spc="-1" strike="noStrike">
                <a:solidFill>
                  <a:srgbClr val="0070c0"/>
                </a:solidFill>
                <a:latin typeface="Georgia"/>
              </a:rPr>
              <a:t>«У каждого есть своя Родина, у каждого есть свой дом, где он родился…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Georgia"/>
              </a:rPr>
              <a:t>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0070c0"/>
                </a:solidFill>
                <a:latin typeface="Georgia"/>
              </a:rPr>
              <a:t>Николай Друж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714680" y="1857240"/>
            <a:ext cx="607212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01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емля моя родная Тамбовский край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500040" y="4143240"/>
            <a:ext cx="3357720" cy="23576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6"/>
          <p:cNvSpPr/>
          <p:nvPr/>
        </p:nvSpPr>
        <p:spPr>
          <a:xfrm>
            <a:off x="4572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609480" y="557280"/>
            <a:ext cx="82184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762120" y="709560"/>
            <a:ext cx="82184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WordArt 9"/>
          <p:cNvSpPr txBox="1"/>
          <p:nvPr/>
        </p:nvSpPr>
        <p:spPr>
          <a:xfrm>
            <a:off x="6012000" y="3933720"/>
            <a:ext cx="2881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Impact"/>
              </a:rPr>
              <a:t>Булгакова М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Impact"/>
              </a:rPr>
              <a:t>учитель 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Impact"/>
              <a:ea typeface="Impact"/>
            </a:endParaRPr>
          </a:p>
        </p:txBody>
      </p:sp>
      <p:sp>
        <p:nvSpPr>
          <p:cNvPr id="516" name="WordArt 10"/>
          <p:cNvSpPr txBox="1"/>
          <p:nvPr/>
        </p:nvSpPr>
        <p:spPr>
          <a:xfrm>
            <a:off x="5940360" y="573408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лиа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БОУ Увваровщинской СОШ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Шино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3214800" y="35712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Воды Тамбовщ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46120" cy="1454400"/>
          </a:xfrm>
          <a:prstGeom prst="rect">
            <a:avLst/>
          </a:prstGeom>
          <a:ln w="0">
            <a:noFill/>
          </a:ln>
        </p:spPr>
      </p:pic>
      <p:sp>
        <p:nvSpPr>
          <p:cNvPr id="564" name="WordArt 4"/>
          <p:cNvSpPr txBox="1"/>
          <p:nvPr/>
        </p:nvSpPr>
        <p:spPr>
          <a:xfrm>
            <a:off x="4714920" y="1428840"/>
            <a:ext cx="30718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98 рек и реч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Прямоугольник 5"/>
          <p:cNvSpPr/>
          <p:nvPr/>
        </p:nvSpPr>
        <p:spPr>
          <a:xfrm>
            <a:off x="571680" y="2143080"/>
            <a:ext cx="7500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По территории Кирсановского района протекает река Ворона. Река Ворона является правым притоком Хопра. Исток ее в Пензенской области на склоне Приволжской возвышенности. Ворона,  - самая красивая река по мнению многих краеведов, которая протекает среди леса и является одним из заповедных уголков Тамбовского края.  Длина её 454 км., из 234 км в Тамбовской области. В 1994 году на реке Ворона выше поселка Инжавино создан в области государственный заповедник</a:t>
            </a:r>
            <a:r>
              <a:rPr b="1" i="1" lang="en-US" sz="1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«Ворони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1" descr=""/>
          <p:cNvPicPr/>
          <p:nvPr/>
        </p:nvPicPr>
        <p:blipFill>
          <a:blip r:embed="rId2"/>
          <a:stretch/>
        </p:blipFill>
        <p:spPr>
          <a:xfrm>
            <a:off x="4500720" y="4357800"/>
            <a:ext cx="38574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1"/>
          <p:cNvSpPr/>
          <p:nvPr/>
        </p:nvSpPr>
        <p:spPr>
          <a:xfrm>
            <a:off x="1857240" y="1000080"/>
            <a:ext cx="121464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2"/>
          <p:cNvSpPr/>
          <p:nvPr/>
        </p:nvSpPr>
        <p:spPr>
          <a:xfrm>
            <a:off x="285840" y="250020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3"/>
          <p:cNvSpPr/>
          <p:nvPr/>
        </p:nvSpPr>
        <p:spPr>
          <a:xfrm>
            <a:off x="4000680" y="250020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6286680" y="407196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1357200" y="4071960"/>
            <a:ext cx="121464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0" y="557208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1357200" y="5572080"/>
            <a:ext cx="121464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2786040" y="5572080"/>
            <a:ext cx="121464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9"/>
          <p:cNvSpPr/>
          <p:nvPr/>
        </p:nvSpPr>
        <p:spPr>
          <a:xfrm>
            <a:off x="5000760" y="550080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6286680" y="550080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7643880" y="5500800"/>
            <a:ext cx="1214280" cy="1143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2"/>
          <p:cNvSpPr/>
          <p:nvPr/>
        </p:nvSpPr>
        <p:spPr>
          <a:xfrm flipH="1">
            <a:off x="2496960" y="2214720"/>
            <a:ext cx="5040" cy="14256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857160" y="2286000"/>
            <a:ext cx="3786120" cy="144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14"/>
          <p:cNvSpPr/>
          <p:nvPr/>
        </p:nvSpPr>
        <p:spPr>
          <a:xfrm flipH="1">
            <a:off x="853920" y="2286000"/>
            <a:ext cx="5040" cy="14292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4568760" y="2286000"/>
            <a:ext cx="6480" cy="14292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2571840" y="4643280"/>
            <a:ext cx="3714840" cy="180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7"/>
          <p:cNvSpPr/>
          <p:nvPr/>
        </p:nvSpPr>
        <p:spPr>
          <a:xfrm flipH="1">
            <a:off x="4568760" y="3716280"/>
            <a:ext cx="6480" cy="92880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8"/>
          <p:cNvSpPr/>
          <p:nvPr/>
        </p:nvSpPr>
        <p:spPr>
          <a:xfrm flipH="1">
            <a:off x="1925280" y="5288040"/>
            <a:ext cx="4680" cy="21420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6891120" y="5216400"/>
            <a:ext cx="4680" cy="28584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20"/>
          <p:cNvSpPr/>
          <p:nvPr/>
        </p:nvSpPr>
        <p:spPr>
          <a:xfrm flipH="1">
            <a:off x="498240" y="5286240"/>
            <a:ext cx="1431720" cy="28584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1928880" y="5286240"/>
            <a:ext cx="1463760" cy="28584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5607000" y="5286240"/>
            <a:ext cx="1324080" cy="21456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6929280" y="5286240"/>
            <a:ext cx="1214640" cy="142920"/>
          </a:xfrm>
          <a:prstGeom prst="line">
            <a:avLst/>
          </a:prstGeom>
          <a:ln w="10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642960" y="0"/>
            <a:ext cx="828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3171e"/>
                </a:solidFill>
                <a:latin typeface="Franklin Gothic Medium"/>
              </a:rPr>
              <a:t>                          </a:t>
            </a:r>
            <a:r>
              <a:rPr b="1" lang="ru-RU" sz="2400" spc="-1" strike="noStrike">
                <a:solidFill>
                  <a:srgbClr val="a3171e"/>
                </a:solidFill>
                <a:latin typeface="Franklin Gothic Medium"/>
              </a:rPr>
              <a:t>Заполни схе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3171e"/>
                </a:solidFill>
                <a:latin typeface="Franklin Gothic Medium"/>
              </a:rPr>
              <a:t> </a:t>
            </a:r>
            <a:r>
              <a:rPr b="1" i="1" lang="ru-RU" sz="2000" spc="-1" strike="noStrike">
                <a:solidFill>
                  <a:srgbClr val="a3171e"/>
                </a:solidFill>
                <a:latin typeface="Franklin Gothic Medium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Водные ресурсы Тамбов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"/>
          <p:cNvSpPr/>
          <p:nvPr/>
        </p:nvSpPr>
        <p:spPr>
          <a:xfrm>
            <a:off x="1000080" y="685800"/>
            <a:ext cx="7686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Наиболее крупные озера </a:t>
            </a:r>
            <a:r>
              <a:rPr b="1" i="1" lang="en-US" sz="24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нашей обл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70c0"/>
                </a:solidFill>
                <a:latin typeface="Georgia"/>
              </a:rPr>
              <a:t>Рамза в Кирсановском районе;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Georgia"/>
              </a:rPr>
              <a:t>Красное в Моршанском районе;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Georgia"/>
              </a:rPr>
              <a:t>Чистоозерное, Святовское, Чистое и Княжное в Тамбовском районе.</a:t>
            </a:r>
            <a:br>
              <a:rPr sz="2800"/>
            </a:br>
            <a:br>
              <a:rPr sz="39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"/>
          <p:cNvSpPr/>
          <p:nvPr/>
        </p:nvSpPr>
        <p:spPr>
          <a:xfrm>
            <a:off x="1571760" y="57168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Почвы Тамбовского к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214200" y="1071720"/>
            <a:ext cx="87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9639d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9639d"/>
                </a:solidFill>
                <a:latin typeface="Georgia"/>
              </a:rPr>
              <a:t>Почва -  особое природное тело, образующиеся на поверхности Земли и обладающее уникальным свойством – плодороди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285840" y="185724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9639d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9639d"/>
                </a:solidFill>
                <a:latin typeface="Georgia"/>
              </a:rPr>
              <a:t>Природа щедро наградила Тамбовскую область, подарив ей самые плодородные почвы – чернозёмы, которые дают нам  урожаи зерновых и технических культу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3429000" y="400068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571680" y="40006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"/>
          <p:cNvPicPr/>
          <p:nvPr/>
        </p:nvPicPr>
        <p:blipFill>
          <a:blip r:embed="rId3"/>
          <a:stretch/>
        </p:blipFill>
        <p:spPr>
          <a:xfrm>
            <a:off x="6215040" y="4000680"/>
            <a:ext cx="2214720" cy="24285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079640" y="3502080"/>
            <a:ext cx="6102360" cy="3517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6119640" y="3852720"/>
            <a:ext cx="2079720" cy="26272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4"/>
          <p:cNvSpPr/>
          <p:nvPr/>
        </p:nvSpPr>
        <p:spPr>
          <a:xfrm>
            <a:off x="1785960" y="357120"/>
            <a:ext cx="66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Arial"/>
              </a:rPr>
              <a:t>Растительный и животный мир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"/>
          <p:cNvSpPr/>
          <p:nvPr/>
        </p:nvSpPr>
        <p:spPr>
          <a:xfrm>
            <a:off x="571680" y="107172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Georgia"/>
              </a:rPr>
              <a:t>Природа Тамбовщины – леса, реки, озера, овраги, родники, просторные разнотравно-злаковые луга. Эти пейзажи как нельзя больше подходят для неспешного  отдыха с рыбалкой, купанием, прогулками на велосипеде… Диковинных мест здесь не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" descr=""/>
          <p:cNvPicPr/>
          <p:nvPr/>
        </p:nvPicPr>
        <p:blipFill>
          <a:blip r:embed="rId1"/>
          <a:stretch/>
        </p:blipFill>
        <p:spPr>
          <a:xfrm>
            <a:off x="857160" y="4357800"/>
            <a:ext cx="3071880" cy="162216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2"/>
          <p:cNvSpPr/>
          <p:nvPr/>
        </p:nvSpPr>
        <p:spPr>
          <a:xfrm>
            <a:off x="0" y="4572000"/>
            <a:ext cx="1071720" cy="428760"/>
          </a:xfrm>
          <a:prstGeom prst="wedgeRectCallout">
            <a:avLst>
              <a:gd name="adj1" fmla="val 73351"/>
              <a:gd name="adj2" fmla="val 60944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есостепная зо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28760" y="1428840"/>
            <a:ext cx="82864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Тамбовская область расположена  в лесостепной зоне. На территории  нашего края расположились различные сообщества: леса, степи, болота, водные сообщества, культурные растения, а также сообщества сорных растений, сопутствующие человеку. Все они образуют непрерывный, сплошной растительный покров. Видовой состав представлен более чем 1500 видами.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огласно геоботаническому районированию, выделено 2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дзон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>
            <a:off x="6500880" y="4143240"/>
            <a:ext cx="1587600" cy="165420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>
            <a:off x="5143680" y="3571920"/>
            <a:ext cx="2428560" cy="428760"/>
          </a:xfrm>
          <a:prstGeom prst="wedgeRectCallout">
            <a:avLst>
              <a:gd name="adj1" fmla="val 38171"/>
              <a:gd name="adj2" fmla="val 165009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еверная лесостеп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5143680" y="5929200"/>
            <a:ext cx="2643120" cy="500040"/>
          </a:xfrm>
          <a:prstGeom prst="wedgeRectCallout">
            <a:avLst>
              <a:gd name="adj1" fmla="val 32550"/>
              <a:gd name="adj2" fmla="val -153601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Типичная лесостеп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7"/>
          <p:cNvGrpSpPr/>
          <p:nvPr/>
        </p:nvGrpSpPr>
        <p:grpSpPr>
          <a:xfrm>
            <a:off x="142920" y="214200"/>
            <a:ext cx="8697960" cy="1150920"/>
            <a:chOff x="142920" y="214200"/>
            <a:chExt cx="8697960" cy="1150920"/>
          </a:xfrm>
        </p:grpSpPr>
        <p:pic>
          <p:nvPicPr>
            <p:cNvPr id="609" name="Picture 8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8697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9"/>
            <p:cNvSpPr/>
            <p:nvPr/>
          </p:nvSpPr>
          <p:spPr>
            <a:xfrm>
              <a:off x="142920" y="214200"/>
              <a:ext cx="869796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2214720" cy="1950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1143000" y="1928880"/>
            <a:ext cx="1511280" cy="701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"/>
          <p:cNvPicPr/>
          <p:nvPr/>
        </p:nvPicPr>
        <p:blipFill>
          <a:blip r:embed="rId3"/>
          <a:stretch/>
        </p:blipFill>
        <p:spPr>
          <a:xfrm>
            <a:off x="6072120" y="20001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"/>
          <p:cNvPicPr/>
          <p:nvPr/>
        </p:nvPicPr>
        <p:blipFill>
          <a:blip r:embed="rId4"/>
          <a:stretch/>
        </p:blipFill>
        <p:spPr>
          <a:xfrm>
            <a:off x="6516720" y="2205000"/>
            <a:ext cx="2085840" cy="700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5"/>
          <a:stretch/>
        </p:blipFill>
        <p:spPr>
          <a:xfrm>
            <a:off x="214200" y="4714920"/>
            <a:ext cx="2428920" cy="1949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6"/>
          <a:stretch/>
        </p:blipFill>
        <p:spPr>
          <a:xfrm>
            <a:off x="324000" y="5229360"/>
            <a:ext cx="2732040" cy="699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7"/>
          <a:stretch/>
        </p:blipFill>
        <p:spPr>
          <a:xfrm>
            <a:off x="3143160" y="321480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8"/>
          <a:stretch/>
        </p:blipFill>
        <p:spPr>
          <a:xfrm>
            <a:off x="6215040" y="471492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9"/>
          <a:stretch/>
        </p:blipFill>
        <p:spPr>
          <a:xfrm>
            <a:off x="6211800" y="4900680"/>
            <a:ext cx="2938680" cy="11890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0"/>
          <p:cNvSpPr/>
          <p:nvPr/>
        </p:nvSpPr>
        <p:spPr>
          <a:xfrm>
            <a:off x="3132000" y="3500280"/>
            <a:ext cx="272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f812b"/>
                </a:solidFill>
                <a:latin typeface="Tahoma"/>
              </a:rPr>
              <a:t>Культурные 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21420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Georgia"/>
              </a:rPr>
              <a:t>Растительные со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3714840" y="2857680"/>
            <a:ext cx="3929040" cy="31255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0" y="213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2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сн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24000" y="141300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новными типами явля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0" y="278136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2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сново-широколиств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0" y="393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ерезня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0" y="4643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убра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3929040" y="31431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da1f28"/>
                </a:solidFill>
                <a:latin typeface="Arial"/>
              </a:rPr>
              <a:t>Леса занимают примерно 360 тысяч 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9" name="Object 9"/>
          <p:cNvGraphicFramePr/>
          <p:nvPr/>
        </p:nvGraphicFramePr>
        <p:xfrm>
          <a:off x="2428920" y="314316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31431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Box 10"/>
          <p:cNvSpPr/>
          <p:nvPr/>
        </p:nvSpPr>
        <p:spPr>
          <a:xfrm>
            <a:off x="2357280" y="142920"/>
            <a:ext cx="40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Типы л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1"/>
          <p:cNvGrpSpPr/>
          <p:nvPr/>
        </p:nvGrpSpPr>
        <p:grpSpPr>
          <a:xfrm>
            <a:off x="1428840" y="1713960"/>
            <a:ext cx="5909760" cy="3886560"/>
            <a:chOff x="1428840" y="1713960"/>
            <a:chExt cx="5909760" cy="3886560"/>
          </a:xfrm>
        </p:grpSpPr>
        <p:cxnSp>
          <p:nvCxnSpPr>
            <p:cNvPr id="633" name="AutoShape 2"/>
            <p:cNvCxnSpPr>
              <a:stCxn id="634" idx="1"/>
              <a:endCxn id="635" idx="2"/>
            </p:cNvCxnSpPr>
            <p:nvPr/>
          </p:nvCxnSpPr>
          <p:spPr>
            <a:xfrm rot="10800000">
              <a:off x="3960720" y="1713960"/>
              <a:ext cx="422640" cy="176796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6" name="AutoShape 3"/>
            <p:cNvCxnSpPr>
              <a:stCxn id="637" idx="3"/>
              <a:endCxn id="635" idx="2"/>
            </p:cNvCxnSpPr>
            <p:nvPr/>
          </p:nvCxnSpPr>
          <p:spPr>
            <a:xfrm flipV="1">
              <a:off x="3961440" y="3479400"/>
              <a:ext cx="422640" cy="176832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8" name="AutoShape 4"/>
            <p:cNvCxnSpPr>
              <a:stCxn id="639" idx="1"/>
              <a:endCxn id="635" idx="2"/>
            </p:cNvCxnSpPr>
            <p:nvPr/>
          </p:nvCxnSpPr>
          <p:spPr>
            <a:xfrm rot="10800000">
              <a:off x="3960720" y="2773800"/>
              <a:ext cx="422640" cy="70704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AutoShape 5"/>
            <p:cNvCxnSpPr>
              <a:stCxn id="641" idx="3"/>
              <a:endCxn id="635" idx="2"/>
            </p:cNvCxnSpPr>
            <p:nvPr/>
          </p:nvCxnSpPr>
          <p:spPr>
            <a:xfrm flipV="1">
              <a:off x="3961440" y="3479400"/>
              <a:ext cx="422640" cy="70704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5" name="AutoShape 6"/>
            <p:cNvSpPr/>
            <p:nvPr/>
          </p:nvSpPr>
          <p:spPr>
            <a:xfrm>
              <a:off x="3117240" y="2773440"/>
              <a:ext cx="2532600" cy="706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Ле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1428840" y="3834360"/>
              <a:ext cx="2532600" cy="706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da1f28"/>
                  </a:solidFill>
                  <a:latin typeface="Arial"/>
                </a:rPr>
                <a:t>Продукты пит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AutoShape 8"/>
            <p:cNvSpPr/>
            <p:nvPr/>
          </p:nvSpPr>
          <p:spPr>
            <a:xfrm>
              <a:off x="4806000" y="3834360"/>
              <a:ext cx="2532600" cy="706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da1f28"/>
                  </a:solidFill>
                  <a:latin typeface="Arial"/>
                </a:rPr>
                <a:t>Древесин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AutoShape 9"/>
            <p:cNvSpPr/>
            <p:nvPr/>
          </p:nvSpPr>
          <p:spPr>
            <a:xfrm>
              <a:off x="1428840" y="4894200"/>
              <a:ext cx="2532600" cy="706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da1f28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4806000" y="4894200"/>
              <a:ext cx="2532600" cy="706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da1f28"/>
                  </a:solidFill>
                  <a:latin typeface="Arial"/>
                </a:rPr>
                <a:t>Лекарственные трав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2" name="Picture 11" descr=""/>
          <p:cNvPicPr/>
          <p:nvPr/>
        </p:nvPicPr>
        <p:blipFill>
          <a:blip r:embed="rId1"/>
          <a:stretch/>
        </p:blipFill>
        <p:spPr>
          <a:xfrm>
            <a:off x="0" y="1628640"/>
            <a:ext cx="1476360" cy="1270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"/>
          <p:cNvPicPr/>
          <p:nvPr/>
        </p:nvPicPr>
        <p:blipFill>
          <a:blip r:embed="rId2"/>
          <a:stretch/>
        </p:blipFill>
        <p:spPr>
          <a:xfrm>
            <a:off x="0" y="5589720"/>
            <a:ext cx="1187280" cy="1081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3" descr=""/>
          <p:cNvPicPr/>
          <p:nvPr/>
        </p:nvPicPr>
        <p:blipFill>
          <a:blip r:embed="rId3"/>
          <a:stretch/>
        </p:blipFill>
        <p:spPr>
          <a:xfrm>
            <a:off x="7596360" y="1413000"/>
            <a:ext cx="1547640" cy="1233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4" descr=""/>
          <p:cNvPicPr/>
          <p:nvPr/>
        </p:nvPicPr>
        <p:blipFill>
          <a:blip r:embed="rId4"/>
          <a:stretch/>
        </p:blipFill>
        <p:spPr>
          <a:xfrm>
            <a:off x="7736040" y="2924280"/>
            <a:ext cx="1407960" cy="1439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740720" y="4437000"/>
            <a:ext cx="1403280" cy="10954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"/>
          <p:cNvPicPr/>
          <p:nvPr/>
        </p:nvPicPr>
        <p:blipFill>
          <a:blip r:embed="rId6"/>
          <a:stretch/>
        </p:blipFill>
        <p:spPr>
          <a:xfrm>
            <a:off x="7740720" y="5661000"/>
            <a:ext cx="1258920" cy="1019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7" descr=""/>
          <p:cNvPicPr/>
          <p:nvPr/>
        </p:nvPicPr>
        <p:blipFill>
          <a:blip r:embed="rId7"/>
          <a:stretch/>
        </p:blipFill>
        <p:spPr>
          <a:xfrm>
            <a:off x="0" y="4437000"/>
            <a:ext cx="1332000" cy="10796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8"/>
          <p:cNvSpPr/>
          <p:nvPr/>
        </p:nvSpPr>
        <p:spPr>
          <a:xfrm>
            <a:off x="4859280" y="3789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оительные материалы и т.д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1763640" y="3789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сные ягоды, гриб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0"/>
          <p:cNvSpPr/>
          <p:nvPr/>
        </p:nvSpPr>
        <p:spPr>
          <a:xfrm>
            <a:off x="5003640" y="522936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емляника, ландыш, крапива и т.д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icture 21" descr=""/>
          <p:cNvPicPr/>
          <p:nvPr/>
        </p:nvPicPr>
        <p:blipFill>
          <a:blip r:embed="rId8"/>
          <a:stretch/>
        </p:blipFill>
        <p:spPr>
          <a:xfrm>
            <a:off x="0" y="306864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22"/>
          <p:cNvSpPr/>
          <p:nvPr/>
        </p:nvSpPr>
        <p:spPr>
          <a:xfrm>
            <a:off x="857160" y="21420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Ресурсы раститель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WordArt 1"/>
          <p:cNvSpPr txBox="1"/>
          <p:nvPr/>
        </p:nvSpPr>
        <p:spPr>
          <a:xfrm>
            <a:off x="2556000" y="549360"/>
            <a:ext cx="352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755640" y="1214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Georgia"/>
              </a:rPr>
              <a:t>Представляют собой сообщества травянистых многолетних растений, характерных для пойм рек и опушек ле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1000080" y="3429000"/>
            <a:ext cx="1785960" cy="27147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"/>
          <p:cNvPicPr/>
          <p:nvPr/>
        </p:nvPicPr>
        <p:blipFill>
          <a:blip r:embed="rId4"/>
          <a:stretch/>
        </p:blipFill>
        <p:spPr>
          <a:xfrm>
            <a:off x="5929200" y="3357720"/>
            <a:ext cx="1668600" cy="2790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" descr=""/>
          <p:cNvPicPr/>
          <p:nvPr/>
        </p:nvPicPr>
        <p:blipFill>
          <a:blip r:embed="rId5"/>
          <a:stretch/>
        </p:blipFill>
        <p:spPr>
          <a:xfrm>
            <a:off x="3286080" y="3357720"/>
            <a:ext cx="1857600" cy="278604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6"/>
          <p:cNvSpPr/>
          <p:nvPr/>
        </p:nvSpPr>
        <p:spPr>
          <a:xfrm>
            <a:off x="611280" y="292428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125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81" h="21600">
                <a:moveTo>
                  <a:pt x="13646" y="14281"/>
                </a:moveTo>
                <a:lnTo>
                  <a:pt x="13646" y="12323"/>
                </a:lnTo>
                <a:cubicBezTo>
                  <a:pt x="13646" y="11496"/>
                  <a:pt x="13977" y="10800"/>
                  <a:pt x="14577" y="10800"/>
                </a:cubicBezTo>
                <a:cubicBezTo>
                  <a:pt x="15709" y="10800"/>
                  <a:pt x="16605" y="9434"/>
                  <a:pt x="16605" y="7849"/>
                </a:cubicBezTo>
                <a:cubicBezTo>
                  <a:pt x="16605" y="5534"/>
                  <a:pt x="14751" y="3794"/>
                  <a:pt x="12541" y="3794"/>
                </a:cubicBezTo>
                <a:cubicBezTo>
                  <a:pt x="10330" y="3794"/>
                  <a:pt x="8659" y="5534"/>
                  <a:pt x="8659" y="7849"/>
                </a:cubicBezTo>
                <a:lnTo>
                  <a:pt x="10513" y="7849"/>
                </a:lnTo>
                <a:cubicBezTo>
                  <a:pt x="10513" y="6709"/>
                  <a:pt x="11435" y="5821"/>
                  <a:pt x="12541" y="5821"/>
                </a:cubicBezTo>
                <a:cubicBezTo>
                  <a:pt x="13646" y="5821"/>
                  <a:pt x="14577" y="6709"/>
                  <a:pt x="14577" y="7849"/>
                </a:cubicBezTo>
                <a:cubicBezTo>
                  <a:pt x="14577" y="8589"/>
                  <a:pt x="14107" y="9320"/>
                  <a:pt x="13646" y="9320"/>
                </a:cubicBezTo>
                <a:cubicBezTo>
                  <a:pt x="12541" y="9320"/>
                  <a:pt x="11435" y="10800"/>
                  <a:pt x="11435" y="12323"/>
                </a:cubicBezTo>
                <a:lnTo>
                  <a:pt x="11435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7"/>
          <p:cNvSpPr/>
          <p:nvPr/>
        </p:nvSpPr>
        <p:spPr>
          <a:xfrm>
            <a:off x="3203640" y="292428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125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81" h="21600">
                <a:moveTo>
                  <a:pt x="13646" y="14281"/>
                </a:moveTo>
                <a:lnTo>
                  <a:pt x="13646" y="12323"/>
                </a:lnTo>
                <a:cubicBezTo>
                  <a:pt x="13646" y="11496"/>
                  <a:pt x="13977" y="10800"/>
                  <a:pt x="14577" y="10800"/>
                </a:cubicBezTo>
                <a:cubicBezTo>
                  <a:pt x="15709" y="10800"/>
                  <a:pt x="16605" y="9434"/>
                  <a:pt x="16605" y="7849"/>
                </a:cubicBezTo>
                <a:cubicBezTo>
                  <a:pt x="16605" y="5534"/>
                  <a:pt x="14751" y="3794"/>
                  <a:pt x="12541" y="3794"/>
                </a:cubicBezTo>
                <a:cubicBezTo>
                  <a:pt x="10330" y="3794"/>
                  <a:pt x="8659" y="5534"/>
                  <a:pt x="8659" y="7849"/>
                </a:cubicBezTo>
                <a:lnTo>
                  <a:pt x="10513" y="7849"/>
                </a:lnTo>
                <a:cubicBezTo>
                  <a:pt x="10513" y="6709"/>
                  <a:pt x="11435" y="5821"/>
                  <a:pt x="12541" y="5821"/>
                </a:cubicBezTo>
                <a:cubicBezTo>
                  <a:pt x="13646" y="5821"/>
                  <a:pt x="14577" y="6709"/>
                  <a:pt x="14577" y="7849"/>
                </a:cubicBezTo>
                <a:cubicBezTo>
                  <a:pt x="14577" y="8589"/>
                  <a:pt x="14107" y="9320"/>
                  <a:pt x="13646" y="9320"/>
                </a:cubicBezTo>
                <a:cubicBezTo>
                  <a:pt x="12541" y="9320"/>
                  <a:pt x="11435" y="10800"/>
                  <a:pt x="11435" y="12323"/>
                </a:cubicBezTo>
                <a:lnTo>
                  <a:pt x="11435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6227640" y="292428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125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81" h="21600">
                <a:moveTo>
                  <a:pt x="13646" y="14281"/>
                </a:moveTo>
                <a:lnTo>
                  <a:pt x="13646" y="12323"/>
                </a:lnTo>
                <a:cubicBezTo>
                  <a:pt x="13646" y="11496"/>
                  <a:pt x="13977" y="10800"/>
                  <a:pt x="14577" y="10800"/>
                </a:cubicBezTo>
                <a:cubicBezTo>
                  <a:pt x="15709" y="10800"/>
                  <a:pt x="16605" y="9434"/>
                  <a:pt x="16605" y="7849"/>
                </a:cubicBezTo>
                <a:cubicBezTo>
                  <a:pt x="16605" y="5534"/>
                  <a:pt x="14751" y="3794"/>
                  <a:pt x="12541" y="3794"/>
                </a:cubicBezTo>
                <a:cubicBezTo>
                  <a:pt x="10330" y="3794"/>
                  <a:pt x="8659" y="5534"/>
                  <a:pt x="8659" y="7849"/>
                </a:cubicBezTo>
                <a:lnTo>
                  <a:pt x="10513" y="7849"/>
                </a:lnTo>
                <a:cubicBezTo>
                  <a:pt x="10513" y="6709"/>
                  <a:pt x="11435" y="5821"/>
                  <a:pt x="12541" y="5821"/>
                </a:cubicBezTo>
                <a:cubicBezTo>
                  <a:pt x="13646" y="5821"/>
                  <a:pt x="14577" y="6709"/>
                  <a:pt x="14577" y="7849"/>
                </a:cubicBezTo>
                <a:cubicBezTo>
                  <a:pt x="14577" y="8589"/>
                  <a:pt x="14107" y="9320"/>
                  <a:pt x="13646" y="9320"/>
                </a:cubicBezTo>
                <a:cubicBezTo>
                  <a:pt x="12541" y="9320"/>
                  <a:pt x="11435" y="10800"/>
                  <a:pt x="11435" y="12323"/>
                </a:cubicBezTo>
                <a:lnTo>
                  <a:pt x="11435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071720" y="578628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жа сбо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357720" y="5786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ят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5857920" y="5643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мофее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1240 w 9144000"/>
              <a:gd name="textAreaRight" fmla="*/ 9122760 w 9144000"/>
              <a:gd name="textAreaTop" fmla="*/ 15840 h 6858000"/>
              <a:gd name="textAreaBottom" fmla="*/ 68421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0" y="50"/>
                </a:moveTo>
                <a:lnTo>
                  <a:pt x="50" y="21550"/>
                </a:lnTo>
                <a:lnTo>
                  <a:pt x="28750" y="21550"/>
                </a:lnTo>
                <a:lnTo>
                  <a:pt x="28750" y="5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2357280" y="21420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    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Лу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539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Тамбовский край - небольшой уголок нашей необъятной Родины, часть русской земли, неповторимый островок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Тамбовская область - уникальный в географическом, историческом и культурном отношениях край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4954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1"/>
          <p:cNvSpPr/>
          <p:nvPr/>
        </p:nvSpPr>
        <p:spPr>
          <a:xfrm>
            <a:off x="5435640" y="27147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67 видов    млекопита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5292720" y="4572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287 видов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5148360" y="3786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11 видов земновод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5219640" y="164304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7 видов пресмыкаю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1187280" y="2214720"/>
            <a:ext cx="3097440" cy="3143160"/>
          </a:xfrm>
          <a:prstGeom prst="borderCallout1">
            <a:avLst>
              <a:gd name="adj1" fmla="val 18750"/>
              <a:gd name="adj2" fmla="val -8333"/>
              <a:gd name="adj3" fmla="val 85185"/>
              <a:gd name="adj4" fmla="val -368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1187280" y="2133720"/>
            <a:ext cx="33703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Georgia"/>
              </a:rPr>
              <a:t>Животный мир нашего края богат и разнообразен и облад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Georgia"/>
              </a:rPr>
              <a:t>      </a:t>
            </a:r>
            <a:r>
              <a:rPr b="1" i="1" lang="ru-RU" sz="1800" spc="-1" strike="noStrike">
                <a:solidFill>
                  <a:srgbClr val="464646"/>
                </a:solidFill>
                <a:latin typeface="Georgia"/>
              </a:rPr>
              <a:t>смешанным характ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Georgia"/>
              </a:rPr>
              <a:t>      </a:t>
            </a:r>
            <a:r>
              <a:rPr b="1" i="1" lang="ru-RU" sz="1800" spc="-1" strike="noStrike">
                <a:solidFill>
                  <a:srgbClr val="464646"/>
                </a:solidFill>
                <a:latin typeface="Georgia"/>
              </a:rPr>
              <a:t>По его территории проходит граница распространения лесных и степных видов</a:t>
            </a:r>
            <a:r>
              <a:rPr b="1" lang="ru-RU" sz="1800" spc="-1" strike="noStrike">
                <a:solidFill>
                  <a:srgbClr val="464646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857160" y="1429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Животный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1"/>
          <p:cNvSpPr/>
          <p:nvPr/>
        </p:nvSpPr>
        <p:spPr>
          <a:xfrm>
            <a:off x="0" y="2060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редставители 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6858000" y="157176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0" y="270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редставители сте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0" y="37893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редставители лу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0" y="46432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редставители б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1643040" y="142920"/>
            <a:ext cx="680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Животный м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Picture 1" descr=""/>
          <p:cNvPicPr/>
          <p:nvPr/>
        </p:nvPicPr>
        <p:blipFill>
          <a:blip r:embed="rId2"/>
          <a:stretch/>
        </p:blipFill>
        <p:spPr>
          <a:xfrm>
            <a:off x="4500720" y="1571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"/>
          <p:cNvPicPr/>
          <p:nvPr/>
        </p:nvPicPr>
        <p:blipFill>
          <a:blip r:embed="rId3"/>
          <a:stretch/>
        </p:blipFill>
        <p:spPr>
          <a:xfrm>
            <a:off x="7072200" y="400068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4"/>
          <a:stretch/>
        </p:blipFill>
        <p:spPr>
          <a:xfrm>
            <a:off x="4429080" y="4000680"/>
            <a:ext cx="2201760" cy="264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1687680" cy="1633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6516720" y="1125360"/>
            <a:ext cx="1728720" cy="17989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5" name="Picture 3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873080" cy="1800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6" name="Picture 4" descr="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800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7" name="Picture 5" descr=""/>
          <p:cNvPicPr/>
          <p:nvPr/>
        </p:nvPicPr>
        <p:blipFill>
          <a:blip r:embed="rId5"/>
          <a:stretch/>
        </p:blipFill>
        <p:spPr>
          <a:xfrm>
            <a:off x="3708360" y="2708280"/>
            <a:ext cx="1785960" cy="1854360"/>
          </a:xfrm>
          <a:prstGeom prst="rect">
            <a:avLst/>
          </a:prstGeom>
          <a:ln w="0">
            <a:noFill/>
          </a:ln>
        </p:spPr>
      </p:pic>
      <p:sp>
        <p:nvSpPr>
          <p:cNvPr id="688" name="Line 6"/>
          <p:cNvSpPr/>
          <p:nvPr/>
        </p:nvSpPr>
        <p:spPr>
          <a:xfrm flipV="1">
            <a:off x="539640" y="906120"/>
            <a:ext cx="2737080" cy="194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539640" y="836640"/>
            <a:ext cx="2376720" cy="19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516720" y="907920"/>
            <a:ext cx="2232000" cy="230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5284800" y="928800"/>
            <a:ext cx="21621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539640" y="4221000"/>
            <a:ext cx="2592360" cy="230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 flipV="1">
            <a:off x="539640" y="4290480"/>
            <a:ext cx="2016360" cy="2163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6300720" y="4149720"/>
            <a:ext cx="251928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 flipV="1">
            <a:off x="6156360" y="4075200"/>
            <a:ext cx="2160720" cy="2163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250920" y="1916280"/>
            <a:ext cx="7553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0" y="28584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ОХРАНЯЙ ПРИРОДУ НАШЕГО К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"/>
          <p:cNvSpPr/>
          <p:nvPr/>
        </p:nvSpPr>
        <p:spPr>
          <a:xfrm>
            <a:off x="2286000" y="1357200"/>
            <a:ext cx="457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Сравним размеры территории</a:t>
            </a:r>
            <a:r>
              <a:rPr b="1" i="1" lang="en-US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области с другими</a:t>
            </a:r>
            <a:r>
              <a:rPr b="1" i="1" lang="en-US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территориями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1520640" cy="16286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3419640" y="3357720"/>
            <a:ext cx="26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4, 4 тыс. кв. 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бовская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1871640" cy="17002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324000" y="155736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овская - 47 тыс.кв.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700360" cy="156204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468360" y="3068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ратовская – 100,2 тыс.кв.к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2735280" cy="23511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9"/>
          <p:cNvSpPr/>
          <p:nvPr/>
        </p:nvSpPr>
        <p:spPr>
          <a:xfrm>
            <a:off x="324000" y="5445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ая – 1435,2 тыс.кв.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3203640" y="2781360"/>
            <a:ext cx="504720" cy="863640"/>
          </a:xfrm>
          <a:prstGeom prst="line">
            <a:avLst/>
          </a:prstGeom>
          <a:ln w="63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 flipH="1">
            <a:off x="3201840" y="3645000"/>
            <a:ext cx="508320" cy="792000"/>
          </a:xfrm>
          <a:prstGeom prst="line">
            <a:avLst/>
          </a:prstGeom>
          <a:ln w="63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2" descr=""/>
          <p:cNvPicPr/>
          <p:nvPr/>
        </p:nvPicPr>
        <p:blipFill>
          <a:blip r:embed="rId5"/>
          <a:stretch/>
        </p:blipFill>
        <p:spPr>
          <a:xfrm>
            <a:off x="7020000" y="1125360"/>
            <a:ext cx="1738080" cy="15829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3"/>
          <p:cNvSpPr/>
          <p:nvPr/>
        </p:nvSpPr>
        <p:spPr>
          <a:xfrm>
            <a:off x="6804000" y="1557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пецкая – 24,1 тыс.кв.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4" descr=""/>
          <p:cNvPicPr/>
          <p:nvPr/>
        </p:nvPicPr>
        <p:blipFill>
          <a:blip r:embed="rId6"/>
          <a:stretch/>
        </p:blipFill>
        <p:spPr>
          <a:xfrm>
            <a:off x="6588000" y="2924280"/>
            <a:ext cx="2171880" cy="17780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5"/>
          <p:cNvSpPr/>
          <p:nvPr/>
        </p:nvSpPr>
        <p:spPr>
          <a:xfrm>
            <a:off x="6588000" y="32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 – 30,5 тыс.кв.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6" descr=""/>
          <p:cNvPicPr/>
          <p:nvPr/>
        </p:nvPicPr>
        <p:blipFill>
          <a:blip r:embed="rId7"/>
          <a:stretch/>
        </p:blipFill>
        <p:spPr>
          <a:xfrm>
            <a:off x="7093080" y="4869000"/>
            <a:ext cx="874440" cy="12682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7"/>
          <p:cNvSpPr/>
          <p:nvPr/>
        </p:nvSpPr>
        <p:spPr>
          <a:xfrm>
            <a:off x="6443640" y="5084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– 2,6 тыс.кв.к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5508720" y="2708280"/>
            <a:ext cx="504720" cy="863640"/>
          </a:xfrm>
          <a:prstGeom prst="line">
            <a:avLst/>
          </a:prstGeom>
          <a:ln w="63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5506560" y="3573360"/>
            <a:ext cx="507960" cy="792360"/>
          </a:xfrm>
          <a:prstGeom prst="line">
            <a:avLst/>
          </a:prstGeom>
          <a:ln w="63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20"/>
          <p:cNvSpPr/>
          <p:nvPr/>
        </p:nvSpPr>
        <p:spPr>
          <a:xfrm>
            <a:off x="857160" y="2142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Географическое    положение и рельеф   </a:t>
            </a:r>
            <a:r>
              <a:rPr b="1" i="1" lang="en-US" sz="2400" spc="-1" strike="noStrike">
                <a:solidFill>
                  <a:srgbClr val="c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Тамб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1403280" y="333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Georgia"/>
              </a:rPr>
              <a:t>Работа с кар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611280" y="112536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По административной карте атласа Тамбовской области (с.2) определите области,   граничащие с Тамбов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2928960" y="300024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4"/>
          <p:cNvSpPr/>
          <p:nvPr/>
        </p:nvSpPr>
        <p:spPr>
          <a:xfrm>
            <a:off x="642960" y="18572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Определите по административной карте атласа Тамбовской области  между какими параллелями и меридианами лежит Тамбов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28760" y="214200"/>
            <a:ext cx="8286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Основные черты рельеф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«Пологие холмы там чуть поднимаются. Пригорок, ложбинка – все живет и уходит в даль просторную, синеющую, всегда на краю земли очерченную лесом. Супеси да суглинки, кашка, одуванчик, невидимый жаворонок в небе, картофельное поле, луг с излучиной рек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А. Михайлов. «Земля русска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714680" y="3000240"/>
            <a:ext cx="521460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468360" y="1268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По атласу Тамбовской области (с.</a:t>
            </a:r>
            <a:r>
              <a:rPr b="1" i="1" lang="en-US" sz="3200" spc="-1" strike="noStrike">
                <a:solidFill>
                  <a:srgbClr val="006600"/>
                </a:solidFill>
                <a:latin typeface="Georgia"/>
              </a:rPr>
              <a:t>4</a:t>
            </a: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) определите форму рельефа территории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900000" y="3213000"/>
            <a:ext cx="7632720" cy="204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орма рельефа –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равнина.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Расположена на Восточно-Европейской (Русской) равнине; на Окско-Донской низм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403280" y="333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Работа с кар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357120" y="307188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142920" y="18900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Погода</a:t>
            </a:r>
            <a:r>
              <a:rPr b="1" i="1" lang="en-US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и климат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Погода– это состояние нижнего слоя атмо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в данное время в данной мес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28760" y="12974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Georgia"/>
                <a:ea typeface="MS Mincho"/>
              </a:rPr>
              <a:t>Состояние погоды характеризуют такие показатели: температура воздуха, атмосферное давление, влажность, сила и направление ветра, облачность, атмосферные ос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3000240" y="3071880"/>
            <a:ext cx="2286000" cy="2619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6072120" y="3071880"/>
            <a:ext cx="21430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"/>
          <p:cNvSpPr/>
          <p:nvPr/>
        </p:nvSpPr>
        <p:spPr>
          <a:xfrm>
            <a:off x="457200" y="17146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то такое клим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 каком климатическом поясе находится наша обла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 2" charset="2"/>
              <a:buChar char="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Почему на территории Тамбовской области четко различаются все 4 сезона г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108000" y="4659480"/>
            <a:ext cx="2663640" cy="2198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571680" y="285840"/>
            <a:ext cx="78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Климат Тамбов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1"/>
          <p:cNvSpPr txBox="1"/>
          <p:nvPr/>
        </p:nvSpPr>
        <p:spPr>
          <a:xfrm>
            <a:off x="1763640" y="549360"/>
            <a:ext cx="5610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14200" y="1428840"/>
          <a:ext cx="8686800" cy="1149120"/>
        </p:xfrm>
        <a:graphic>
          <a:graphicData uri="http://schemas.openxmlformats.org/drawingml/2006/table">
            <a:tbl>
              <a:tblPr/>
              <a:tblGrid>
                <a:gridCol w="868320"/>
                <a:gridCol w="650880"/>
                <a:gridCol w="657360"/>
                <a:gridCol w="571680"/>
                <a:gridCol w="596880"/>
                <a:gridCol w="666720"/>
                <a:gridCol w="669960"/>
                <a:gridCol w="666720"/>
                <a:gridCol w="666720"/>
                <a:gridCol w="669960"/>
                <a:gridCol w="664920"/>
                <a:gridCol w="669960"/>
                <a:gridCol w="666720"/>
              </a:tblGrid>
              <a:tr h="571320"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1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5,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96"/>
          <p:cNvSpPr/>
          <p:nvPr/>
        </p:nvSpPr>
        <p:spPr>
          <a:xfrm>
            <a:off x="14292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Средние месячные температуры возду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5"/>
          <p:cNvSpPr/>
          <p:nvPr/>
        </p:nvSpPr>
        <p:spPr>
          <a:xfrm>
            <a:off x="285840" y="292896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Среднее месячное количество осадков в 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57120" y="3929040"/>
          <a:ext cx="8231400" cy="1571760"/>
        </p:xfrm>
        <a:graphic>
          <a:graphicData uri="http://schemas.openxmlformats.org/drawingml/2006/table">
            <a:tbl>
              <a:tblPr/>
              <a:tblGrid>
                <a:gridCol w="828720"/>
                <a:gridCol w="554040"/>
                <a:gridCol w="519120"/>
                <a:gridCol w="630360"/>
                <a:gridCol w="633240"/>
                <a:gridCol w="631800"/>
                <a:gridCol w="636840"/>
                <a:gridCol w="631800"/>
                <a:gridCol w="633240"/>
                <a:gridCol w="630360"/>
                <a:gridCol w="635040"/>
                <a:gridCol w="633240"/>
                <a:gridCol w="633600"/>
              </a:tblGrid>
              <a:tr h="421920"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оса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46:51Z</dcterms:created>
  <dc:creator>SamLab.ws</dc:creator>
  <dc:description/>
  <dc:language>en-US</dc:language>
  <cp:lastModifiedBy>Admin</cp:lastModifiedBy>
  <dcterms:modified xsi:type="dcterms:W3CDTF">2014-01-24T20:52:42Z</dcterms:modified>
  <cp:revision>126</cp:revision>
  <dc:subject/>
  <dc:title>Слайд 1</dc:title>
</cp:coreProperties>
</file>