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380-9284-4475-AC23-0C9CE726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F802-6C53-425E-86B4-ADCE4A63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2E8-1CFE-4777-9BD1-127861BD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204F-EC9D-41A0-97AD-252385D3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CB8B-4CCA-45D6-8CED-9AEAA71C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68E5-3293-4A19-878A-3F3018CF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63E0-DBB9-4163-86F4-DA92E320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7748-238E-4FBF-9E3F-6FE9823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9329-BCCB-488C-9AC3-BF66E2EC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A778-C813-42CA-8C08-ECFF1BC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9D40-C30F-46A6-A6B0-3124B6E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597-171F-4629-A4B7-CE769876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1A16-C81A-4112-8DB7-8F52DDDD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E804-D056-4B22-94C4-171BC11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9633-67DF-465A-9AE7-0FA7EB0C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3C19-351D-4003-AF7D-1262E4C9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DCFE-D3C9-4C6E-9297-C7691714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EE7ED-C7F7-459F-82B4-CBF2D257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56933-E8A3-40FC-B570-4104F4F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EE01-AD17-4FA8-9D8E-DBE3C29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13C6-95E5-4771-A62B-EB4AEF2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A5F88-84AF-4BBD-A210-DF9EA871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485-54F7-481F-955E-FB08AFBA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33CF-B813-4011-BE6D-29BCF234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1448-9E67-4C07-918A-7572551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B5CB4-C698-467D-8002-09600E5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96D2-4DAB-4450-99B4-EB7284E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954E-11D4-40B0-88BC-DB8F220A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18AA5-7DB6-46CF-A586-A2140642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46EF-6EB5-4B6E-9859-5443501C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058F-455E-4180-8204-79BBA054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76253-7E41-47D4-A433-F6F907F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C3DF-4187-4C62-B0B4-4D9E7C6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6AB-3CCA-4ABD-955F-99960BE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FE26-BCBF-4FBB-A67A-3DE03550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023DA-7B15-4978-8B0C-5AB0E06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74652-8774-4E2D-8803-494CF632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AABC9-D7C5-4CED-A9E0-77FB64E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272D-D33D-478B-858F-85AE1DC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C102-FEA5-46C9-81D6-9BD8B9C7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5ACD-7F71-4536-AC18-CCDF4F04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3DE9-5981-4FE2-98FD-F84EF030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D2B3B-A2FE-4338-9697-757E0333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819D6-29FC-4F2D-8B77-C388F840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AF0-28C1-4A98-8434-6FB53EFD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798A4-24DD-4D42-9200-F20BD544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FA11-0448-44CB-9603-D718DBBD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B0092-6B15-4F5C-9FE2-A61888A0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A8BC6-E3FC-42B7-B314-C878D3C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1184-24DE-43F7-9D17-29084A65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E56F9-D970-4EAB-9BAE-97B99942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8FCE2-9121-40E9-A93C-800A38F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E4B2-D031-482E-B988-A92DE4C7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A07B6-ACD0-4633-AAC5-38DB5A5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7C01-2DE0-4097-94E9-1FBFEAE2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BF7-EA0E-43B0-8AF9-030A368F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59F3-4E39-4871-A3C5-F0B918EA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2A7-722E-4251-9895-259CF710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FF2-79EF-44BE-ADD1-1CB08FA3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A0B-0EFB-48E5-8FE0-179A1B9C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93CD-2C4F-40EC-8301-B3EC2D624F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1C8-C2E8-473C-8165-B123C26EFB9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FD2B-A896-42C1-A05C-83E4AAF4753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63B8-BE75-4BB5-A7A6-E88327B9B5D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2077-4B82-4F9E-9605-478FFA62FC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39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Организация исследовательской деятельности учащихся при обучении физике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Выполнила: Филатова Ольга Никола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029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ознавательная задач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Picture 2" descr="C:\Users\FeNickS\AppData\Local\Microsoft\Windows\Temporary Internet Files\Content.IE5\A4CF1CW3\MC900431533[1].png"/>
          <p:cNvPicPr/>
          <p:nvPr/>
        </p:nvPicPr>
        <p:blipFill>
          <a:blip r:embed="rId1"/>
          <a:stretch/>
        </p:blipFill>
        <p:spPr>
          <a:xfrm>
            <a:off x="468360" y="2276640"/>
            <a:ext cx="1587600" cy="2286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FeNickS\AppData\Local\Microsoft\Windows\Temporary Internet Files\Content.IE5\HKZR17MS\MP900438725[1].jpg"/>
          <p:cNvPicPr/>
          <p:nvPr/>
        </p:nvPicPr>
        <p:blipFill>
          <a:blip r:embed="rId2"/>
          <a:stretch/>
        </p:blipFill>
        <p:spPr>
          <a:xfrm>
            <a:off x="2411280" y="765000"/>
            <a:ext cx="527688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[Image]"/>
          <p:cNvPicPr/>
          <p:nvPr/>
        </p:nvPicPr>
        <p:blipFill>
          <a:blip r:embed="rId3"/>
          <a:stretch/>
        </p:blipFill>
        <p:spPr>
          <a:xfrm>
            <a:off x="6516720" y="3573360"/>
            <a:ext cx="1838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хем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сурсы ( материальные; идеальны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ение (объект, систем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ель (физическая или математическая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образование мод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образование предметной обл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8" name="Прямая со стрелкой 2"/>
          <p:cNvCxnSpPr/>
          <p:nvPr/>
        </p:nvCxnSpPr>
        <p:spPr>
          <a:xfrm>
            <a:off x="1763280" y="1052280"/>
            <a:ext cx="1080" cy="144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29" name="Прямая со стрелкой 5"/>
          <p:cNvCxnSpPr/>
          <p:nvPr/>
        </p:nvCxnSpPr>
        <p:spPr>
          <a:xfrm>
            <a:off x="1763280" y="1483920"/>
            <a:ext cx="1080" cy="144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0" name="Прямая со стрелкой 8"/>
          <p:cNvCxnSpPr/>
          <p:nvPr/>
        </p:nvCxnSpPr>
        <p:spPr>
          <a:xfrm>
            <a:off x="1763280" y="1989000"/>
            <a:ext cx="1080" cy="1454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1" name="Прямая со стрелкой 9"/>
          <p:cNvCxnSpPr/>
          <p:nvPr/>
        </p:nvCxnSpPr>
        <p:spPr>
          <a:xfrm>
            <a:off x="1763280" y="2852640"/>
            <a:ext cx="1080" cy="14544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32" name="Прямая со стрелкой 10"/>
          <p:cNvCxnSpPr/>
          <p:nvPr/>
        </p:nvCxnSpPr>
        <p:spPr>
          <a:xfrm>
            <a:off x="1763280" y="3321000"/>
            <a:ext cx="1080" cy="108720"/>
          </a:xfrm>
          <a:prstGeom prst="straightConnector1">
            <a:avLst/>
          </a:prstGeom>
          <a:ln w="9360">
            <a:solidFill>
              <a:srgbClr val="ff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991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Творческие задачи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«Вот видите, старина!- вскричал Гидеон Спилет. –Огонь, настоящий огонь на котором прекрасно изжарится эта чудесная дичь.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-Но кто …зажег его? – спросил Пенкроф»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к был зажжён огонь?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Объект 3" descr="Копия проект 023"/>
          <p:cNvPicPr/>
          <p:nvPr/>
        </p:nvPicPr>
        <p:blipFill>
          <a:blip r:embed="rId1"/>
          <a:stretch/>
        </p:blipFill>
        <p:spPr>
          <a:xfrm>
            <a:off x="539640" y="3645000"/>
            <a:ext cx="48960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Соответствие этапов урока этапам логики познания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11280" y="1413000"/>
          <a:ext cx="7273800" cy="4402080"/>
        </p:xfrm>
        <a:graphic>
          <a:graphicData uri="http://schemas.openxmlformats.org/drawingml/2006/table">
            <a:tbl>
              <a:tblPr/>
              <a:tblGrid>
                <a:gridCol w="2192400"/>
                <a:gridCol w="50814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тапы логики позн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тап ур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98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Фак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9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ктуализ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тив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9052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Целеполаг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ервичное усвоение учебн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од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знание учебн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ледст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креп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0360">
                <a:tc row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сперимен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ме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оверка уровня усв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ефлек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72428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Исследовательские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тегор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уальность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ект исслед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мет исследования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, задачи, гипотез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2" descr="C:\Users\FeNickS\Desktop\SAM_0424.JPG"/>
          <p:cNvPicPr/>
          <p:nvPr/>
        </p:nvPicPr>
        <p:blipFill>
          <a:blip r:embed="rId1"/>
          <a:stretch/>
        </p:blipFill>
        <p:spPr>
          <a:xfrm>
            <a:off x="1450800" y="530280"/>
            <a:ext cx="62881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0115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62720" y="533160"/>
            <a:ext cx="2239920" cy="421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3" name="Picture 2" descr="C:\Users\FeNickS\Desktop\Филатова уроки\SAM_0420 (2).jpg"/>
          <p:cNvPicPr/>
          <p:nvPr/>
        </p:nvPicPr>
        <p:blipFill>
          <a:blip r:embed="rId1"/>
          <a:stretch/>
        </p:blipFill>
        <p:spPr>
          <a:xfrm>
            <a:off x="714240" y="549360"/>
            <a:ext cx="759168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5:53:37Z</dcterms:created>
  <dc:creator>FeNickS</dc:creator>
  <dc:description/>
  <dc:language>en-US</dc:language>
  <cp:lastModifiedBy>FeNickS</cp:lastModifiedBy>
  <dcterms:modified xsi:type="dcterms:W3CDTF">2014-04-16T13:59:51Z</dcterms:modified>
  <cp:revision>18</cp:revision>
  <dc:subject/>
  <dc:title>Презентация PowerPoint</dc:title>
</cp:coreProperties>
</file>