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1364-C65B-4348-89BA-9B3FF26F7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D418-26B8-4A04-83FE-C644783B01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лан исследования необходимо составлять вместе с учащимися в ходе фронтальной бес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CA0-7EFD-4695-9223-536E7C11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171-36CE-46A9-A4C0-41A97035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6C4-796B-4503-8EF5-24FB5930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008-E40B-4F42-8560-2903AE90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B1A3-B276-40D9-AA68-3C5BE669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70A9-BFA3-4E80-8A83-F1EAB417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D9FF-D213-48B8-A912-F4A4F62B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09A4-9EC1-4B61-BC1A-9565B4B9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40F1-5F1A-41B4-B95A-9BDF46D1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4B99-F7B8-4C73-8ED1-7F97C9D1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6B33-63E4-4480-A72D-78DED629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B20-5F3B-411C-A02D-0AC0356E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82FD-5185-4CB4-B513-E4B2F3DA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C530-36A0-48D5-B427-2B988B83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21ED-6F45-450C-9787-FC6005C4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0AEF-6D2D-4A8F-917A-54F8D659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0A7A-E6BF-4130-8CCF-021BBC84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0AF-0BF6-4B93-B538-1268CDA0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3C6-BAD1-4FC8-98D3-715AA472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03D-1FAA-4E39-9267-F263C6B7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8AE-9E46-46A7-88D8-9D228105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63F-DC8E-4E16-983F-69C0FB90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D12-F026-46AA-B77D-13BFF62E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72F-5C26-466A-A079-BF67ACD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6C92-E125-4AC8-825B-AB475489C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3560" y="798480"/>
            <a:ext cx="7083720" cy="6861240"/>
            <a:chOff x="-313560" y="798480"/>
            <a:chExt cx="7083720" cy="68612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3560" y="798480"/>
              <a:ext cx="7083720" cy="6861240"/>
              <a:chOff x="-313560" y="798480"/>
              <a:chExt cx="7083720" cy="68612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3560" y="798480"/>
                <a:ext cx="7083720" cy="6861240"/>
                <a:chOff x="-313560" y="798480"/>
                <a:chExt cx="7083720" cy="68612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3560" y="798480"/>
                  <a:ext cx="7083720" cy="6861240"/>
                  <a:chOff x="-313560" y="798480"/>
                  <a:chExt cx="7083720" cy="68612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3560" y="798480"/>
                    <a:ext cx="7083720" cy="6861240"/>
                    <a:chOff x="-313560" y="798480"/>
                    <a:chExt cx="7083720" cy="68612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3560" y="805680"/>
                      <a:ext cx="7074000" cy="6854040"/>
                      <a:chOff x="-313560" y="805680"/>
                      <a:chExt cx="7074000" cy="68540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3560" y="805680"/>
                        <a:ext cx="7074000" cy="6854040"/>
                        <a:chOff x="-313560" y="805680"/>
                        <a:chExt cx="7074000" cy="68540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3560" y="1282320"/>
                          <a:ext cx="6462720" cy="6377400"/>
                          <a:chOff x="-313560" y="128232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6560" y="45201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8800" y="292680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372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6720" y="211968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1320" y="155628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7120" y="2127240"/>
                <a:ext cx="498600" cy="490680"/>
                <a:chOff x="4767120" y="2127240"/>
                <a:chExt cx="498600" cy="4906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83320" y="2350800"/>
                  <a:ext cx="31320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81600" y="2249280"/>
                  <a:ext cx="255600" cy="2466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66560" y="2238120"/>
                  <a:ext cx="183240" cy="17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31000" y="2134800"/>
                  <a:ext cx="22860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76080" y="2127240"/>
                  <a:ext cx="8964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E90C-473B-46F7-B92C-F37F18558B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Реализация проблемного метода обучения на уроках физики с помощью интерактивных компьютерных моделей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80880" y="419076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пенко Наталья Владимировна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БОУ «Кулундинская СОШ №3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учитель физик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из опыта работы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Это ВАМ  пригодится: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http://www.askskb.net/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айт содержит большое количество ИКМ, анимаций, видеоопытов, конспект и учебник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www.fizika.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чебники физики для 7, 8 и 9 классов, сборники вопросов и задач, тесты, тематические и поурочные планы, методические разработк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www.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eor.edu.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Электронные образовательные ресурсы по физике. 1000 модулей по всему курсу физики. Скачанные модули работают без сети Интернет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www.experiment.edu.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оссийский общеобразовательный портал. Большая коллекция экпериментов по физике в видеоформа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http://physics.nad.ru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Физика в анимация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www.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physics03.narod.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Физика вокруг нас.         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Правила :</a:t>
            </a:r>
            <a:endParaRPr b="0" lang="en-US" sz="5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78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всё должно быть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зировано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щательный отбор моделей и заданий к ним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рогу осилит идущий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ерьте в своих учеников и все получится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Немало есть профессий      на земле,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Но быть не каждый может педагогом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Учить, любить, привязывать к себ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Не научиться -  это дар от Бога!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ешаемые проблемы (актуальность):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большой поток информации – трудно чем-то удивить школьников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слабая материально-техническая оснащенность учебных кабинетов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невозможность проведения ряда экспериментов в рамках школьной лаборатории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еализуемая продуктивная педагогическая идея -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Verdana"/>
              </a:rPr>
              <a:t>активизация творческой деятельности         учащихся.</a:t>
            </a: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234000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ПУТИ    РЕАЛИЗАЦИИ:</a:t>
            </a:r>
            <a:endParaRPr b="0" lang="en-US" sz="5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2280" y="1700280"/>
            <a:ext cx="8839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Применение проблемно- поискового метода с использованием интерактивных  компьютерных моделей физических процессов или  физических устройств на различных этапах урока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"/>
          <p:cNvPicPr/>
          <p:nvPr/>
        </p:nvPicPr>
        <p:blipFill>
          <a:blip r:embed="rId1"/>
          <a:stretch/>
        </p:blipFill>
        <p:spPr>
          <a:xfrm>
            <a:off x="0" y="476280"/>
            <a:ext cx="4572000" cy="6048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2"/>
          <p:cNvPicPr/>
          <p:nvPr/>
        </p:nvPicPr>
        <p:blipFill>
          <a:blip r:embed="rId2"/>
          <a:stretch/>
        </p:blipFill>
        <p:spPr>
          <a:xfrm>
            <a:off x="4572000" y="476280"/>
            <a:ext cx="45720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лан исследования: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ть зависимость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(U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неизменных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Р и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од заряжен отрицательно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при увеличени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уществует ли ток в отсутстви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сследовать изменение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Р)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 различных значениях светового потока, не изменяя </a:t>
            </a:r>
            <a:r>
              <a:rPr b="0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 уменьшением Р как изменяется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уществует ли фототок в отсутствии излучени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ть изменен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при освещении светом различного спектрального состава, при неизменных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ак изменяется значени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с увеличением </a:t>
            </a:r>
            <a:r>
              <a:rPr b="1" i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какой области спектра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→min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→max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ли в рамках данной компьютерной модели провести исследование изменения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зног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ериала като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Решаемые задачи :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звитие познавательной активности и аналитического мышл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формирование навыков работы с компьютером и самостоятельного исследов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вышение интереса к изучаемому предмету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звитие критичности мышл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езультативность опыта:</a:t>
            </a:r>
            <a:endParaRPr b="0" lang="en-US" sz="5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03280" y="980640"/>
            <a:ext cx="5940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ибкая траектория обуч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оделирование экспериментов, зада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дин и тот же процесс можно наблюдать несколько раз (сравнивая, анализируя, делая выводы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циональное использование времени на урок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сокая активность учащих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озможность построения «субъект – субъектных» отнош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ифференциация обуч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Picture 4" descr="8be682342ff9c0e79fc69974e213d05c"/>
          <p:cNvPicPr/>
          <p:nvPr/>
        </p:nvPicPr>
        <p:blipFill>
          <a:blip r:embed="rId1"/>
          <a:stretch/>
        </p:blipFill>
        <p:spPr>
          <a:xfrm>
            <a:off x="0" y="3141720"/>
            <a:ext cx="3419640" cy="3141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5654b"/>
          <p:cNvPicPr/>
          <p:nvPr/>
        </p:nvPicPr>
        <p:blipFill>
          <a:blip r:embed="rId2"/>
          <a:stretch/>
        </p:blipFill>
        <p:spPr>
          <a:xfrm rot="19291200">
            <a:off x="1763640" y="1557000"/>
            <a:ext cx="1755720" cy="18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3:59:02Z</dcterms:created>
  <dc:creator>Наталья</dc:creator>
  <dc:description/>
  <dc:language>en-US</dc:language>
  <cp:lastModifiedBy>1</cp:lastModifiedBy>
  <dcterms:modified xsi:type="dcterms:W3CDTF">2013-12-21T18:14:1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