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A8E6-DB58-40B3-A003-ACB78260E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FB17-0A5C-4B85-B1E0-9AB24B6BC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5A40-F6B6-41D4-92E3-81B72F4E4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F2CC-7EF9-4F96-AECF-A21868CC4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202A-EFF5-4B76-99F7-9C14EC24F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9F57-AE98-48B8-A942-A59C5AFC8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1571-90A3-49BC-BE6C-8BF1D9518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537A-3A07-4E48-890E-F9B3E0911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27A0-C79B-4B0C-98CC-3D3B8352B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7BEF-C5BD-4391-8369-402397132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8E45-19B6-4FF3-986F-2937A9071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157D-F9AB-4414-A4A8-F4C8E4B0C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A19CE-34F6-4F93-B54A-31A164D33A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95640" y="333360"/>
            <a:ext cx="5184720" cy="515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187280" y="566100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руговорот воды в приро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08000" y="189000"/>
            <a:ext cx="5761080" cy="5445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58920" y="573408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мена дня и но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424720" cy="55227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619280" y="6093000"/>
            <a:ext cx="63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мена времён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58920" y="404640"/>
            <a:ext cx="6624720" cy="42278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050920" y="530064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онвейер раздачи обед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195640" y="549360"/>
            <a:ext cx="4537080" cy="4537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835280" y="5661000"/>
            <a:ext cx="568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онвейер изготовления автомаш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3743280" cy="32781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788000" y="549360"/>
            <a:ext cx="3960720" cy="3362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95280" y="4017960"/>
            <a:ext cx="8748720" cy="34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. Какие элементы блок - схемы вам знакомы?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2. Что они обозначают? 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3. Что нового появилось в блок схеме?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4. Когда действие «смотрю Т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» перестанет выполняться? 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5. Может ли действие «смотрю Т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» не выполниться ни разу?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6. При каком условии это произойдёт?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7. Какое название и определение для данной конструкции вы предлагает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9280" y="260280"/>
            <a:ext cx="8640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284720" y="189000"/>
            <a:ext cx="485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лгоритм «Смотрим телепередачу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3640" y="2637000"/>
            <a:ext cx="8280360" cy="23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Тема урока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«Программирование цикла с предусловием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5280" y="765000"/>
            <a:ext cx="58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Любуясь Луной, помните: и Луна выполняет циклический алгорит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059280" cy="30402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843280" y="0"/>
            <a:ext cx="3241440" cy="30639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0" y="3357720"/>
            <a:ext cx="5111640" cy="33508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5183280" y="3645000"/>
            <a:ext cx="3960720" cy="25272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6012000" y="0"/>
            <a:ext cx="313200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 “ C,D,K”;C,D,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C &gt;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= N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Prin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“ Номер суток, концентрация “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Print N,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W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9280" y="3429000"/>
            <a:ext cx="6553440" cy="1584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00000" y="3068640"/>
            <a:ext cx="7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00000" y="5589720"/>
            <a:ext cx="7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56360" y="404640"/>
            <a:ext cx="2519280" cy="7855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ошибка – «4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ошибки – «3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6T12:14:17Z</dcterms:created>
  <dc:creator>OLGA</dc:creator>
  <dc:description/>
  <dc:language>en-US</dc:language>
  <cp:lastModifiedBy>OLGA</cp:lastModifiedBy>
  <dcterms:modified xsi:type="dcterms:W3CDTF">2008-02-15T08:48:51Z</dcterms:modified>
  <cp:revision>7</cp:revision>
  <dc:subject/>
  <dc:title>Слайд 1</dc:title>
</cp:coreProperties>
</file>