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13.png" ContentType="image/png"/>
  <Override PartName="/ppt/media/image11.gif" ContentType="image/gif"/>
  <Override PartName="/ppt/media/image14.png" ContentType="image/png"/>
  <Override PartName="/ppt/media/image5.jpeg" ContentType="image/jpeg"/>
  <Override PartName="/ppt/media/image19.png" ContentType="image/png"/>
  <Override PartName="/ppt/media/image22.png" ContentType="image/png"/>
  <Override PartName="/ppt/media/image17.gif" ContentType="image/gif"/>
  <Override PartName="/ppt/media/image16.png" ContentType="image/png"/>
  <Override PartName="/ppt/media/image1.png" ContentType="image/png"/>
  <Override PartName="/ppt/media/image24.png" ContentType="image/png"/>
  <Override PartName="/ppt/media/image21.gif" ContentType="image/gif"/>
  <Override PartName="/ppt/media/image2.png" ContentType="image/png"/>
  <Override PartName="/ppt/media/image3.png" ContentType="image/png"/>
  <Override PartName="/ppt/media/image23.gif" ContentType="image/gif"/>
  <Override PartName="/ppt/media/image4.png" ContentType="image/png"/>
  <Override PartName="/ppt/media/image8.jpeg" ContentType="image/jpeg"/>
  <Override PartName="/ppt/media/image2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A7D6-B2BF-488E-B0B3-5E0C2BC232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C6C6-24E8-4503-AADE-A023412A3A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6242-2861-4722-A27C-88030D3E16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0CAF-D6CD-42BF-AFFF-35F60BF9D2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7F9-4C73-4EBE-AB04-7EB1B549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E5C-7A47-41BD-9F40-3EA93C8F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519-8729-4C12-839E-F2BC89B7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7FC-083D-49A9-87AA-2ED607B0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12FD-AD34-4E14-B818-0FE17454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709D-418D-404E-A855-8A8C3E5B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CBB6-E162-41B1-AA45-39C56B57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6624-2742-4355-85A2-A75F90CB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6CEA-2510-42A8-B17E-6B418E9A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ECC2-8B76-472A-A8AA-8357EB46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B829-4505-404A-A397-0BCAFD04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2FFC-9879-47D6-A0C2-9F7D7551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62EC-1492-410A-B948-85FF7007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9452-5F03-4559-BAC4-3EF811BE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01D0-7C09-4A4B-AB9B-8AA19506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B72D-51A9-4F25-989D-C689DFD5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0CE6-7B9E-42AD-ADFD-9BB899B5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85F-521E-40ED-8A81-5E41EA1F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265-375D-411F-82C5-C98D09C8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E2A-F8CB-4C7E-B4CF-86DEEE66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697-5AAD-417F-8524-E938BEDF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66A-85EB-474F-B181-C0997272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AAB-F011-4C75-BEBC-95275349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BAC7-8A7A-41E4-BAFE-BD40BFF6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596E-0023-4358-984A-BF33BFA5CD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8C36-0E49-4D9C-B9EC-2A443D227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279520" y="1566720"/>
            <a:ext cx="6297840" cy="279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214812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п\Desktop\загруженное.jpg"/>
          <p:cNvPicPr/>
          <p:nvPr/>
        </p:nvPicPr>
        <p:blipFill>
          <a:blip r:embed="rId3"/>
          <a:stretch/>
        </p:blipFill>
        <p:spPr>
          <a:xfrm>
            <a:off x="0" y="4697280"/>
            <a:ext cx="1800360" cy="216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п\Desktop\загруженное (1).jpg"/>
          <p:cNvPicPr/>
          <p:nvPr/>
        </p:nvPicPr>
        <p:blipFill>
          <a:blip r:embed="rId4"/>
          <a:stretch/>
        </p:blipFill>
        <p:spPr>
          <a:xfrm>
            <a:off x="2195640" y="4724280"/>
            <a:ext cx="2592360" cy="2060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Users\п\Desktop\images (1).jpg"/>
          <p:cNvPicPr/>
          <p:nvPr/>
        </p:nvPicPr>
        <p:blipFill>
          <a:blip r:embed="rId5"/>
          <a:stretch/>
        </p:blipFill>
        <p:spPr>
          <a:xfrm>
            <a:off x="4788000" y="4724280"/>
            <a:ext cx="2619360" cy="206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Users\п\Desktop\images.jpg"/>
          <p:cNvPicPr/>
          <p:nvPr/>
        </p:nvPicPr>
        <p:blipFill>
          <a:blip r:embed="rId6"/>
          <a:stretch/>
        </p:blipFill>
        <p:spPr>
          <a:xfrm>
            <a:off x="7164360" y="4724280"/>
            <a:ext cx="197964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353880" y="-237960"/>
            <a:ext cx="7656480" cy="126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339640" y="1125000"/>
            <a:ext cx="655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имать ли подарок           от вну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ет ли «заболеть» компьюте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заражается П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собы защиты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   Тройка лидеров антивирусных пр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C:\Users\п\Desktop\s11108.gif"/>
          <p:cNvPicPr/>
          <p:nvPr/>
        </p:nvPicPr>
        <p:blipFill>
          <a:blip r:embed="rId2"/>
          <a:stretch/>
        </p:blipFill>
        <p:spPr>
          <a:xfrm>
            <a:off x="0" y="260280"/>
            <a:ext cx="2124000" cy="29527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8"/>
          <p:cNvSpPr/>
          <p:nvPr/>
        </p:nvSpPr>
        <p:spPr>
          <a:xfrm>
            <a:off x="8001000" y="6504120"/>
            <a:ext cx="1143000" cy="353880"/>
          </a:xfrm>
          <a:custGeom>
            <a:avLst/>
            <a:gdLst>
              <a:gd name="textAreaLeft" fmla="*/ 22680 w 1143000"/>
              <a:gd name="textAreaRight" fmla="*/ 1120320 w 114300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69717" h="21600">
                <a:moveTo>
                  <a:pt x="0" y="0"/>
                </a:moveTo>
                <a:lnTo>
                  <a:pt x="69717" y="0"/>
                </a:lnTo>
                <a:lnTo>
                  <a:pt x="69717" y="21600"/>
                </a:lnTo>
                <a:lnTo>
                  <a:pt x="0" y="21600"/>
                </a:lnTo>
                <a:close/>
              </a:path>
              <a:path fill="lightenLess" w="69717" h="21600">
                <a:moveTo>
                  <a:pt x="0" y="0"/>
                </a:moveTo>
                <a:lnTo>
                  <a:pt x="69717" y="0"/>
                </a:lnTo>
                <a:lnTo>
                  <a:pt x="68317" y="1400"/>
                </a:lnTo>
                <a:lnTo>
                  <a:pt x="1400" y="1400"/>
                </a:lnTo>
                <a:close/>
              </a:path>
              <a:path fill="darken" w="69717" h="21600">
                <a:moveTo>
                  <a:pt x="69717" y="0"/>
                </a:moveTo>
                <a:lnTo>
                  <a:pt x="69717" y="21600"/>
                </a:lnTo>
                <a:lnTo>
                  <a:pt x="68317" y="20200"/>
                </a:lnTo>
                <a:lnTo>
                  <a:pt x="68317" y="1400"/>
                </a:lnTo>
                <a:close/>
              </a:path>
              <a:path fill="darkenLess" w="69717" h="21600">
                <a:moveTo>
                  <a:pt x="697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17" y="20200"/>
                </a:lnTo>
                <a:close/>
              </a:path>
              <a:path fill="lighten" w="697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17" h="21600">
                <a:moveTo>
                  <a:pt x="27852" y="10800"/>
                </a:moveTo>
                <a:lnTo>
                  <a:pt x="41865" y="3794"/>
                </a:lnTo>
                <a:lnTo>
                  <a:pt x="41865" y="17806"/>
                </a:lnTo>
                <a:close/>
              </a:path>
            </a:pathLst>
          </a:custGeom>
          <a:solidFill>
            <a:srgbClr val="4f81b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53880" y="-237960"/>
            <a:ext cx="7656480" cy="126180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5" descr=""/>
          <p:cNvPicPr/>
          <p:nvPr/>
        </p:nvPicPr>
        <p:blipFill>
          <a:blip r:embed="rId2"/>
          <a:stretch/>
        </p:blipFill>
        <p:spPr>
          <a:xfrm>
            <a:off x="1828800" y="1322280"/>
            <a:ext cx="7248600" cy="5280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C:\Users\п\Desktop\s1229.gif"/>
          <p:cNvPicPr/>
          <p:nvPr/>
        </p:nvPicPr>
        <p:blipFill>
          <a:blip r:embed="rId3"/>
          <a:stretch/>
        </p:blipFill>
        <p:spPr>
          <a:xfrm>
            <a:off x="0" y="1052640"/>
            <a:ext cx="2411280" cy="17920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>
            <a:hlinkClick r:id="" action="ppaction://hlinkshowjump?jump=endshow"/>
          </p:cNvPr>
          <p:cNvSpPr/>
          <p:nvPr/>
        </p:nvSpPr>
        <p:spPr>
          <a:xfrm>
            <a:off x="8001000" y="6504120"/>
            <a:ext cx="1143000" cy="353880"/>
          </a:xfrm>
          <a:custGeom>
            <a:avLst/>
            <a:gdLst>
              <a:gd name="textAreaLeft" fmla="*/ 22680 w 1143000"/>
              <a:gd name="textAreaRight" fmla="*/ 1120320 w 114300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69717" h="21600">
                <a:moveTo>
                  <a:pt x="0" y="0"/>
                </a:moveTo>
                <a:lnTo>
                  <a:pt x="69717" y="0"/>
                </a:lnTo>
                <a:lnTo>
                  <a:pt x="69717" y="21600"/>
                </a:lnTo>
                <a:lnTo>
                  <a:pt x="0" y="21600"/>
                </a:lnTo>
                <a:close/>
              </a:path>
              <a:path fill="lightenLess" w="69717" h="21600">
                <a:moveTo>
                  <a:pt x="0" y="0"/>
                </a:moveTo>
                <a:lnTo>
                  <a:pt x="69717" y="0"/>
                </a:lnTo>
                <a:lnTo>
                  <a:pt x="68317" y="1400"/>
                </a:lnTo>
                <a:lnTo>
                  <a:pt x="1400" y="1400"/>
                </a:lnTo>
                <a:close/>
              </a:path>
              <a:path fill="darken" w="69717" h="21600">
                <a:moveTo>
                  <a:pt x="69717" y="0"/>
                </a:moveTo>
                <a:lnTo>
                  <a:pt x="69717" y="21600"/>
                </a:lnTo>
                <a:lnTo>
                  <a:pt x="68317" y="20200"/>
                </a:lnTo>
                <a:lnTo>
                  <a:pt x="68317" y="1400"/>
                </a:lnTo>
                <a:close/>
              </a:path>
              <a:path fill="darkenLess" w="69717" h="21600">
                <a:moveTo>
                  <a:pt x="697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17" y="20200"/>
                </a:lnTo>
                <a:close/>
              </a:path>
              <a:path fill="lighten" w="697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>
            <a:hlinkClick r:id="rId4" action="ppaction://hlinksldjump"/>
          </p:cNvPr>
          <p:cNvSpPr/>
          <p:nvPr/>
        </p:nvSpPr>
        <p:spPr>
          <a:xfrm>
            <a:off x="6875640" y="6504120"/>
            <a:ext cx="1143000" cy="353880"/>
          </a:xfrm>
          <a:custGeom>
            <a:avLst/>
            <a:gdLst>
              <a:gd name="textAreaLeft" fmla="*/ 22680 w 1143000"/>
              <a:gd name="textAreaRight" fmla="*/ 1120320 w 114300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69717" h="21600">
                <a:moveTo>
                  <a:pt x="0" y="0"/>
                </a:moveTo>
                <a:lnTo>
                  <a:pt x="69717" y="0"/>
                </a:lnTo>
                <a:lnTo>
                  <a:pt x="69717" y="21600"/>
                </a:lnTo>
                <a:lnTo>
                  <a:pt x="0" y="21600"/>
                </a:lnTo>
                <a:close/>
              </a:path>
              <a:path fill="lightenLess" w="69717" h="21600">
                <a:moveTo>
                  <a:pt x="0" y="0"/>
                </a:moveTo>
                <a:lnTo>
                  <a:pt x="69717" y="0"/>
                </a:lnTo>
                <a:lnTo>
                  <a:pt x="68317" y="1400"/>
                </a:lnTo>
                <a:lnTo>
                  <a:pt x="1400" y="1400"/>
                </a:lnTo>
                <a:close/>
              </a:path>
              <a:path fill="darken" w="69717" h="21600">
                <a:moveTo>
                  <a:pt x="69717" y="0"/>
                </a:moveTo>
                <a:lnTo>
                  <a:pt x="69717" y="21600"/>
                </a:lnTo>
                <a:lnTo>
                  <a:pt x="68317" y="20200"/>
                </a:lnTo>
                <a:lnTo>
                  <a:pt x="68317" y="1400"/>
                </a:lnTo>
                <a:close/>
              </a:path>
              <a:path fill="darkenLess" w="69717" h="21600">
                <a:moveTo>
                  <a:pt x="697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17" y="20200"/>
                </a:lnTo>
                <a:close/>
              </a:path>
              <a:path fill="lighten" w="697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17" h="21600">
                <a:moveTo>
                  <a:pt x="27852" y="3794"/>
                </a:moveTo>
                <a:lnTo>
                  <a:pt x="41865" y="10800"/>
                </a:lnTo>
                <a:lnTo>
                  <a:pt x="27852" y="17806"/>
                </a:lnTo>
                <a:close/>
              </a:path>
            </a:pathLst>
          </a:custGeom>
          <a:solidFill>
            <a:srgbClr val="4f81b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7656480" cy="1013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692000" y="1052640"/>
            <a:ext cx="7164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 о практической необходимости  антивирусных пр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накомиться с основными понятиями по теме                       « Антивирусные программ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ться  проводить проверку файлов на наличие виру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42920" y="0"/>
            <a:ext cx="64087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Учебные зада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8001000" y="6504120"/>
            <a:ext cx="1143000" cy="353880"/>
          </a:xfrm>
          <a:custGeom>
            <a:avLst/>
            <a:gdLst>
              <a:gd name="textAreaLeft" fmla="*/ 22680 w 1143000"/>
              <a:gd name="textAreaRight" fmla="*/ 1120320 w 114300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69717" h="21600">
                <a:moveTo>
                  <a:pt x="0" y="0"/>
                </a:moveTo>
                <a:lnTo>
                  <a:pt x="69717" y="0"/>
                </a:lnTo>
                <a:lnTo>
                  <a:pt x="69717" y="21600"/>
                </a:lnTo>
                <a:lnTo>
                  <a:pt x="0" y="21600"/>
                </a:lnTo>
                <a:close/>
              </a:path>
              <a:path fill="lightenLess" w="69717" h="21600">
                <a:moveTo>
                  <a:pt x="0" y="0"/>
                </a:moveTo>
                <a:lnTo>
                  <a:pt x="69717" y="0"/>
                </a:lnTo>
                <a:lnTo>
                  <a:pt x="68317" y="1400"/>
                </a:lnTo>
                <a:lnTo>
                  <a:pt x="1400" y="1400"/>
                </a:lnTo>
                <a:close/>
              </a:path>
              <a:path fill="darken" w="69717" h="21600">
                <a:moveTo>
                  <a:pt x="69717" y="0"/>
                </a:moveTo>
                <a:lnTo>
                  <a:pt x="69717" y="21600"/>
                </a:lnTo>
                <a:lnTo>
                  <a:pt x="68317" y="20200"/>
                </a:lnTo>
                <a:lnTo>
                  <a:pt x="68317" y="1400"/>
                </a:lnTo>
                <a:close/>
              </a:path>
              <a:path fill="darkenLess" w="69717" h="21600">
                <a:moveTo>
                  <a:pt x="697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17" y="20200"/>
                </a:lnTo>
                <a:close/>
              </a:path>
              <a:path fill="lighten" w="697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17" h="21600">
                <a:moveTo>
                  <a:pt x="27852" y="10800"/>
                </a:moveTo>
                <a:lnTo>
                  <a:pt x="41865" y="3794"/>
                </a:lnTo>
                <a:lnTo>
                  <a:pt x="41865" y="17806"/>
                </a:lnTo>
                <a:close/>
              </a:path>
            </a:pathLst>
          </a:custGeom>
          <a:solidFill>
            <a:srgbClr val="4f81b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353880" y="-237960"/>
            <a:ext cx="7656480" cy="126180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4" descr=""/>
          <p:cNvPicPr/>
          <p:nvPr/>
        </p:nvPicPr>
        <p:blipFill>
          <a:blip r:embed="rId2"/>
          <a:stretch/>
        </p:blipFill>
        <p:spPr>
          <a:xfrm>
            <a:off x="1566720" y="1042920"/>
            <a:ext cx="7516800" cy="5497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п\Desktop\Презентация к уроку\0023.gif"/>
          <p:cNvPicPr/>
          <p:nvPr/>
        </p:nvPicPr>
        <p:blipFill>
          <a:blip r:embed="rId3"/>
          <a:stretch/>
        </p:blipFill>
        <p:spPr>
          <a:xfrm>
            <a:off x="34920" y="1052640"/>
            <a:ext cx="1512720" cy="172872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/>
          <p:cNvSpPr/>
          <p:nvPr/>
        </p:nvSpPr>
        <p:spPr>
          <a:xfrm>
            <a:off x="8001000" y="6504120"/>
            <a:ext cx="1143000" cy="353880"/>
          </a:xfrm>
          <a:custGeom>
            <a:avLst/>
            <a:gdLst>
              <a:gd name="textAreaLeft" fmla="*/ 22680 w 1143000"/>
              <a:gd name="textAreaRight" fmla="*/ 1120320 w 114300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69717" h="21600">
                <a:moveTo>
                  <a:pt x="0" y="0"/>
                </a:moveTo>
                <a:lnTo>
                  <a:pt x="69717" y="0"/>
                </a:lnTo>
                <a:lnTo>
                  <a:pt x="69717" y="21600"/>
                </a:lnTo>
                <a:lnTo>
                  <a:pt x="0" y="21600"/>
                </a:lnTo>
                <a:close/>
              </a:path>
              <a:path fill="lightenLess" w="69717" h="21600">
                <a:moveTo>
                  <a:pt x="0" y="0"/>
                </a:moveTo>
                <a:lnTo>
                  <a:pt x="69717" y="0"/>
                </a:lnTo>
                <a:lnTo>
                  <a:pt x="68317" y="1400"/>
                </a:lnTo>
                <a:lnTo>
                  <a:pt x="1400" y="1400"/>
                </a:lnTo>
                <a:close/>
              </a:path>
              <a:path fill="darken" w="69717" h="21600">
                <a:moveTo>
                  <a:pt x="69717" y="0"/>
                </a:moveTo>
                <a:lnTo>
                  <a:pt x="69717" y="21600"/>
                </a:lnTo>
                <a:lnTo>
                  <a:pt x="68317" y="20200"/>
                </a:lnTo>
                <a:lnTo>
                  <a:pt x="68317" y="1400"/>
                </a:lnTo>
                <a:close/>
              </a:path>
              <a:path fill="darkenLess" w="69717" h="21600">
                <a:moveTo>
                  <a:pt x="697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17" y="20200"/>
                </a:lnTo>
                <a:close/>
              </a:path>
              <a:path fill="lighten" w="697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17" h="21600">
                <a:moveTo>
                  <a:pt x="27852" y="10800"/>
                </a:moveTo>
                <a:lnTo>
                  <a:pt x="41865" y="3794"/>
                </a:lnTo>
                <a:lnTo>
                  <a:pt x="41865" y="17806"/>
                </a:lnTo>
                <a:close/>
              </a:path>
            </a:pathLst>
          </a:custGeom>
          <a:solidFill>
            <a:srgbClr val="4f81b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353880" y="-237960"/>
            <a:ext cx="7656480" cy="1261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763640" y="1052280"/>
            <a:ext cx="712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читав раздел «Антивирусные программы»  п.1.7. учебника, ответить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Дайте понятие антивирусной программы. Виды антивирусных пр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Каким образом происходит «лечение» зараженного файла. Что происходит с файлом, если его «лечение» невозможн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Users\п\Desktop\Презентация к уроку\super_smilies012.gif"/>
          <p:cNvPicPr/>
          <p:nvPr/>
        </p:nvPicPr>
        <p:blipFill>
          <a:blip r:embed="rId2"/>
          <a:stretch/>
        </p:blipFill>
        <p:spPr>
          <a:xfrm>
            <a:off x="0" y="1125360"/>
            <a:ext cx="2411280" cy="19432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7"/>
          <p:cNvSpPr/>
          <p:nvPr/>
        </p:nvSpPr>
        <p:spPr>
          <a:xfrm>
            <a:off x="8001000" y="6504120"/>
            <a:ext cx="1143000" cy="353880"/>
          </a:xfrm>
          <a:custGeom>
            <a:avLst/>
            <a:gdLst>
              <a:gd name="textAreaLeft" fmla="*/ 22680 w 1143000"/>
              <a:gd name="textAreaRight" fmla="*/ 1120320 w 114300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69717" h="21600">
                <a:moveTo>
                  <a:pt x="0" y="0"/>
                </a:moveTo>
                <a:lnTo>
                  <a:pt x="69717" y="0"/>
                </a:lnTo>
                <a:lnTo>
                  <a:pt x="69717" y="21600"/>
                </a:lnTo>
                <a:lnTo>
                  <a:pt x="0" y="21600"/>
                </a:lnTo>
                <a:close/>
              </a:path>
              <a:path fill="lightenLess" w="69717" h="21600">
                <a:moveTo>
                  <a:pt x="0" y="0"/>
                </a:moveTo>
                <a:lnTo>
                  <a:pt x="69717" y="0"/>
                </a:lnTo>
                <a:lnTo>
                  <a:pt x="68317" y="1400"/>
                </a:lnTo>
                <a:lnTo>
                  <a:pt x="1400" y="1400"/>
                </a:lnTo>
                <a:close/>
              </a:path>
              <a:path fill="darken" w="69717" h="21600">
                <a:moveTo>
                  <a:pt x="69717" y="0"/>
                </a:moveTo>
                <a:lnTo>
                  <a:pt x="69717" y="21600"/>
                </a:lnTo>
                <a:lnTo>
                  <a:pt x="68317" y="20200"/>
                </a:lnTo>
                <a:lnTo>
                  <a:pt x="68317" y="1400"/>
                </a:lnTo>
                <a:close/>
              </a:path>
              <a:path fill="darkenLess" w="69717" h="21600">
                <a:moveTo>
                  <a:pt x="697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17" y="20200"/>
                </a:lnTo>
                <a:close/>
              </a:path>
              <a:path fill="lighten" w="697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17" h="21600">
                <a:moveTo>
                  <a:pt x="27852" y="3794"/>
                </a:moveTo>
                <a:lnTo>
                  <a:pt x="41865" y="10800"/>
                </a:lnTo>
                <a:lnTo>
                  <a:pt x="27852" y="17806"/>
                </a:lnTo>
                <a:close/>
              </a:path>
            </a:pathLst>
          </a:custGeom>
          <a:solidFill>
            <a:srgbClr val="4f81b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353880" y="-237960"/>
            <a:ext cx="7656480" cy="1261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11- м класс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классификация  вредоносных програм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методы обнаружения виру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сновные способы защи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способы заражения П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авовой аспект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п\Desktop\Презентация к уроку\s1229.gif"/>
          <p:cNvPicPr/>
          <p:nvPr/>
        </p:nvPicPr>
        <p:blipFill>
          <a:blip r:embed="rId2"/>
          <a:stretch/>
        </p:blipFill>
        <p:spPr>
          <a:xfrm>
            <a:off x="44280" y="981000"/>
            <a:ext cx="2727360" cy="18003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8001000" y="6504120"/>
            <a:ext cx="1143000" cy="353880"/>
          </a:xfrm>
          <a:custGeom>
            <a:avLst/>
            <a:gdLst>
              <a:gd name="textAreaLeft" fmla="*/ 22680 w 1143000"/>
              <a:gd name="textAreaRight" fmla="*/ 1120320 w 114300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69717" h="21600">
                <a:moveTo>
                  <a:pt x="0" y="0"/>
                </a:moveTo>
                <a:lnTo>
                  <a:pt x="69717" y="0"/>
                </a:lnTo>
                <a:lnTo>
                  <a:pt x="69717" y="21600"/>
                </a:lnTo>
                <a:lnTo>
                  <a:pt x="0" y="21600"/>
                </a:lnTo>
                <a:close/>
              </a:path>
              <a:path fill="lightenLess" w="69717" h="21600">
                <a:moveTo>
                  <a:pt x="0" y="0"/>
                </a:moveTo>
                <a:lnTo>
                  <a:pt x="69717" y="0"/>
                </a:lnTo>
                <a:lnTo>
                  <a:pt x="68317" y="1400"/>
                </a:lnTo>
                <a:lnTo>
                  <a:pt x="1400" y="1400"/>
                </a:lnTo>
                <a:close/>
              </a:path>
              <a:path fill="darken" w="69717" h="21600">
                <a:moveTo>
                  <a:pt x="69717" y="0"/>
                </a:moveTo>
                <a:lnTo>
                  <a:pt x="69717" y="21600"/>
                </a:lnTo>
                <a:lnTo>
                  <a:pt x="68317" y="20200"/>
                </a:lnTo>
                <a:lnTo>
                  <a:pt x="68317" y="1400"/>
                </a:lnTo>
                <a:close/>
              </a:path>
              <a:path fill="darkenLess" w="69717" h="21600">
                <a:moveTo>
                  <a:pt x="697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17" y="20200"/>
                </a:lnTo>
                <a:close/>
              </a:path>
              <a:path fill="lighten" w="697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17" h="21600">
                <a:moveTo>
                  <a:pt x="27852" y="10800"/>
                </a:moveTo>
                <a:lnTo>
                  <a:pt x="41865" y="3794"/>
                </a:lnTo>
                <a:lnTo>
                  <a:pt x="41865" y="17806"/>
                </a:lnTo>
                <a:close/>
              </a:path>
            </a:pathLst>
          </a:custGeom>
          <a:solidFill>
            <a:srgbClr val="4f81b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353880" y="-176040"/>
            <a:ext cx="7656480" cy="1182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907640" y="1197000"/>
            <a:ext cx="6985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Обсудить отв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вопросы теста в группах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брать отвечаю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Оцени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5» -  5 правильных отве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4» -  4 правильных отв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3» -  3 правильных от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8001000" y="6504120"/>
            <a:ext cx="1143000" cy="353880"/>
          </a:xfrm>
          <a:custGeom>
            <a:avLst/>
            <a:gdLst>
              <a:gd name="textAreaLeft" fmla="*/ 22680 w 1143000"/>
              <a:gd name="textAreaRight" fmla="*/ 1120320 w 114300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69717" h="21600">
                <a:moveTo>
                  <a:pt x="0" y="0"/>
                </a:moveTo>
                <a:lnTo>
                  <a:pt x="69717" y="0"/>
                </a:lnTo>
                <a:lnTo>
                  <a:pt x="69717" y="21600"/>
                </a:lnTo>
                <a:lnTo>
                  <a:pt x="0" y="21600"/>
                </a:lnTo>
                <a:close/>
              </a:path>
              <a:path fill="lightenLess" w="69717" h="21600">
                <a:moveTo>
                  <a:pt x="0" y="0"/>
                </a:moveTo>
                <a:lnTo>
                  <a:pt x="69717" y="0"/>
                </a:lnTo>
                <a:lnTo>
                  <a:pt x="68317" y="1400"/>
                </a:lnTo>
                <a:lnTo>
                  <a:pt x="1400" y="1400"/>
                </a:lnTo>
                <a:close/>
              </a:path>
              <a:path fill="darken" w="69717" h="21600">
                <a:moveTo>
                  <a:pt x="69717" y="0"/>
                </a:moveTo>
                <a:lnTo>
                  <a:pt x="69717" y="21600"/>
                </a:lnTo>
                <a:lnTo>
                  <a:pt x="68317" y="20200"/>
                </a:lnTo>
                <a:lnTo>
                  <a:pt x="68317" y="1400"/>
                </a:lnTo>
                <a:close/>
              </a:path>
              <a:path fill="darkenLess" w="69717" h="21600">
                <a:moveTo>
                  <a:pt x="697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17" y="20200"/>
                </a:lnTo>
                <a:close/>
              </a:path>
              <a:path fill="lighten" w="697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17" h="21600">
                <a:moveTo>
                  <a:pt x="27852" y="10800"/>
                </a:moveTo>
                <a:lnTo>
                  <a:pt x="41865" y="3794"/>
                </a:lnTo>
                <a:lnTo>
                  <a:pt x="41865" y="17806"/>
                </a:lnTo>
                <a:close/>
              </a:path>
            </a:pathLst>
          </a:custGeom>
          <a:solidFill>
            <a:srgbClr val="4f81b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353880" y="-237960"/>
            <a:ext cx="7656480" cy="1261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195640" y="1125360"/>
            <a:ext cx="6697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олучить  инструкцию от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При работе над    практическим заданием четко следовать алгоритму  выпол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При возникновении вопросов можно обратиться за помощью к консультанту группы или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C:\Users\п\Desktop\Презентация к уроку\0031.gif"/>
          <p:cNvPicPr/>
          <p:nvPr/>
        </p:nvPicPr>
        <p:blipFill>
          <a:blip r:embed="rId2"/>
          <a:stretch/>
        </p:blipFill>
        <p:spPr>
          <a:xfrm>
            <a:off x="0" y="1017720"/>
            <a:ext cx="2556000" cy="14745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8"/>
          <p:cNvSpPr/>
          <p:nvPr/>
        </p:nvSpPr>
        <p:spPr>
          <a:xfrm>
            <a:off x="8001000" y="6504120"/>
            <a:ext cx="1143000" cy="353880"/>
          </a:xfrm>
          <a:custGeom>
            <a:avLst/>
            <a:gdLst>
              <a:gd name="textAreaLeft" fmla="*/ 22680 w 1143000"/>
              <a:gd name="textAreaRight" fmla="*/ 1120320 w 114300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69717" h="21600">
                <a:moveTo>
                  <a:pt x="0" y="0"/>
                </a:moveTo>
                <a:lnTo>
                  <a:pt x="69717" y="0"/>
                </a:lnTo>
                <a:lnTo>
                  <a:pt x="69717" y="21600"/>
                </a:lnTo>
                <a:lnTo>
                  <a:pt x="0" y="21600"/>
                </a:lnTo>
                <a:close/>
              </a:path>
              <a:path fill="lightenLess" w="69717" h="21600">
                <a:moveTo>
                  <a:pt x="0" y="0"/>
                </a:moveTo>
                <a:lnTo>
                  <a:pt x="69717" y="0"/>
                </a:lnTo>
                <a:lnTo>
                  <a:pt x="68317" y="1400"/>
                </a:lnTo>
                <a:lnTo>
                  <a:pt x="1400" y="1400"/>
                </a:lnTo>
                <a:close/>
              </a:path>
              <a:path fill="darken" w="69717" h="21600">
                <a:moveTo>
                  <a:pt x="69717" y="0"/>
                </a:moveTo>
                <a:lnTo>
                  <a:pt x="69717" y="21600"/>
                </a:lnTo>
                <a:lnTo>
                  <a:pt x="68317" y="20200"/>
                </a:lnTo>
                <a:lnTo>
                  <a:pt x="68317" y="1400"/>
                </a:lnTo>
                <a:close/>
              </a:path>
              <a:path fill="darkenLess" w="69717" h="21600">
                <a:moveTo>
                  <a:pt x="697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17" y="20200"/>
                </a:lnTo>
                <a:close/>
              </a:path>
              <a:path fill="lighten" w="697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17" h="21600">
                <a:moveTo>
                  <a:pt x="27852" y="10800"/>
                </a:moveTo>
                <a:lnTo>
                  <a:pt x="41865" y="3794"/>
                </a:lnTo>
                <a:lnTo>
                  <a:pt x="41865" y="17806"/>
                </a:lnTo>
                <a:close/>
              </a:path>
            </a:pathLst>
          </a:custGeom>
          <a:solidFill>
            <a:srgbClr val="4f81b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353880" y="-237960"/>
            <a:ext cx="7656480" cy="1261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123640" y="1125000"/>
            <a:ext cx="6769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учебнику  выучить  п. 1.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ить на контрольные вопросы посл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готов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ссворд по теме «Антивирусные программ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ь вопросы для викторины по теме «К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п\Desktop\s6036.gif"/>
          <p:cNvPicPr/>
          <p:nvPr/>
        </p:nvPicPr>
        <p:blipFill>
          <a:blip r:embed="rId2"/>
          <a:stretch/>
        </p:blipFill>
        <p:spPr>
          <a:xfrm>
            <a:off x="0" y="765000"/>
            <a:ext cx="2124000" cy="21225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/>
          <p:cNvSpPr/>
          <p:nvPr/>
        </p:nvSpPr>
        <p:spPr>
          <a:xfrm>
            <a:off x="8001000" y="6504120"/>
            <a:ext cx="1143000" cy="353880"/>
          </a:xfrm>
          <a:custGeom>
            <a:avLst/>
            <a:gdLst>
              <a:gd name="textAreaLeft" fmla="*/ 22680 w 1143000"/>
              <a:gd name="textAreaRight" fmla="*/ 1120320 w 114300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69717" h="21600">
                <a:moveTo>
                  <a:pt x="0" y="0"/>
                </a:moveTo>
                <a:lnTo>
                  <a:pt x="69717" y="0"/>
                </a:lnTo>
                <a:lnTo>
                  <a:pt x="69717" y="21600"/>
                </a:lnTo>
                <a:lnTo>
                  <a:pt x="0" y="21600"/>
                </a:lnTo>
                <a:close/>
              </a:path>
              <a:path fill="lightenLess" w="69717" h="21600">
                <a:moveTo>
                  <a:pt x="0" y="0"/>
                </a:moveTo>
                <a:lnTo>
                  <a:pt x="69717" y="0"/>
                </a:lnTo>
                <a:lnTo>
                  <a:pt x="68317" y="1400"/>
                </a:lnTo>
                <a:lnTo>
                  <a:pt x="1400" y="1400"/>
                </a:lnTo>
                <a:close/>
              </a:path>
              <a:path fill="darken" w="69717" h="21600">
                <a:moveTo>
                  <a:pt x="69717" y="0"/>
                </a:moveTo>
                <a:lnTo>
                  <a:pt x="69717" y="21600"/>
                </a:lnTo>
                <a:lnTo>
                  <a:pt x="68317" y="20200"/>
                </a:lnTo>
                <a:lnTo>
                  <a:pt x="68317" y="1400"/>
                </a:lnTo>
                <a:close/>
              </a:path>
              <a:path fill="darkenLess" w="69717" h="21600">
                <a:moveTo>
                  <a:pt x="697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17" y="20200"/>
                </a:lnTo>
                <a:close/>
              </a:path>
              <a:path fill="lighten" w="697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17" h="21600">
                <a:moveTo>
                  <a:pt x="27852" y="10800"/>
                </a:moveTo>
                <a:lnTo>
                  <a:pt x="41865" y="3794"/>
                </a:lnTo>
                <a:lnTo>
                  <a:pt x="41865" y="17806"/>
                </a:lnTo>
                <a:close/>
              </a:path>
            </a:pathLst>
          </a:custGeom>
          <a:solidFill>
            <a:srgbClr val="4f81b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39:28Z</dcterms:created>
  <dc:creator>Comp</dc:creator>
  <dc:description/>
  <dc:language>en-US</dc:language>
  <cp:lastModifiedBy>п</cp:lastModifiedBy>
  <dcterms:modified xsi:type="dcterms:W3CDTF">2012-12-19T05:24:04Z</dcterms:modified>
  <cp:revision>66</cp:revision>
  <dc:subject/>
  <dc:title>Слайд 1</dc:title>
</cp:coreProperties>
</file>