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403-4C9A-4721-A260-EA275299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F2E-D137-48B4-B75C-1ED9EA90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DBE-2F43-40E6-9E4B-EC67C32E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610-BB79-40F8-AC0A-CA1B89D0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15A-F34C-4DF8-B1DE-135C819A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8AC-7062-4ABE-874F-8A5E5D6F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4E0-DA20-4599-BA71-6B81A835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372-D1FF-4517-A90C-FAFA79CF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474-D680-4437-A7AB-59941A0C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772-6A47-423E-9467-C5BBBD52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965-9786-48E1-8B6D-4BDCC57A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6CF-9B98-4BA0-B192-7EB7CA3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9C9-DFD3-4F9F-B4EE-7DC7FCC88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и науки Калужской обла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образовательное учрежде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образова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осенский радиотехнический техникум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я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ллектуальную игру по общепрофессиональным дисциплина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тудентов вторых кур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162160"/>
            <a:ext cx="9144000" cy="4695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цифр 1 и 2 можно составить следующие числа, соответствующ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м в алфавите: 1, 2, 11, 12, 21, 2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 е. буквам А, Б, Й, К, У, Ф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ственное осмысленное слово в данном случае: ФУФАЙ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шите множество, являющееся пересечением множества чет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ел и множества чисел, делящихся на 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14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— множество чисел, делящихся на 1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шите множество четырехугольников, являющихся одновремен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моугольниками и ромб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— множество квадрат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6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нреале 80% жителей знают французский язык и 70% — английский. Сколько процентов жителей знают оба языка, если каждый жител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ет хотя бы один из этих язык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7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14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условию 20% жителей Монреаля не знают французского языка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знают английский, а 30% не знают английского, но знают французский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ому 50% знают лишь один язык и 50% жителей знают оба язы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7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и математиков каждый седьмой — философ, а среди философ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десятый — математик. Кого больше — философов или математиков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8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014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им множество философов, являющихся математикам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х число равн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гда математиков 7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философов 1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Значит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ов больше, чем математи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8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лассе 40% мальчиков. Математический кружок посещают 4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иков, при этом 40% участников математического кружка составляю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очки. Какая часть мальчиков посещает математический кружок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9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014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Й 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МНОЖЕСТВА и ОТОБРАЖЕН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9144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— число учеников, тогда мальчик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, и столько же участников кружка. Мальчики составляют 3/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жковцев, т. е. их 6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5; так как 6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5: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6, то 60% мальчиков посещают кружок. При решении полезно нарисовать диаграмму Эйлера—Венн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9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задал на уроке замысловатую задачу. В результате количество мальчиков, решивших эту задачу, оказалось равным количеству девочек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е не решивших. Кого в классе больше — решивших задачу или девочек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0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учеников класса разбивается на 4 подмножества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 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льчики, решившие задачу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 — мальчики, не решившие ее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 — девочки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ившие задачу, 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 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очки, не решившие ее. Так ка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решивших равно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 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, а количество девочек равно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 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, т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поскольку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 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) эти количества рав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0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100 студентов колледжа 28 изучают английский язык, 42 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нцузский, 30 — немецкий, 8 — английский и немецкий, 10 — английски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французский, 5 — немецкий и французский, 3 — все три языка. Сколь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удентов не изучает ни одного язык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студентов изучает толь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нцузский язык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1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14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исуем диаграмму Эйлера—Венна в виде трех кругов, соответствующих изучающим каждый из языков, и начнем ее заполнять, начиная с конца списка в условиях задачи. Получим картину. Видно, что только французский язык изучают 30 человек, а ни одного языка — 2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1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тображением следующее соответствие для множества живущих людей? Каждому человеку ставится в соответствие его доч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01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, поскольку не у всех живущих людей есть доч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тображением следующее соответствие для множества живущих люд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ому человеку ставится в соответствие его ма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3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01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, поскольку у всех людей есть (или была) ма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3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астникам математической олимпиады было предложено пять задач. Является ли функцией соответствие, сопоставляющее каждому участнику номера решенных им задач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4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0145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88000" y="-360"/>
            <a:ext cx="2556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«1 раунд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демуазель Рембо любит домашних животных. Известно, что у нее не менее трех животных. Все ее животные, кроме двух — собаки; все кроме двух — кошки; все кроме двух — попугаи; все, кроме собак, кошек и попугаев — тараканы. Опишите множество животных у мадемуазель Ремб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014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, поскольку некоторым участникам может сопоставляться несколько номе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4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ва города назовем эквивалентными, если количество жителей одного отличается от количества жителей другого не более, чем на 5000 челов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это отношение отношением эквивалентност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5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отношение не транзитивно (для доказательства достаточно рассмотреть три города с числом жителей 5 000, 10 000 и 15 0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5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Й 2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ЛОГИ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9144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называется наук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учающая законы и формы мышл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14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ествовательное предлож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котором что-то утверждается ил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рицается назы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014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сказ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тант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торая обозначается «1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алгебре логики называетс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3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014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т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3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80000" y="-360"/>
            <a:ext cx="356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мадемуазель Рембо одна кошка, одна собака, один попугай и нет тарака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из следующих высказываний являются истинным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город Париж - столица Анг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3+5=2+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томатный сок вреде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4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6014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4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ъединение двух высказываний в од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помощью союза «и» назы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5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0145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5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у равно значение логического выражения (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&amp;(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6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014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6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ая из логических операций не является базовой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) конъюнкция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) дизъюнкц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) инверс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) эквивалент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7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0145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) эквивалент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7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афическое изображение логического выражения называетс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8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145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х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8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люстре 5 лампочек. Переключатель имеет 6 положений, при которых горит разное количество лампочек: от 0 до 5. Однажды несколько лампочек перегорело. Может ли человек, не знающий схемы работы переключателя, определить множество перегоревших лампочек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014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ъединение двух высказываний в од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помощью оборота «если...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...» назы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9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014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9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, содержащая все возможные значения логического выражения, назы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0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6014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исти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0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мволом F обозначено одно из указанных ниже логических выражений от трех аргументов: X, Y, 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н фрагмент таблицы истинности выражения 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Y Z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ое выражение соответствует 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X /\ ¬Y /\ ¬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¬X /\ ¬Y /\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¬X \/ ¬Y \/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X \/ ¬Y \/ ¬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1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60145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\/ ¬Y \/ ¬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1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кажите, какое логическое выражение равносильно выраже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\/ ¬( ¬B \/ ¬C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¬A \/ B \/ ¬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A \/ (B /\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A \/ B \/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A \/ ¬B \/ ¬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60145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\/ (B /\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вять школьников, остававшихся в классе на перемене, были вызваны 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ректору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ин из ни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бил окно в кабинете. На вопрос директора, к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то сделал, были получены следующие ответ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лодя: «Это сделал Саш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ня: «Володя лжет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гор: «Маша разбил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аша: «Аня говорит неправду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ма: «Разбила либо Маша, либо Нина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ша: «Это я разбила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ина: «Маша не разбивала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ля: «Ни Маша, ни Нина этого не делал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лег: «Нина не разбивала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то разбил окно, если известно, что из этих девяти высказываний истин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лько тр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3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6014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3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 определения множества перегоревших лампочек таков. Следует испробовать все шесть положений и отметить лампочки, которые не загорались ни при каких положениях. Они, и только они являются перегоревши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языке запросов поискового сервера для обозначения логической оп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ИЛИ» используется символ «|», а для логической оп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И» – символ «&amp;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таблице приведены запросы и количество найденных по ним стран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которого сегмента сети Интерн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прос Найдено стран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в тысяча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рейсер | Линко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рейсе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Линко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ое количество страниц (в тысячах) будет найдено по запрос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рейсер &amp; Линко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читается, что все запросы выполнялись практически одновременно, так ч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бор страниц, содержащих все искомые слова, не изменялся за 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полнения запро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4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0145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4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ое из приведенных имен удовлетворяет логическому услови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¬ (первая буква гласна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торая буква гласная) /\ последняя буква глас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618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РИ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18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КС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18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РТ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18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РИ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5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60145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Р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5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лько различных решений имеет уравн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 /\ ¬K /\ L /\ ¬M /\ (N \/ ¬N) = 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де J, K, L, M, N – логические переменны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ответе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 нужн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числять все различные наборы значений J, K, L, M и N, при которых выполнено данное равенство. В качестве ответа Вам нужно указать количество таких набо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6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6014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6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пишите логическую функцию, описывающую состояние логической сх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7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19280" y="2997360"/>
          <a:ext cx="5543640" cy="26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5543640" cy="26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60145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¬(¬A \/ A /\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7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Й 3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ЭЛЕМЕНТЫ ТЕОРИИ и ПРАКТИИ КОДИРОВАН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9144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а 1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 11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аписаны в двоичной системе счисления. Чему равна их сумма в этой системе? А в десятич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60145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комнате находятся 12 человек. Некоторые из них всегда говорят правду, а остальные всегда лгут. Каждый сказал по фразе. Первый сказал: «Здесь нет ни одного правдивого человека», второй: «Здесь не более одного правдивого человека», третий: «Здесь не более двух правдивых людей», и т. д., двенадцатый: «Здесь не более одиннадцати правдивых людей». Определите, кто из них принадлежит множеству правдивых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3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14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двоичной системе счисления имеем 1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1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01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что соответствует числу 13 + 27 =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1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передачи сигналов на флоте используются специальные сигнальные флаги, вывешиваемые в одну линию (последовательность важна). Какое количество различных сигналов может передать корабль при помощи четырех сигнальных флагов, если на корабле имеются флаги трех различных видов (флагов каждого вида неограниченное количество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60145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*3*3*3=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2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и науки Калужской обла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образов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осенский радиотехнический техникум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ставля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ллектуальную игру по общепрофессиональным дисциплина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студентов вторых кур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2162160"/>
            <a:ext cx="9144000" cy="4695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рудно понять, что если кто-то из присутствующих сказал правду, то и следующие за ним также сказали правду, а если кто-то из присутствующих солгал, то и все, говорившие перед ним, также солгали. Заметим также, что первый заведомо солгал, а последний сказал правду. Таким образом, послед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 сказали правду, а перв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2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гали. Первой прозвучавшей правдой было «Здесь не боле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ивых людей», это сказал человек, говоривший 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12-k+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м по порядку, а судя по тому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сказал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говори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k+1)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м. Поэто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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k)+1=k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ку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=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так, первые шесть человек — лжецы, последние шесть составляют в этой комнате множество правдивых люд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222122111121 получается, если в некотором слове замени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ы на их номера в русском алфавите. Какое это сло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0"/>
            <a:ext cx="3132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раун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14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9:50:21Z</dcterms:created>
  <dc:creator>www.PHILka.RU</dc:creator>
  <dc:description/>
  <dc:language>en-US</dc:language>
  <cp:lastModifiedBy>www.PHILka.RU</cp:lastModifiedBy>
  <dcterms:modified xsi:type="dcterms:W3CDTF">2012-03-04T21:54:30Z</dcterms:modified>
  <cp:revision>29</cp:revision>
  <dc:subject/>
  <dc:title>Слайд 1</dc:title>
</cp:coreProperties>
</file>