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3FC2-CE7F-465D-84C0-48A5212B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82A3-F3E6-490C-ADB1-6A0CDE7E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1A9C-4569-49A1-A36C-C110D651B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6761-D4D2-4B02-AE92-3000078A3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350DE-D6E6-4470-84FD-9CEC59184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66292-C685-4AE8-A3E1-E90D1523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12F09-684B-4BD0-A8A0-7FFD9FC4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1B32B-1D22-48ED-96A0-48BFD27A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C9905-AE7E-4710-B137-027AF2F9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36505-3C58-4E2D-9E5F-F847217D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EA71A-1ABB-47D7-9C56-C73EC3E4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9C72-6EE5-4B31-8013-DADB8C3B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2852E-94C8-4576-9E9D-801B5D7F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6105C-0FF7-434C-8F12-468BEA25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7B37F-A678-4D9D-BE6C-2476454C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41DCB-4D65-41E5-898E-B6CDD64AF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17B08-66D8-438B-B7E3-25DEAFAF7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FE012-B272-4567-86F7-DC653D76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2545F-0863-4DBD-BBEA-67A003D8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870C7-8B93-4DAC-B2EE-7D7F510F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2B004-40B9-4687-AEE4-E6004060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0C1BB-E3DA-493E-A2AA-3CDA6499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A75A-7090-43C9-AA3E-73BDFF65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44C81-20E2-4CDA-8428-03B92B8A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C982B-E3C9-49DA-B14B-C79E31D0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DC2EF-A905-4D8E-A198-3A87676C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6DB2E-D42A-44C0-A5BF-4436D6C3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1649B-F7A4-4A2B-803B-E37CC44B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D7F2D-B807-4E4E-B002-F2B0504B8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5BE2C-EAE7-4FBF-93D0-7E527481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FEAE00-717B-42F9-9AA0-B83C7F36F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F0056F-900B-4E78-AA4A-DFE5773E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E179CB-B2AF-420A-9B32-6A16563D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993F-9AA3-46E3-9821-72A09BA9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6945BC-5275-4838-9618-BB9C351A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7AE0C7-2F42-4C34-96DA-2BD97072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2E592A-AF87-4234-B866-7E1C8F76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25853B-0C27-409B-9B64-A923DE4E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23ADA6-9C5A-430B-B8D6-F83D1F9F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E93084-4E68-4810-8B42-6AFF1B6F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66DF94-8371-4F47-9D35-15EA9DD7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F7AC43-AD8F-467A-AAAA-0FD4AD27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4E8668-9063-4772-9E2C-28658730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9BF4-8440-4A1B-B7E7-39E394C5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9A0E-C3EF-4133-9967-07116FD6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2308-6A24-4EC3-B897-46DD1658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3F33-F31E-4C5D-B5C3-CBA6DBC3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9E5B-A9E0-46EB-908E-B54E242E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CE8D-3432-4BB7-978C-5AF537FEB7DD}" type="slidenum">
              <a:rPr b="0" lang="ru-RU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ac66bb"/>
          </a:solidFill>
          <a:ln w="38160">
            <a:solidFill>
              <a:srgbClr val="ac66bb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8E39-E42D-45E7-8A36-A3E04CEC0BFB}" type="slidenum">
              <a:rPr b="0" lang="ru-RU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8F48-A932-4468-BA8E-BAE826F935AD}" type="slidenum">
              <a:rPr b="0" lang="ru-RU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06A8-5B9D-4E17-A461-22DF4199F0BE}" type="slidenum">
              <a:rPr b="0" lang="ru-RU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00720" y="4723920"/>
            <a:ext cx="4456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4e7ed"/>
                </a:solidFill>
                <a:latin typeface="Calibri"/>
              </a:rPr>
              <a:t>Выполнил: учитель 1 категори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4e7ed"/>
                </a:solidFill>
                <a:latin typeface="Calibri"/>
              </a:rPr>
              <a:t>Наговицына Татьяна Владимировн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822240" y="762120"/>
            <a:ext cx="7785360" cy="1481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250920" y="2492280"/>
            <a:ext cx="4432320" cy="403236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6"/>
          <p:cNvSpPr/>
          <p:nvPr/>
        </p:nvSpPr>
        <p:spPr>
          <a:xfrm>
            <a:off x="2564640" y="260280"/>
            <a:ext cx="44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МБОУ «Люкская средняя школ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68360" y="2565000"/>
            <a:ext cx="8229600" cy="38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) ордовикски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) мелов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) кембрийски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4) неогенов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Заголовок 1" descr=""/>
          <p:cNvPicPr/>
          <p:nvPr/>
        </p:nvPicPr>
        <p:blipFill>
          <a:blip r:embed="rId1"/>
          <a:stretch/>
        </p:blipFill>
        <p:spPr>
          <a:xfrm>
            <a:off x="195120" y="201600"/>
            <a:ext cx="8436240" cy="193212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3"/>
          <p:cNvSpPr/>
          <p:nvPr/>
        </p:nvSpPr>
        <p:spPr>
          <a:xfrm>
            <a:off x="5292720" y="4005360"/>
            <a:ext cx="914400" cy="914400"/>
          </a:xfrm>
          <a:prstGeom prst="rect">
            <a:avLst/>
          </a:prstGeom>
          <a:solidFill>
            <a:srgbClr val="b83d68"/>
          </a:solidFill>
          <a:ln w="381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50920" y="3357360"/>
            <a:ext cx="822960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) ордовикски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) мелов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) кембрийски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) неогенов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195120" y="414360"/>
            <a:ext cx="8710920" cy="251784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3"/>
          <p:cNvSpPr/>
          <p:nvPr/>
        </p:nvSpPr>
        <p:spPr>
          <a:xfrm>
            <a:off x="5651640" y="4149720"/>
            <a:ext cx="2665440" cy="914400"/>
          </a:xfrm>
          <a:prstGeom prst="rect">
            <a:avLst/>
          </a:prstGeom>
          <a:solidFill>
            <a:srgbClr val="b83d68"/>
          </a:solidFill>
          <a:ln w="381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В,а,б,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000"/>
                            </p:stCondLst>
                            <p:childTnLst>
                              <p:par>
                                <p:cTn id="5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" dur="2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826920" y="0"/>
            <a:ext cx="7274160" cy="66168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400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ждый-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кембрийский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личный-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ордовикский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удент-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илурийский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Д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лжен-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девонский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шать-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каменноугольный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ельмени-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ермский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Т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лько-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триасовый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Ю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ик-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юрский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М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жет-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меловой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дождать-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алеогеновый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е много-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еогеновый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3" name="Заголовок 1" descr=""/>
          <p:cNvPicPr/>
          <p:nvPr/>
        </p:nvPicPr>
        <p:blipFill>
          <a:blip r:embed="rId1"/>
          <a:stretch/>
        </p:blipFill>
        <p:spPr>
          <a:xfrm>
            <a:off x="176040" y="-115920"/>
            <a:ext cx="821232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0T05:33:37Z</dcterms:created>
  <dc:creator>123</dc:creator>
  <dc:description/>
  <dc:language>en-US</dc:language>
  <cp:lastModifiedBy>123</cp:lastModifiedBy>
  <dcterms:modified xsi:type="dcterms:W3CDTF">2014-12-25T19:00:37Z</dcterms:modified>
  <cp:revision>4</cp:revision>
  <dc:subject/>
  <dc:title>Геологическое летоисчисление. История развития Земли</dc:title>
</cp:coreProperties>
</file>