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4546-9263-4F06-A3CE-BF624517A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D7EA-14F8-4947-99A6-3E52DAC28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1B9A-F30F-4018-A7BE-F5C398434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6C48-25BB-4BBB-88D9-33CBCEA5F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E890-4F1B-4169-91EA-4BCA02217C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0175-825F-46FD-B20E-86133294F8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6023-66D2-404F-9578-2F684737AA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6A10-3A01-4D87-8901-28C73E38C5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0816-ABD5-49C4-A49A-F013362BA2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D6FF-522B-41DC-873E-0EF3F8D233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F7F7-468C-4989-B61B-841976665E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4FBD-9C9C-4232-808B-C36F4E2F4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60CA-30EF-4851-BB87-081B68B89D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C255C-8340-45B1-9295-F50FB521D8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07FC2-C888-4542-B834-23F776CD73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96C9-6EDB-4A3A-ADB2-0FE762B121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AB38-543D-43D7-BE1B-9726B78874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F348-0D7F-429E-8366-EF0BFE2F7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F34F-27A8-447B-8715-879BEB4B2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3BD4-2B5E-496D-B318-80BDD8D6F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6E4D-6A76-4FB4-BD93-0DACD3C90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A83D-372A-465B-A9C2-5D8D6B3D4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85C2-4768-46B0-B3A2-9909A8494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D9C2-5D66-430B-A3BE-873CE4664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D8DA28B-6396-44BA-B3A0-78A4DB3E0269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88B301D-2B5F-43E4-B33B-4E96F4405BE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ана 40 Енисе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773360"/>
            <a:ext cx="43927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933720"/>
            <a:ext cx="36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2906640"/>
            <a:ext cx="38876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76360" y="2579400"/>
            <a:ext cx="779940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трана 40 Енисее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67000" y="25718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60436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5229360"/>
            <a:ext cx="91440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и Тувы имеют большое хозяйственное значение: снабжают водой население и промышленные предприятия, используются для орошения и обводнения сельскохозяйственных угодий, служат путями сообщения и лесосплавом, источниками электроэнерг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61920" y="5657760"/>
            <a:ext cx="9144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сей-это великая транспортная артерия, по которой неис­сякаемо в неисчислимом количестве плывут с юга на север грузы и в первую очередь ле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170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630760"/>
            <a:ext cx="9144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громного международного порта Игарка ухолят суда, груженные сосной, лиственницей, елью, кедр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земного шара. Енисей-батюшка служит всему человеч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3272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45964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30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5630760"/>
            <a:ext cx="9144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воден, могуч, властен Каа-Хем-не река, а будто сам царь всех рек и покоритель горных кряжей. Да, Царь-р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 же сильнее... его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373720"/>
            <a:ext cx="91440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бурные, пенные речные пороги, меж крутых берегов с мая: и до октября водят белоснежные теплоходы опытные капитаны-речники. И все больше с каждой навигацией, с каждым годом осваиваются широкие просторы и богатые недра Тувы.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630760"/>
            <a:ext cx="9144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огащения фауны Тувы была проведена аккли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ы: пеляди, белого амура, байкальского омуля, зеркального кар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95672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165720"/>
            <a:ext cx="91440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45964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2720" y="216000"/>
            <a:ext cx="8064720" cy="4965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157720"/>
            <a:ext cx="910908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В своей жизни я не видел великолепнее Енисея. Пускай Волга нарядная, скромная, грустная красавица, зато Енисей могучий, неистовый богатырь который не знает, куда девать свои силы и молод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5229360"/>
            <a:ext cx="91440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-тувински Енисей. Сколько же их здесь, этих Енисеев? Двадцать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дцать? А может быть, все сорок? Трудно сказать: уж очень много в Саянах Тувы рек и речек, в названии которых присутствует слово "хем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229360"/>
            <a:ext cx="914400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2472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5213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229360"/>
            <a:ext cx="91440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й – Хем имеет много крупных притоков, особенно прав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- Хем, Тоора – Хем, Хам – Сырга, Сыстыг – Хем, Севи, Хут, Ожу. Левые притоки: Серлиг – Хем, О – Хем, Харал, Селескелиг, Улуг – О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53272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30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5630760"/>
            <a:ext cx="9144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ык-Хем, Кызыл-Хем, Тора-Хем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-Хем, Каа-Хвм,Улуг-Х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ваясь в единый мощный поток, они образуют величайшую реку Сибири- Улуг Хем (Енисе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630760"/>
            <a:ext cx="9144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ожет петь, веселиться, печали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ить. В лютую зимнюю стужу он предается не сну, а великим думам. Когда же устанет,-потягивается суставами, отворяя на время приток-ве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170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0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5630760"/>
            <a:ext cx="9144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, злобен и прекрасен в своей ярости старик Каа-Хем, стиснутый справа величайшими нагромождениями хребта академика Обручева, а слева -отрогами могучей каменной гряды Сангил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157720"/>
            <a:ext cx="91440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СЕЙ! Он и в СИБИРИ тот 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корный, яростный, как зде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а каменных, порог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джи он ревет и скачет, в пене в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157720"/>
            <a:ext cx="91440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ных грядах, скалах исполи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сей раздвинул бере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го назвали по-тувин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г- Хем- Великая р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60436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