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3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gif" ContentType="image/gif"/>
  <Override PartName="/ppt/media/image2.gif" ContentType="image/gif"/>
  <Override PartName="/ppt/media/image5.png" ContentType="image/png"/>
  <Override PartName="/ppt/media/image17.jpeg" ContentType="image/jpeg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D9CC-F80F-4874-BC1E-0FC74B01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CED9-4D8C-4FAD-B9EA-696457E6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8EEF-B8FC-49D7-A0A3-379D3419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7294-7B8D-4984-BE9C-30F7D7D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CFA5-2FD8-44C3-A4F8-D52615AE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12F-CF02-4AF2-86F4-4DE023CD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194-C2AC-4AF5-8E48-F908771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9FF-0BA8-42C1-B4C0-BF80FE83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C8BA-5236-45C0-8C5B-C121BF26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182-9E11-4E9C-A503-D377F47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FC05-6654-4A0D-A0A5-524BDC5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E984-B83C-45C0-A9BB-21CD7937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463-B3CF-48C8-B5EA-69F05C4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75D4-8BAB-42C8-B6B6-2E1B5E1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4EA-B67F-494E-8CC1-306697C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48C7-A9B5-40B1-81FF-CD4671FB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50E-1FCC-43BE-AF55-F5AC13BA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B111-0A1A-4F45-B3D2-25535D00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3536-B8FB-441D-B380-C6C9D9D8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2C81-C9D0-43B9-8B6B-062AA26D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5368-C012-4DB5-906E-CD451121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7102-1FA7-4DF6-AE36-888B0CB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CBC3-52D1-4FAB-BDE8-CF93DE5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1CDA-A017-421C-87A4-045DA5D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C26-567D-4E08-8BBB-A7CD00D703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699-8930-44C5-91CA-03F36EFACB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26560" y="1700280"/>
            <a:ext cx="831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ЭКО - ОКО Белгородч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хнова С. И., учитель географии МОУ-лицей № 32 г. Белго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манова М. В., учитель географии МОУ «ООШ № 34 г. Белгород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янцева Т. И., учитель географии МОУ «СОШ № 41 г. Бел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абухова М. А., учитель географии МОУ «СОШ №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Д. Б. Мурачева г. Белгород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globe2"/>
          <p:cNvPicPr/>
          <p:nvPr/>
        </p:nvPicPr>
        <p:blipFill>
          <a:blip r:embed="rId1"/>
          <a:stretch/>
        </p:blipFill>
        <p:spPr>
          <a:xfrm>
            <a:off x="250920" y="189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руппа био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2360" y="112536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: Самое распространенное дерево в Белгородской области – это дуб черешчатый. Из всех деревьев на его долю приходится 79,4%. В Шебекинском, Корочанском, Новооскольском районах растут 400 – 500-летние ду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3715920"/>
            <a:ext cx="4402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зональные сообщества отличаются от интразональны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растения и животные обитают в этих сообществ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растения и животные занесены в Красную книг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мероприятия необходимо проводить ученикам школы для охраны естественных природных комплекс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DSC06461"/>
          <p:cNvPicPr/>
          <p:nvPr/>
        </p:nvPicPr>
        <p:blipFill>
          <a:blip r:embed="rId1"/>
          <a:stretch/>
        </p:blipFill>
        <p:spPr>
          <a:xfrm>
            <a:off x="611280" y="1052640"/>
            <a:ext cx="37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2"/>
          <a:stretch/>
        </p:blipFill>
        <p:spPr>
          <a:xfrm>
            <a:off x="5143680" y="364320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руппа эко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341000"/>
            <a:ext cx="403848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Наука экология своими корнями уходит в далекое прошлое. Еще Аристотель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в. до н. э.)обратил внимание на приуроченность организмов к местообитан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4000320"/>
            <a:ext cx="403848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так сложно бороться с загрязнением атмосфер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ая из рек наиболее загрязненная в области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 уровень экологической культуры населения нашего город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\\Ipk-s03\students\Карпухина\Intel_январь_географы\Группа_5\Рис1проект.jpg"/>
          <p:cNvPicPr/>
          <p:nvPr/>
        </p:nvPicPr>
        <p:blipFill>
          <a:blip r:embed="rId1"/>
          <a:stretch/>
        </p:blipFill>
        <p:spPr>
          <a:xfrm>
            <a:off x="571680" y="342900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5000760" y="1214280"/>
            <a:ext cx="3714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руппа валео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Шум является причиной нервных заболеваний, понижения слуха, способствует развитию сердечно-сосудистых заболеваний. По мнению ученых, шум сокращает продолжительность жизни человека в больших городах на 8-12 лет.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Какой вклад вносит экологический фактор в состояние здоровья населен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Какие параметры среды наиболее важны с точки зрения сохранения здоровья чело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Почему смог может привести к гибели люде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Как влияют на здоровье населения «озоновые дыры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j0240719"/>
          <p:cNvPicPr/>
          <p:nvPr/>
        </p:nvPicPr>
        <p:blipFill>
          <a:blip r:embed="rId1"/>
          <a:stretch/>
        </p:blipFill>
        <p:spPr>
          <a:xfrm>
            <a:off x="7020000" y="4365720"/>
            <a:ext cx="140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ramming"/>
          <p:cNvPicPr/>
          <p:nvPr/>
        </p:nvPicPr>
        <p:blipFill>
          <a:blip r:embed="rId1"/>
          <a:stretch/>
        </p:blipFill>
        <p:spPr>
          <a:xfrm>
            <a:off x="6877080" y="4554360"/>
            <a:ext cx="2076480" cy="2303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Как мы будем рабо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756144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проекта – 6 ур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урок – формирование групп, планирование работы каждой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3-4 урок –  консультация, самостоятельная исследовательская работа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6 урок - конференция  «Можно ли будущее творить сегодня?» (представление результатов работы груп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ы представления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Diagram 6"/>
          <p:cNvGrpSpPr/>
          <p:nvPr/>
        </p:nvGrpSpPr>
        <p:grpSpPr>
          <a:xfrm>
            <a:off x="3012840" y="2336760"/>
            <a:ext cx="3262320" cy="2946240"/>
            <a:chOff x="3012840" y="2336760"/>
            <a:chExt cx="3262320" cy="2946240"/>
          </a:xfrm>
        </p:grpSpPr>
        <p:sp>
          <p:nvSpPr>
            <p:cNvPr id="169" name="_s2052"/>
            <p:cNvSpPr/>
            <p:nvPr/>
          </p:nvSpPr>
          <p:spPr>
            <a:xfrm flipH="1">
              <a:off x="3857400" y="4375080"/>
              <a:ext cx="395280" cy="228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53"/>
            <p:cNvSpPr/>
            <p:nvPr/>
          </p:nvSpPr>
          <p:spPr>
            <a:xfrm>
              <a:off x="3012840" y="4376520"/>
              <a:ext cx="906480" cy="906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ук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54"/>
            <p:cNvSpPr/>
            <p:nvPr/>
          </p:nvSpPr>
          <p:spPr>
            <a:xfrm>
              <a:off x="5033880" y="4375080"/>
              <a:ext cx="395280" cy="227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5"/>
            <p:cNvSpPr/>
            <p:nvPr/>
          </p:nvSpPr>
          <p:spPr>
            <a:xfrm>
              <a:off x="5368680" y="4376520"/>
              <a:ext cx="906480" cy="906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KI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 стат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6"/>
            <p:cNvSpPr/>
            <p:nvPr/>
          </p:nvSpPr>
          <p:spPr>
            <a:xfrm flipV="1">
              <a:off x="4643280" y="3241440"/>
              <a:ext cx="0" cy="455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57"/>
            <p:cNvSpPr/>
            <p:nvPr/>
          </p:nvSpPr>
          <p:spPr>
            <a:xfrm>
              <a:off x="4190760" y="2336760"/>
              <a:ext cx="906480" cy="906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8"/>
            <p:cNvSpPr/>
            <p:nvPr/>
          </p:nvSpPr>
          <p:spPr>
            <a:xfrm>
              <a:off x="4190760" y="3697200"/>
              <a:ext cx="906480" cy="906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зульт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28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я Белгородской области: Учеб. пособие.-М.: Изд-во МГУ, 2008.-136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я Белгородской области: Учеб. пособие для учащихся 8-11-х классов/ А. Н. Петин, Л. Л. Новых, В. И. Петина, Е. Г. Глазунов.-М.: Изд-во МГУ, 2002.-288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zs31.ru/zelstol/zones/projeckt.php?SECTION_ID=138&amp;PR_ID=3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zvestia.vbelgorode.ru/?q=node/7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l.ru/projects/photobank/page14/cnt_page7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enon.ru/GetAnswer.aspx?qid=7f70bbc2-b8c4-4ff1-ac07-8a12bd652be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nstroybel.ru/novostnaya_lenta/startoval_proekt_zelyonaya_stolic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R00262A.gif (1715 bytes)"/>
          <p:cNvPicPr/>
          <p:nvPr/>
        </p:nvPicPr>
        <p:blipFill>
          <a:blip r:embed="rId1"/>
          <a:stretch/>
        </p:blipFill>
        <p:spPr>
          <a:xfrm>
            <a:off x="4140360" y="4365720"/>
            <a:ext cx="1616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6"/>
          <p:cNvSpPr txBox="1"/>
          <p:nvPr/>
        </p:nvSpPr>
        <p:spPr>
          <a:xfrm>
            <a:off x="900000" y="1052640"/>
            <a:ext cx="74930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Желаем у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проведени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180" name="Picture 15" descr="MC900292124[1]"/>
          <p:cNvPicPr/>
          <p:nvPr/>
        </p:nvPicPr>
        <p:blipFill>
          <a:blip r:embed="rId1"/>
          <a:stretch/>
        </p:blipFill>
        <p:spPr>
          <a:xfrm>
            <a:off x="3635280" y="4508640"/>
            <a:ext cx="1812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Можно ли будущее творить сегодн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aa5.gif (28809 bytes)"/>
          <p:cNvPicPr/>
          <p:nvPr/>
        </p:nvPicPr>
        <p:blipFill>
          <a:blip r:embed="rId1"/>
          <a:stretch/>
        </p:blipFill>
        <p:spPr>
          <a:xfrm>
            <a:off x="3276720" y="5013360"/>
            <a:ext cx="31273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ackhead"/>
          <p:cNvPicPr/>
          <p:nvPr/>
        </p:nvPicPr>
        <p:blipFill>
          <a:blip r:embed="rId1"/>
          <a:stretch/>
        </p:blipFill>
        <p:spPr>
          <a:xfrm>
            <a:off x="0" y="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34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Человек должен получать заряд положительных эмоций на своей земле, а не наблюдать ее 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Е. С. Сав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ак вы думает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68421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ет ли экология души на экологию окружающей сре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Белгородская область на снимке из космоса выглядит как горная стра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т ли субтропики в Белгородской област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в области имеется густая сеть рек, а край наш является маловод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нется ли чернозем «царем почв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т ли леса и сенокосы в Белгородской области через 50 л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ет ли Белгородчина зеленой столиц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ут ли жители Белгородчины долгожител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Z:\Карпухина\Химики_апрель_2010\Скрыпникова Галич\ресурсы\железо\сайт\10.jpg"/>
          <p:cNvPicPr/>
          <p:nvPr/>
        </p:nvPicPr>
        <p:blipFill>
          <a:blip r:embed="rId1"/>
          <a:stretch/>
        </p:blipFill>
        <p:spPr>
          <a:xfrm>
            <a:off x="6804000" y="3933720"/>
            <a:ext cx="207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Творческ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Organization Chart 62"/>
          <p:cNvGrpSpPr/>
          <p:nvPr/>
        </p:nvGrpSpPr>
        <p:grpSpPr>
          <a:xfrm>
            <a:off x="395280" y="1844640"/>
            <a:ext cx="8424360" cy="4155120"/>
            <a:chOff x="395280" y="1844640"/>
            <a:chExt cx="8424360" cy="415512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3933720" y="4632120"/>
              <a:ext cx="1340280" cy="7920"/>
            </a:xfrm>
            <a:prstGeom prst="bentConnector3">
              <a:avLst>
                <a:gd name="adj1" fmla="val 8516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V="1" rot="16200000">
              <a:off x="6195240" y="2370960"/>
              <a:ext cx="259200" cy="3449880"/>
            </a:xfrm>
            <a:prstGeom prst="bentConnector3">
              <a:avLst>
                <a:gd name="adj1" fmla="val 44089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123" name="_s1030"/>
            <p:cNvCxnSpPr>
              <a:stCxn id="124" idx="0"/>
              <a:endCxn id="120" idx="2"/>
            </p:cNvCxnSpPr>
            <p:nvPr/>
          </p:nvCxnSpPr>
          <p:spPr>
            <a:xfrm flipH="1" flipV="1" rot="5400000">
              <a:off x="4452120" y="4100040"/>
              <a:ext cx="282240" cy="14760"/>
            </a:xfrm>
            <a:prstGeom prst="bentConnector3">
              <a:avLst>
                <a:gd name="adj1" fmla="val 40357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125" name="_s1031"/>
            <p:cNvCxnSpPr>
              <a:stCxn id="126" idx="0"/>
              <a:endCxn id="120" idx="2"/>
            </p:cNvCxnSpPr>
            <p:nvPr/>
          </p:nvCxnSpPr>
          <p:spPr>
            <a:xfrm flipV="1" rot="16200000">
              <a:off x="5344560" y="3221640"/>
              <a:ext cx="259200" cy="1748520"/>
            </a:xfrm>
            <a:prstGeom prst="bentConnector3">
              <a:avLst>
                <a:gd name="adj1" fmla="val 44089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127" name="_s1032"/>
            <p:cNvCxnSpPr>
              <a:stCxn id="128" idx="0"/>
              <a:endCxn id="120" idx="2"/>
            </p:cNvCxnSpPr>
            <p:nvPr/>
          </p:nvCxnSpPr>
          <p:spPr>
            <a:xfrm flipH="1" flipV="1" rot="5400000">
              <a:off x="3605400" y="3230640"/>
              <a:ext cx="259200" cy="1730880"/>
            </a:xfrm>
            <a:prstGeom prst="bentConnector3">
              <a:avLst>
                <a:gd name="adj1" fmla="val 44089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129" name="_s1033"/>
            <p:cNvCxnSpPr/>
            <p:nvPr/>
          </p:nvCxnSpPr>
          <p:spPr>
            <a:xfrm flipH="1" flipV="1" rot="5400000">
              <a:off x="2722680" y="2350440"/>
              <a:ext cx="257400" cy="3471120"/>
            </a:xfrm>
            <a:prstGeom prst="bentConnector3">
              <a:avLst>
                <a:gd name="adj1" fmla="val 45518"/>
              </a:avLst>
            </a:prstGeom>
            <a:ln w="38160">
              <a:solidFill>
                <a:srgbClr val="9999ff"/>
              </a:solidFill>
              <a:miter/>
            </a:ln>
          </p:spPr>
        </p:cxnSp>
        <p:sp>
          <p:nvSpPr>
            <p:cNvPr id="120" name="_s1034"/>
            <p:cNvSpPr/>
            <p:nvPr/>
          </p:nvSpPr>
          <p:spPr>
            <a:xfrm>
              <a:off x="3995640" y="3031560"/>
              <a:ext cx="1209960" cy="9352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5"/>
            <p:cNvSpPr/>
            <p:nvPr/>
          </p:nvSpPr>
          <p:spPr>
            <a:xfrm>
              <a:off x="395280" y="4225320"/>
              <a:ext cx="1541520" cy="84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еоморф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2063880" y="4225320"/>
              <a:ext cx="1611360" cy="845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имат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7"/>
            <p:cNvSpPr/>
            <p:nvPr/>
          </p:nvSpPr>
          <p:spPr>
            <a:xfrm>
              <a:off x="5541480" y="4225320"/>
              <a:ext cx="1611360" cy="845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чвов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>
              <a:off x="3779280" y="4248720"/>
              <a:ext cx="1613160" cy="8208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9"/>
            <p:cNvSpPr/>
            <p:nvPr/>
          </p:nvSpPr>
          <p:spPr>
            <a:xfrm>
              <a:off x="7279920" y="4225320"/>
              <a:ext cx="1539720" cy="8456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и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0"/>
            <p:cNvSpPr/>
            <p:nvPr/>
          </p:nvSpPr>
          <p:spPr>
            <a:xfrm>
              <a:off x="3708000" y="5306760"/>
              <a:ext cx="1800720" cy="6930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ео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80" descr=""/>
            <p:cNvPicPr/>
            <p:nvPr/>
          </p:nvPicPr>
          <p:blipFill>
            <a:blip r:embed="rId8"/>
            <a:stretch/>
          </p:blipFill>
          <p:spPr>
            <a:xfrm>
              <a:off x="540000" y="1844640"/>
              <a:ext cx="1563840" cy="1348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руппа геоморфо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197000"/>
            <a:ext cx="43164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 Лебединское железорудное месторождение благодаря огромным запасам и качеству руды занесено в Книгу рекордов Гиннеса. Лебединский карьер представляет собой огромную чашу на поверхности Земли, которая видна с орбитальных космических ста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2924280"/>
            <a:ext cx="4824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ли связь современного рельефа с геологическим строением обл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экзогенные процессы рельефообразования наиболее широко распространены в области и какими формами рельефа они представле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ких административных районах области созданы наиболее крупные антропогенные формы релье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чем связана высокая эродированность территории Белгородской обл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535788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500040" y="1071720"/>
            <a:ext cx="3319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Группа климатолог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5700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 Территория Белгородской области удалена от южных морей на 600 км, Балтийского – 1000 км и от Атлантического и Северного Ледовитого океанов более 200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4005360"/>
            <a:ext cx="42447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географические факторы влияют на формирование климата Белгородской обла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летом скорость ветра слабее, чем в другие сезоны го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м объясняется потепление климата за последние 30 л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климатические показатели относятся к основным агроклиматическим фактора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3619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руппа гидро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1000"/>
            <a:ext cx="40384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: В прошлом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VII- XVIII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в.) наиболее крупные реки Белгородской области были судоход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3716280"/>
            <a:ext cx="4316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Каковы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е источники питания и гидрологического режима рек Белгородской обл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очему большинство рек области берут начало на ее территор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аковы основные причины обмеления рек Белгородской обл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Какие неблагоприятные последствия могут возникнуть при создании водохранилищ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5143680" y="1214280"/>
            <a:ext cx="3284280" cy="246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2"/>
          <a:stretch/>
        </p:blipFill>
        <p:spPr>
          <a:xfrm>
            <a:off x="428760" y="3571920"/>
            <a:ext cx="37735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руппа почвове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341000"/>
            <a:ext cx="40384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то интересно: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 парижской выставке в 1901 г. Российскими почвоведами демонстрировался монолит чернозема, отобранный в Воронежской губернии (в пределах восточной части Белгородской области). Он представлял собой куб со стороной 11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00720" y="2060640"/>
            <a:ext cx="4186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зональные почвы распространены в лесостепной зоне? Каким растительным формациям они соответству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такое земельные ресурсы? Ккакова современная структура земельного фонда Белгородской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такое деградация почв и каковы ее причи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0" descr="i?id=127645622-05"/>
          <p:cNvPicPr/>
          <p:nvPr/>
        </p:nvPicPr>
        <p:blipFill>
          <a:blip r:embed="rId1"/>
          <a:stretch/>
        </p:blipFill>
        <p:spPr>
          <a:xfrm>
            <a:off x="1000080" y="4000680"/>
            <a:ext cx="2813040" cy="242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2" descr="i?id=166503961-14"/>
          <p:cNvPicPr/>
          <p:nvPr/>
        </p:nvPicPr>
        <p:blipFill>
          <a:blip r:embed="rId2"/>
          <a:stretch/>
        </p:blipFill>
        <p:spPr>
          <a:xfrm>
            <a:off x="7164360" y="69228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puhina</cp:lastModifiedBy>
  <dcterms:modified xsi:type="dcterms:W3CDTF">2011-02-16T11:17:49Z</dcterms:modified>
  <cp:revision>9</cp:revision>
  <dc:subject/>
  <dc:title>PowerPoint Presentation</dc:title>
</cp:coreProperties>
</file>