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2054-59A0-4A1C-B5F2-572FD5529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CBED-36C1-455E-AB07-AABDC1A80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A9E2-7082-4EDC-A801-FEEF45326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D87E-9AA0-49C0-90A9-23ED4ED5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9C97-59B5-4289-BDF0-8469E5DD9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45FF-2364-479E-8AAC-9165A752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89357-A7D5-464E-9D52-486FBA55F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02AE-BE3A-49E1-B273-16EFDF66C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8564A-E07B-4050-997B-47EC2026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49C26-14C6-4A95-8D0B-504D6D303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F75A7-68AD-47BA-8EF0-14F8562D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E0A2-5F59-4BD4-8E9B-56B12393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E46CC-1220-4158-92AB-BFEEED33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9240-713A-446A-81FD-0452437D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180CC-E61E-4EAE-95B1-0B58DAF9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85A97-1379-4C21-BA64-63CBBDE9A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2E6D9-A4D6-48D9-87D5-768A77E69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E6B7-6578-4F4F-80F2-95B6A09B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8F91-003C-4E35-900B-6C38FE87A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EBE7-C33A-4434-8854-83FC5C424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A3C8-E3B2-4548-8067-68C8B7D13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74D4-6435-45FF-A6CD-325CB35B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3351-0F14-4DCB-B233-C5D8FF5C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137E-D396-4C92-8CCB-D8111746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CF2C-CF53-4FC2-B355-945B5D0C2E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13338-0216-4C88-90C0-71D113E2B5D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336600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3.xml"/><Relationship Id="rId3" Type="http://schemas.openxmlformats.org/officeDocument/2006/relationships/slide" Target="slide14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0.xml"/><Relationship Id="rId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km.ru/" TargetMode="External"/><Relationship Id="rId2" Type="http://schemas.openxmlformats.org/officeDocument/2006/relationships/hyperlink" Target="http://www.km.ru/" TargetMode="External"/><Relationship Id="rId3" Type="http://schemas.openxmlformats.org/officeDocument/2006/relationships/hyperlink" Target="http://www.km.ru/" TargetMode="External"/><Relationship Id="rId4" Type="http://schemas.openxmlformats.org/officeDocument/2006/relationships/hyperlink" Target="http://www.km.ru/" TargetMode="External"/><Relationship Id="rId5" Type="http://schemas.openxmlformats.org/officeDocument/2006/relationships/hyperlink" Target="http://www.km.ru/" TargetMode="External"/><Relationship Id="rId6" Type="http://schemas.openxmlformats.org/officeDocument/2006/relationships/hyperlink" Target="http://www.edu.km.ru/" TargetMode="External"/><Relationship Id="rId7" Type="http://schemas.openxmlformats.org/officeDocument/2006/relationships/hyperlink" Target="http://www.edu.km.ru/" TargetMode="External"/><Relationship Id="rId8" Type="http://schemas.openxmlformats.org/officeDocument/2006/relationships/hyperlink" Target="http://www.edu.km.ru/" TargetMode="External"/><Relationship Id="rId9" Type="http://schemas.openxmlformats.org/officeDocument/2006/relationships/hyperlink" Target="http://www.edu.km.ru/" TargetMode="External"/><Relationship Id="rId10" Type="http://schemas.openxmlformats.org/officeDocument/2006/relationships/hyperlink" Target="http://www.edu.km.ru/" TargetMode="External"/><Relationship Id="rId11" Type="http://schemas.openxmlformats.org/officeDocument/2006/relationships/hyperlink" Target="http://www.edu.km.ru/" TargetMode="External"/><Relationship Id="rId12" Type="http://schemas.openxmlformats.org/officeDocument/2006/relationships/hyperlink" Target="http://www.edu.km.ru/" TargetMode="External"/><Relationship Id="rId13" Type="http://schemas.openxmlformats.org/officeDocument/2006/relationships/hyperlink" Target="http://www.physicon.ru/" TargetMode="External"/><Relationship Id="rId14" Type="http://schemas.openxmlformats.org/officeDocument/2006/relationships/hyperlink" Target="http://www.physicon.ru/" TargetMode="External"/><Relationship Id="rId15" Type="http://schemas.openxmlformats.org/officeDocument/2006/relationships/hyperlink" Target="http://repetitor.1c.ru/" TargetMode="External"/><Relationship Id="rId16" Type="http://schemas.openxmlformats.org/officeDocument/2006/relationships/slide" Target="slide10.xm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vvz.nw.ru/" TargetMode="External"/><Relationship Id="rId2" Type="http://schemas.openxmlformats.org/officeDocument/2006/relationships/hyperlink" Target="http://hyrertest.virtualave.net/" TargetMode="External"/><Relationship Id="rId3" Type="http://schemas.openxmlformats.org/officeDocument/2006/relationships/hyperlink" Target="http://www.sunrav.ru/index.php" TargetMode="External"/><Relationship Id="rId4" Type="http://schemas.openxmlformats.org/officeDocument/2006/relationships/hyperlink" Target="http://www.softwerk.ru/exam_r.htm" TargetMode="External"/><Relationship Id="rId5" Type="http://schemas.openxmlformats.org/officeDocument/2006/relationships/hyperlink" Target="http://www.softwerk.ru/exam_r.htm" TargetMode="External"/><Relationship Id="rId6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sunrav.ru/index.php" TargetMode="External"/><Relationship Id="rId2" Type="http://schemas.openxmlformats.org/officeDocument/2006/relationships/slide" Target="slide10.xml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fio.ru/" TargetMode="External"/><Relationship Id="rId2" Type="http://schemas.openxmlformats.org/officeDocument/2006/relationships/hyperlink" Target="http://www.school.edu.ru/" TargetMode="External"/><Relationship Id="rId3" Type="http://schemas.openxmlformats.org/officeDocument/2006/relationships/hyperlink" Target="http://www.alledu.ru/" TargetMode="External"/><Relationship Id="rId4" Type="http://schemas.openxmlformats.org/officeDocument/2006/relationships/hyperlink" Target="http://www.alledu.ru/" TargetMode="External"/><Relationship Id="rId5" Type="http://schemas.openxmlformats.org/officeDocument/2006/relationships/hyperlink" Target="http://www.alledu.ru/" TargetMode="External"/><Relationship Id="rId6" Type="http://schemas.openxmlformats.org/officeDocument/2006/relationships/hyperlink" Target="http://www.alledu.ru/forum/16/8" TargetMode="External"/><Relationship Id="rId7" Type="http://schemas.openxmlformats.org/officeDocument/2006/relationships/hyperlink" Target="http://www.alledu.ru/forum/16/8" TargetMode="External"/><Relationship Id="rId8" Type="http://schemas.openxmlformats.org/officeDocument/2006/relationships/hyperlink" Target="http://www.alledu.ru/forum/16/8" TargetMode="External"/><Relationship Id="rId9" Type="http://schemas.openxmlformats.org/officeDocument/2006/relationships/hyperlink" Target="http://www.alledu.ru/forum/16/8" TargetMode="External"/><Relationship Id="rId10" Type="http://schemas.openxmlformats.org/officeDocument/2006/relationships/hyperlink" Target="http://www.alledu.ru/forum/16/8" TargetMode="External"/><Relationship Id="rId11" Type="http://schemas.openxmlformats.org/officeDocument/2006/relationships/hyperlink" Target="http://www.alledu.ru/forum/16/8" TargetMode="External"/><Relationship Id="rId12" Type="http://schemas.openxmlformats.org/officeDocument/2006/relationships/hyperlink" Target="http://www.iteach.ru/forum.html" TargetMode="External"/><Relationship Id="rId13" Type="http://schemas.openxmlformats.org/officeDocument/2006/relationships/hyperlink" Target="http://www.iteach.ru/forum.html" TargetMode="External"/><Relationship Id="rId14" Type="http://schemas.openxmlformats.org/officeDocument/2006/relationships/hyperlink" Target="http://www.iteach.ru/forum.html" TargetMode="External"/><Relationship Id="rId15" Type="http://schemas.openxmlformats.org/officeDocument/2006/relationships/hyperlink" Target="http://www.iteach.ru/forum.html" TargetMode="External"/><Relationship Id="rId16" Type="http://schemas.openxmlformats.org/officeDocument/2006/relationships/hyperlink" Target="http://www.iteach.ru/forum.html" TargetMode="External"/><Relationship Id="rId17" Type="http://schemas.openxmlformats.org/officeDocument/2006/relationships/slide" Target="slide10.xml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ecdl-ru.com/" TargetMode="External"/><Relationship Id="rId2" Type="http://schemas.openxmlformats.org/officeDocument/2006/relationships/hyperlink" Target="http://www.ecdl-ru.com/" TargetMode="External"/><Relationship Id="rId3" Type="http://schemas.openxmlformats.org/officeDocument/2006/relationships/hyperlink" Target="http://www.ecdl-ru.com/" TargetMode="External"/><Relationship Id="rId4" Type="http://schemas.openxmlformats.org/officeDocument/2006/relationships/hyperlink" Target="http://www.ecdl-ru.com/" TargetMode="External"/><Relationship Id="rId5" Type="http://schemas.openxmlformats.org/officeDocument/2006/relationships/hyperlink" Target="http://www.ecdl-ru.com/" TargetMode="External"/><Relationship Id="rId6" Type="http://schemas.openxmlformats.org/officeDocument/2006/relationships/hyperlink" Target="http://www.ecdl-ru.com/" TargetMode="External"/><Relationship Id="rId7" Type="http://schemas.openxmlformats.org/officeDocument/2006/relationships/hyperlink" Target="http://www.ecdl-ru.com/" TargetMode="External"/><Relationship Id="rId8" Type="http://schemas.openxmlformats.org/officeDocument/2006/relationships/hyperlink" Target="http://www.ecdl-ru.com/" TargetMode="External"/><Relationship Id="rId9" Type="http://schemas.openxmlformats.org/officeDocument/2006/relationships/hyperlink" Target="http://www.ecdl-ru.com/" TargetMode="External"/><Relationship Id="rId10" Type="http://schemas.openxmlformats.org/officeDocument/2006/relationships/slide" Target="slide2.xml"/><Relationship Id="rId1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0033"/>
                </a:solidFill>
                <a:latin typeface="Times New Roman"/>
              </a:rPr>
              <a:t>Информационные и коммуникационные технологии (ИКТ) в образовательном процессе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олух Ольга Вале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6237360"/>
            <a:ext cx="12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О.Н. Шило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Основные направления использования ИКТ в образова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едставление материала с помощью компьют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ие мультимед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агностика и рейтинговая 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здание электронных УМ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истанционное обу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рганизация общ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7164360" y="6273720"/>
            <a:ext cx="432000" cy="395280"/>
          </a:xfrm>
          <a:custGeom>
            <a:avLst/>
            <a:gdLst>
              <a:gd name="textAreaLeft" fmla="*/ 25560 w 432000"/>
              <a:gd name="textAreaRight" fmla="*/ 406440 w 432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605" h="21600">
                <a:moveTo>
                  <a:pt x="0" y="0"/>
                </a:moveTo>
                <a:lnTo>
                  <a:pt x="23605" y="0"/>
                </a:lnTo>
                <a:lnTo>
                  <a:pt x="23605" y="21600"/>
                </a:lnTo>
                <a:lnTo>
                  <a:pt x="0" y="21600"/>
                </a:lnTo>
                <a:close/>
              </a:path>
              <a:path fill="lightenLess" w="23605" h="21600">
                <a:moveTo>
                  <a:pt x="0" y="0"/>
                </a:moveTo>
                <a:lnTo>
                  <a:pt x="23605" y="0"/>
                </a:lnTo>
                <a:lnTo>
                  <a:pt x="22205" y="1400"/>
                </a:lnTo>
                <a:lnTo>
                  <a:pt x="1400" y="1400"/>
                </a:lnTo>
                <a:close/>
              </a:path>
              <a:path fill="darken" w="23605" h="21600">
                <a:moveTo>
                  <a:pt x="23605" y="0"/>
                </a:moveTo>
                <a:lnTo>
                  <a:pt x="23605" y="21600"/>
                </a:lnTo>
                <a:lnTo>
                  <a:pt x="22205" y="20200"/>
                </a:lnTo>
                <a:lnTo>
                  <a:pt x="22205" y="1400"/>
                </a:lnTo>
                <a:close/>
              </a:path>
              <a:path fill="darkenLess" w="23605" h="21600">
                <a:moveTo>
                  <a:pt x="2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05" y="20200"/>
                </a:lnTo>
                <a:close/>
              </a:path>
              <a:path fill="lighten" w="2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05" h="21600">
                <a:moveTo>
                  <a:pt x="11802" y="3837"/>
                </a:moveTo>
                <a:lnTo>
                  <a:pt x="14379" y="6448"/>
                </a:ln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lnTo>
                  <a:pt x="18765" y="10800"/>
                </a:lnTo>
                <a:lnTo>
                  <a:pt x="17112" y="10800"/>
                </a:lnTo>
                <a:lnTo>
                  <a:pt x="17112" y="17989"/>
                </a:lnTo>
                <a:lnTo>
                  <a:pt x="6493" y="17989"/>
                </a:lnTo>
                <a:lnTo>
                  <a:pt x="6493" y="10800"/>
                </a:lnTo>
                <a:lnTo>
                  <a:pt x="4839" y="10800"/>
                </a:lnTo>
                <a:close/>
              </a:path>
              <a:path fill="darkenLess" w="23605" h="21600">
                <a:moveTo>
                  <a:pt x="14379" y="6448"/>
                </a:move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close/>
              </a:path>
              <a:path fill="darkenLess" w="23605" h="21600">
                <a:moveTo>
                  <a:pt x="10880" y="14299"/>
                </a:moveTo>
                <a:lnTo>
                  <a:pt x="12725" y="14299"/>
                </a:lnTo>
                <a:lnTo>
                  <a:pt x="12725" y="17989"/>
                </a:lnTo>
                <a:lnTo>
                  <a:pt x="17112" y="17989"/>
                </a:lnTo>
                <a:lnTo>
                  <a:pt x="17112" y="10800"/>
                </a:lnTo>
                <a:lnTo>
                  <a:pt x="6493" y="10800"/>
                </a:lnTo>
                <a:lnTo>
                  <a:pt x="6493" y="17989"/>
                </a:lnTo>
                <a:lnTo>
                  <a:pt x="1088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DED-7E86-483B-8401-F87A8096472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редставление материалов с помощью компьютер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Презен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Публик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Электронные таблиц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Базы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5" action="ppaction://hlinksldjump"/>
              </a:rPr>
              <a:t>Дидактические и методические материал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6" action="ppaction://hlinksldjump"/>
              </a:rPr>
              <a:t>Сай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>
            <a:hlinkClick r:id="rId7" action="ppaction://hlinksldjump"/>
          </p:cNvPr>
          <p:cNvSpPr/>
          <p:nvPr/>
        </p:nvSpPr>
        <p:spPr>
          <a:xfrm>
            <a:off x="720108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7ABB-22D8-41AE-9041-B0D4111B611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оздание и использование презентаций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Wingdings"/>
                <a:ea typeface="Wingdings"/>
              </a:rPr>
              <a:t>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нденция ухода от использования «в лоб», только в качестве источника информации, а использование в качестве инструмента управления обучени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этом случае обучающиеся приобретают знания и опыт, не сводящиеся к традиционным репродуктивны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F28-8A36-4F99-B2B7-9987CFF059BE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ование публикаци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учеб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создания газет об исторической личности, об историческом событии, с погружением в эпоху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создания информационных листков, брошюр, букле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представления работ учащихс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 внеурочной деятель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создания объявлений, пригласительных билетов, рекламных листовок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ведения календаря важных событий класса, школ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ля ведения домашнего еженедельни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77080" y="3392640"/>
            <a:ext cx="504720" cy="323640"/>
          </a:xfrm>
          <a:prstGeom prst="rightArrow">
            <a:avLst>
              <a:gd name="adj1" fmla="val 50000"/>
              <a:gd name="adj2" fmla="val 3898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92C5-F8A7-483F-91E6-7E51E41B17BA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спользование электронных таблиц для: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я таблиц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я расчетных таблиц для проведения расчетов разного уровня сл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роения диаграмм различных типов (на основе таблиц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я анкет с автоматической обработкой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работки и анализа данных с помощью статистических и логических функ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я и ведение баз дан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ртировки данных для их последующего ана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дение дневника наблюдений с автоматической обработкой результатов наблюд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я кроссвор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здания информационных моделей (построение прогнозов, расчет возможных результатов с учетом меняющихся начальных услов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боты с карт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775640" y="2384280"/>
            <a:ext cx="504720" cy="324000"/>
          </a:xfrm>
          <a:prstGeom prst="rightArrow">
            <a:avLst>
              <a:gd name="adj1" fmla="val 50000"/>
              <a:gd name="adj2" fmla="val 389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96000" y="3429000"/>
            <a:ext cx="504720" cy="324000"/>
          </a:xfrm>
          <a:prstGeom prst="rightArrow">
            <a:avLst>
              <a:gd name="adj1" fmla="val 50000"/>
              <a:gd name="adj2" fmla="val 389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8A6A-7054-4431-82AB-90FB611563D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ование баз данных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ографии уче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иблиография по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ки иллюстр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борки разноуровневых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остижения учащих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E2A-9A82-43E9-A4AE-15FE46DF78A5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оздание дидактических и методических материал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88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нструкции к задания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аблоны дневников наблюд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Рабочие тетра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спекты занят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убликации для дополнительного чт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зо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аблоны табли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Шаблоны для заполнения в исследовательской и лабораторной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авнительные фор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росы и тес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дактические кар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россвор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иктори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едства (статические и динамические) нагляд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кл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рошю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ексты и презент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разовательные сай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A716-621C-4C81-8855-6ABBB7D15BF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оздание и использование сайтов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сай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рганизационные сай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йты проек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йт дистанционной поддержки обуч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редства разработки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S Office (Publisher, Front Pag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Специальные инструментальные средства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eamWeaver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Макеты 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ww.narod.ru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600280"/>
            <a:ext cx="504720" cy="324000"/>
          </a:xfrm>
          <a:prstGeom prst="rightArrow">
            <a:avLst>
              <a:gd name="adj1" fmla="val 50000"/>
              <a:gd name="adj2" fmla="val 38944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EF7D-7CB8-411C-8B40-85AC9A557239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мультимедиа 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идактические функции мультимеди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ллюстрировани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ложных физических, биологических явлений, химических реак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оригинальных аудиоматериал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формирования умений аудирования при изучении иностранных язы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различных статичных и динамичных  средст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изуальной наглядности для изучения различных дисципл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амостоятельные проектные, творческие виды деятель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 использованием разнообразных мультимедийных сред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оздание, форматирование и редактирование графических объект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ворческих раб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виртуальных лабораторных, практических рабо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в различных областях зн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рганизация виртуальных экскурс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056-1ACB-45C5-8A3E-EDBF32DFEEF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Использование мультимедиа (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68360" y="1483920"/>
            <a:ext cx="777240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ирмы – создатели готовой мультимедийной продукции для шко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652320" y="2241720"/>
          <a:ext cx="7772400" cy="4200480"/>
        </p:xfrm>
        <a:graphic>
          <a:graphicData uri="http://schemas.openxmlformats.org/drawingml/2006/table">
            <a:tbl>
              <a:tblPr/>
              <a:tblGrid>
                <a:gridCol w="2311560"/>
                <a:gridCol w="5460840"/>
              </a:tblGrid>
              <a:tr h="155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Кирилл и Мефоди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"/>
                        </a:rPr>
                        <a:t>www</a:t>
                      </a:r>
                      <a:r>
                        <a:rPr b="0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2"/>
                        </a:rPr>
                        <a:t>.</a:t>
                      </a: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3"/>
                        </a:rPr>
                        <a:t>km</a:t>
                      </a:r>
                      <a:r>
                        <a:rPr b="0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4"/>
                        </a:rPr>
                        <a:t>.</a:t>
                      </a: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5"/>
                        </a:rPr>
                        <a:t>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6"/>
                        </a:rPr>
                        <a:t>www</a:t>
                      </a:r>
                      <a:r>
                        <a:rPr b="0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7"/>
                        </a:rPr>
                        <a:t>.</a:t>
                      </a: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8"/>
                        </a:rPr>
                        <a:t>edu</a:t>
                      </a:r>
                      <a:r>
                        <a:rPr b="0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9"/>
                        </a:rPr>
                        <a:t>.</a:t>
                      </a: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0"/>
                        </a:rPr>
                        <a:t>km</a:t>
                      </a:r>
                      <a:r>
                        <a:rPr b="0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1"/>
                        </a:rPr>
                        <a:t>.</a:t>
                      </a: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2"/>
                        </a:rPr>
                        <a:t>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азработчик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ниверсальных и тематических энциклопедий, обучающих программ, учебных пособий для средней школы, репетиторы для абитуриентов, познавательные программы по культуре и искусству, а также разнообразные игры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следняя разработка – Виртуальная КМ школ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5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Физикон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1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3"/>
                        </a:rPr>
                        <a:t>http</a:t>
                      </a:r>
                      <a:r>
                        <a:rPr b="1" lang="ru-RU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4"/>
                        </a:rPr>
                        <a:t>://www.physicon.ru/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чик учебных мультимедийных компьютерных программ и Internet-систем дистанционного обучения в области естественных наук (математика, физика, астрономия, химия и другие). Выполняет разработки образовательного программного обеспечения по заказам организаций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 u="sng">
                          <a:solidFill>
                            <a:srgbClr val="003399"/>
                          </a:solidFill>
                          <a:uFillTx/>
                          <a:latin typeface="Arial"/>
                          <a:ea typeface="Times New Roman"/>
                          <a:hlinkClick r:id="rId15"/>
                        </a:rPr>
                        <a:t>http://repetitor.1c.r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работчик серий учебных программ «1С: Репетитор» по математике, физике, химии, биологии и русскому языку, контрольно-диагностических тестов по орфографии и пунктуа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7596360" y="6381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>
            <a:off x="6767640" y="6381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rId16" action="ppaction://hlinksldjump"/>
          </p:cNvPr>
          <p:cNvSpPr/>
          <p:nvPr/>
        </p:nvSpPr>
        <p:spPr>
          <a:xfrm>
            <a:off x="7201080" y="6381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F4E14-4DD1-494B-B54B-3A5045E3E7A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держа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1" action="ppaction://hlinksldjump"/>
              </a:rPr>
              <a:t>ИКТ в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2" action="ppaction://hlinksldjump"/>
              </a:rPr>
              <a:t>ИКТ компетент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99"/>
                </a:solidFill>
                <a:uFillTx/>
                <a:latin typeface="Arial"/>
                <a:hlinkClick r:id="rId3" action="ppaction://hlinksldjump"/>
              </a:rPr>
              <a:t>Основные направления использования ИКТ в образов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  <a:hlinkClick r:id="rId4" action="ppaction://hlinksldjump"/>
              </a:rPr>
              <a:t>Вых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57EB-EBA8-465F-9A54-4B02670977D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иагностика и рейтинговая оценка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 (1)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стирова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ттестационная процедура, позволяющая максимально объективно оценивать соответствие личностной модели знаний ученика экспертной модели зна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редства разрабо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Office (Word, Excel, Power Po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ециальные инструментальн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190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Конструктор тестов для WWW на JavaScript В.В. Захаркиной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латный) 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vvz.nw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190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аке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yperTes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Константина Рыбалки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есплатный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http://hyrertest.virtualave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190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ый комплекс фир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nRav TestOfficePro 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словно бесплатный) 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http://www.sunrav.ru/index.p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-4190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граммная оболочка фир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oftwerk ExaMINATOR (платная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20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www.softwerk.ru/exam_r.htm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нформ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61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A88-72E2-42F6-8DAF-D233A3AC384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Диагностика и рейтинговая оценка (</a:t>
            </a: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йтинговая оцен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это показатель индивидуальных достижений обучающегося, выраженный в баллах и учитывающий разные виды деятельности на занятиях (выполнение лабораторных и практических работ, написание контрольных работ, устные ответы, тестирование и др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йтинговая оценка знаний обучающихся важна потому, что систематическое оценивание позволи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подавателю более объективно оценивать результаты текущего, рубежного и итогового контро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емуся судить о степени успешности продвижения по образовательному маршру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ажно также, что на основании систематического рейтингового оценивания можно делать важные выводы о необходимости изменений в учебном процесс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85080" y="4653000"/>
            <a:ext cx="504720" cy="323640"/>
          </a:xfrm>
          <a:prstGeom prst="rightArrow">
            <a:avLst>
              <a:gd name="adj1" fmla="val 50000"/>
              <a:gd name="adj2" fmla="val 38988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2779-F750-4347-B640-E4F748B3746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Создание электронных УМК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чебно-методический комплек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система изучения учебной дисциплины, включающая в себя учебную программу, учебное пособие, практикум, материалы для диагностики и контро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разработ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Office (Word, Power Poin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 P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инструментальные средст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-boo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лочка фирм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nRav </a:t>
            </a:r>
            <a:r>
              <a:rPr b="0" lang="ru-RU" sz="22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://www.sunrav.ru/index.ph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болочка фирмы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yper Metod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СПб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2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CB1D-459D-4906-A8FB-82BFD2F8B5A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Дистанционное обучение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 обучения, при которой взаимодействие учителя и учащихся и учащихся между собой осуществляется на расстоянии и отражает все присущие учебному процессу компоненты (цели, содержание, методы, орг. формы, средства), реализуемые специфичными средствами интернет-технологий или другими средствами, предусматривающими интерактивнос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ства организ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й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ьные инструментальные средств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LMS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ли оболочки для Д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6824-727F-4649-8499-EE0A098BD404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рганизация общения (1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RC (chat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хнология ведения переговоров в реальном масштабе времени, дающая возможность разговаривать с другими людьми по сети в режиме прямого диал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целая серия услу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правка и прием электронных пис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формационное обслуживание по пересылке абонентам сети обзоров, сводок, новостей и иных справочных материалов от различных фирм и организа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леконферен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хнология  получения и отсылки материалов дискуссий, в которых могут принимать участие люди, разделенные большим расстоя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ру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– технология, предоставляющая возможность высказаться и узнать мнение других по определенному вопро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DFB-78F3-4627-A7BE-BC2EAF662731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Организация общения (2)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возможные образовательные форумы и чаты поддерживаются на сайте Федерации Интернет-Образования 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www.fio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в разделе "Учитель.ru" — "Виртуальный педсовет", в "Родитель.ru" — "Родительское собрание", в "Тинейджер.ru" — целый набор из чатов и форумов для школьников и студентов. Педагогический Портал Министерства образования РФ 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www.school.edu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же поддерживает форумы для учителей и род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талог «Все образование» 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http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://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www.alledu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ддерживает работу детской общественной приемной: сюда могут обращаться дети в поисках совета или консультации специалиста по правовой, психологической или иной проблеме.  В приемной работает форум: 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http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://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8"/>
              </a:rPr>
              <a:t>www.alledu.ru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9"/>
              </a:rPr>
              <a:t>/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0"/>
              </a:rPr>
              <a:t>forum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1"/>
              </a:rPr>
              <a:t>/16/8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2"/>
              </a:rPr>
              <a:t>http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3"/>
              </a:rPr>
              <a:t>://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4"/>
              </a:rPr>
              <a:t>www.iteach.ru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5"/>
              </a:rPr>
              <a:t>/</a:t>
            </a:r>
            <a:r>
              <a:rPr b="0" lang="ru-RU" sz="2000" spc="-1" strike="noStrike" u="sng">
                <a:solidFill>
                  <a:srgbClr val="003399"/>
                </a:solidFill>
                <a:uFillTx/>
                <a:latin typeface="Arial"/>
                <a:hlinkClick r:id="rId16"/>
              </a:rPr>
              <a:t>forum.htm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форум программы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l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«Обучение для будуще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>
            <a:hlinkClick r:id="rId17" action="ppaction://hlinksldjump"/>
          </p:cNvPr>
          <p:cNvSpPr/>
          <p:nvPr/>
        </p:nvSpPr>
        <p:spPr>
          <a:xfrm>
            <a:off x="7201080" y="6273720"/>
            <a:ext cx="358560" cy="39528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95280"/>
              <a:gd name="textAreaBottom" fmla="*/ 372240 h 395280"/>
            </a:gdLst>
            <a:ahLst/>
            <a:rect l="textAreaLeft" t="textAreaTop" r="textAreaRight" b="textAreaBottom"/>
            <a:pathLst>
              <a:path w="21600" h="23810">
                <a:moveTo>
                  <a:pt x="0" y="0"/>
                </a:moveTo>
                <a:lnTo>
                  <a:pt x="21600" y="0"/>
                </a:lnTo>
                <a:lnTo>
                  <a:pt x="21600" y="23810"/>
                </a:lnTo>
                <a:lnTo>
                  <a:pt x="0" y="23810"/>
                </a:lnTo>
                <a:close/>
              </a:path>
              <a:path fill="lightenLess" w="21600" h="238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10">
                <a:moveTo>
                  <a:pt x="21600" y="0"/>
                </a:moveTo>
                <a:lnTo>
                  <a:pt x="21600" y="23810"/>
                </a:lnTo>
                <a:lnTo>
                  <a:pt x="20200" y="22410"/>
                </a:lnTo>
                <a:lnTo>
                  <a:pt x="20200" y="1400"/>
                </a:lnTo>
                <a:close/>
              </a:path>
              <a:path fill="darkenLess" w="21600" h="23810">
                <a:moveTo>
                  <a:pt x="21600" y="23810"/>
                </a:moveTo>
                <a:lnTo>
                  <a:pt x="0" y="23810"/>
                </a:lnTo>
                <a:lnTo>
                  <a:pt x="1400" y="22410"/>
                </a:lnTo>
                <a:lnTo>
                  <a:pt x="20200" y="22410"/>
                </a:lnTo>
                <a:close/>
              </a:path>
              <a:path fill="lighten" w="21600" h="23810">
                <a:moveTo>
                  <a:pt x="0" y="238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10"/>
                </a:lnTo>
                <a:close/>
              </a:path>
              <a:path fill="darken" w="21600" h="23810">
                <a:moveTo>
                  <a:pt x="3794" y="8598"/>
                </a:moveTo>
                <a:lnTo>
                  <a:pt x="7301" y="8598"/>
                </a:lnTo>
                <a:lnTo>
                  <a:pt x="7301" y="13933"/>
                </a:lnTo>
                <a:cubicBezTo>
                  <a:pt x="7301" y="14855"/>
                  <a:pt x="8102" y="15587"/>
                  <a:pt x="9138" y="15587"/>
                </a:cubicBezTo>
                <a:lnTo>
                  <a:pt x="10800" y="15587"/>
                </a:lnTo>
                <a:cubicBezTo>
                  <a:pt x="11836" y="15587"/>
                  <a:pt x="12636" y="14855"/>
                  <a:pt x="12636" y="13933"/>
                </a:cubicBezTo>
                <a:lnTo>
                  <a:pt x="12636" y="8598"/>
                </a:lnTo>
                <a:lnTo>
                  <a:pt x="10800" y="8598"/>
                </a:lnTo>
                <a:lnTo>
                  <a:pt x="14308" y="5090"/>
                </a:lnTo>
                <a:lnTo>
                  <a:pt x="17981" y="8598"/>
                </a:lnTo>
                <a:lnTo>
                  <a:pt x="16144" y="8598"/>
                </a:lnTo>
                <a:lnTo>
                  <a:pt x="16144" y="13933"/>
                </a:lnTo>
                <a:cubicBezTo>
                  <a:pt x="16144" y="16701"/>
                  <a:pt x="13568" y="19260"/>
                  <a:pt x="10800" y="19260"/>
                </a:cubicBezTo>
                <a:lnTo>
                  <a:pt x="9138" y="19260"/>
                </a:lnTo>
                <a:cubicBezTo>
                  <a:pt x="6370" y="19260"/>
                  <a:pt x="3794" y="16701"/>
                  <a:pt x="3794" y="13933"/>
                </a:cubicBez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EA30-DCA0-4CD6-B76E-C5D8A3FF7F8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спользованные ресурсы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гвязинский В.И. Теория обучения: Современная интерпретация. – М.: Издательский центр «Академия», 200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3366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стояне информатизации общего образования / Аналитический обзор. – М.: ООО «Аллана», 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buClr>
                <a:srgbClr val="00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3399"/>
                </a:solidFill>
                <a:uFillTx/>
                <a:latin typeface="Arial"/>
                <a:hlinkClick r:id="rId1"/>
              </a:rPr>
              <a:t>http</a:t>
            </a:r>
            <a:r>
              <a:rPr b="0" lang="ru-RU" sz="3000" spc="-1" strike="noStrike" u="sng">
                <a:solidFill>
                  <a:srgbClr val="003399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3000" spc="-1" strike="noStrike" u="sng">
                <a:solidFill>
                  <a:srgbClr val="003399"/>
                </a:solidFill>
                <a:uFillTx/>
                <a:latin typeface="Arial"/>
                <a:hlinkClick r:id="rId3"/>
              </a:rPr>
              <a:t>www</a:t>
            </a:r>
            <a:r>
              <a:rPr b="0" lang="ru-RU" sz="3000" spc="-1" strike="noStrike" u="sng">
                <a:solidFill>
                  <a:srgbClr val="003399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3000" spc="-1" strike="noStrike" u="sng">
                <a:solidFill>
                  <a:srgbClr val="003399"/>
                </a:solidFill>
                <a:uFillTx/>
                <a:latin typeface="Arial"/>
                <a:hlinkClick r:id="rId5"/>
              </a:rPr>
              <a:t>ecdl</a:t>
            </a:r>
            <a:r>
              <a:rPr b="0" lang="ru-RU" sz="3000" spc="-1" strike="noStrike" u="sng">
                <a:solidFill>
                  <a:srgbClr val="003399"/>
                </a:solidFill>
                <a:uFillTx/>
                <a:latin typeface="Arial"/>
                <a:hlinkClick r:id="rId6"/>
              </a:rPr>
              <a:t>-</a:t>
            </a:r>
            <a:r>
              <a:rPr b="0" lang="en-US" sz="3000" spc="-1" strike="noStrike" u="sng">
                <a:solidFill>
                  <a:srgbClr val="003399"/>
                </a:solidFill>
                <a:uFillTx/>
                <a:latin typeface="Arial"/>
                <a:hlinkClick r:id="rId7"/>
              </a:rPr>
              <a:t>ru</a:t>
            </a:r>
            <a:r>
              <a:rPr b="0" lang="ru-RU" sz="3000" spc="-1" strike="noStrike" u="sng">
                <a:solidFill>
                  <a:srgbClr val="003399"/>
                </a:solidFill>
                <a:uFillTx/>
                <a:latin typeface="Arial"/>
                <a:hlinkClick r:id="rId8"/>
              </a:rPr>
              <a:t>.</a:t>
            </a:r>
            <a:r>
              <a:rPr b="0" lang="en-US" sz="3000" spc="-1" strike="noStrike" u="sng">
                <a:solidFill>
                  <a:srgbClr val="003399"/>
                </a:solidFill>
                <a:uFillTx/>
                <a:latin typeface="Arial"/>
                <a:hlinkClick r:id="rId9"/>
              </a:rPr>
              <a:t>com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- стандарт «Европейские Компьютерные права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>
            <a:hlinkClick r:id="rId10" action="ppaction://hlinksldjump"/>
          </p:cNvPr>
          <p:cNvSpPr/>
          <p:nvPr/>
        </p:nvSpPr>
        <p:spPr>
          <a:xfrm>
            <a:off x="7164360" y="6273720"/>
            <a:ext cx="432000" cy="395280"/>
          </a:xfrm>
          <a:custGeom>
            <a:avLst/>
            <a:gdLst>
              <a:gd name="textAreaLeft" fmla="*/ 25560 w 432000"/>
              <a:gd name="textAreaRight" fmla="*/ 406440 w 432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605" h="21600">
                <a:moveTo>
                  <a:pt x="0" y="0"/>
                </a:moveTo>
                <a:lnTo>
                  <a:pt x="23605" y="0"/>
                </a:lnTo>
                <a:lnTo>
                  <a:pt x="23605" y="21600"/>
                </a:lnTo>
                <a:lnTo>
                  <a:pt x="0" y="21600"/>
                </a:lnTo>
                <a:close/>
              </a:path>
              <a:path fill="lightenLess" w="23605" h="21600">
                <a:moveTo>
                  <a:pt x="0" y="0"/>
                </a:moveTo>
                <a:lnTo>
                  <a:pt x="23605" y="0"/>
                </a:lnTo>
                <a:lnTo>
                  <a:pt x="22205" y="1400"/>
                </a:lnTo>
                <a:lnTo>
                  <a:pt x="1400" y="1400"/>
                </a:lnTo>
                <a:close/>
              </a:path>
              <a:path fill="darken" w="23605" h="21600">
                <a:moveTo>
                  <a:pt x="23605" y="0"/>
                </a:moveTo>
                <a:lnTo>
                  <a:pt x="23605" y="21600"/>
                </a:lnTo>
                <a:lnTo>
                  <a:pt x="22205" y="20200"/>
                </a:lnTo>
                <a:lnTo>
                  <a:pt x="22205" y="1400"/>
                </a:lnTo>
                <a:close/>
              </a:path>
              <a:path fill="darkenLess" w="23605" h="21600">
                <a:moveTo>
                  <a:pt x="2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05" y="20200"/>
                </a:lnTo>
                <a:close/>
              </a:path>
              <a:path fill="lighten" w="2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05" h="21600">
                <a:moveTo>
                  <a:pt x="11802" y="3837"/>
                </a:moveTo>
                <a:lnTo>
                  <a:pt x="14379" y="6448"/>
                </a:ln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lnTo>
                  <a:pt x="18765" y="10800"/>
                </a:lnTo>
                <a:lnTo>
                  <a:pt x="17112" y="10800"/>
                </a:lnTo>
                <a:lnTo>
                  <a:pt x="17112" y="17989"/>
                </a:lnTo>
                <a:lnTo>
                  <a:pt x="6493" y="17989"/>
                </a:lnTo>
                <a:lnTo>
                  <a:pt x="6493" y="10800"/>
                </a:lnTo>
                <a:lnTo>
                  <a:pt x="4839" y="10800"/>
                </a:lnTo>
                <a:close/>
              </a:path>
              <a:path fill="darkenLess" w="23605" h="21600">
                <a:moveTo>
                  <a:pt x="14379" y="6448"/>
                </a:move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close/>
              </a:path>
              <a:path fill="darkenLess" w="23605" h="21600">
                <a:moveTo>
                  <a:pt x="10880" y="14299"/>
                </a:moveTo>
                <a:lnTo>
                  <a:pt x="12725" y="14299"/>
                </a:lnTo>
                <a:lnTo>
                  <a:pt x="12725" y="17989"/>
                </a:lnTo>
                <a:lnTo>
                  <a:pt x="17112" y="17989"/>
                </a:lnTo>
                <a:lnTo>
                  <a:pt x="17112" y="10800"/>
                </a:lnTo>
                <a:lnTo>
                  <a:pt x="6493" y="10800"/>
                </a:lnTo>
                <a:lnTo>
                  <a:pt x="6493" y="17989"/>
                </a:lnTo>
                <a:lnTo>
                  <a:pt x="1088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9E17-895F-48C3-89F3-E21C3CEA59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71640" y="260280"/>
            <a:ext cx="777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Успехов Вам в освоении ИКТ!!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00000" y="2312640"/>
            <a:ext cx="7772400" cy="38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99"/>
                </a:solidFill>
                <a:latin typeface="Arial"/>
              </a:rPr>
              <a:t>Зачерпни воду, и луна окажется в твоей руке.</a:t>
            </a:r>
            <a:br>
              <a:rPr sz="4000"/>
            </a:b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Китайская мудр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7164360" y="6273720"/>
            <a:ext cx="432000" cy="395280"/>
          </a:xfrm>
          <a:custGeom>
            <a:avLst/>
            <a:gdLst>
              <a:gd name="textAreaLeft" fmla="*/ 25560 w 432000"/>
              <a:gd name="textAreaRight" fmla="*/ 406440 w 432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605" h="21600">
                <a:moveTo>
                  <a:pt x="0" y="0"/>
                </a:moveTo>
                <a:lnTo>
                  <a:pt x="23605" y="0"/>
                </a:lnTo>
                <a:lnTo>
                  <a:pt x="23605" y="21600"/>
                </a:lnTo>
                <a:lnTo>
                  <a:pt x="0" y="21600"/>
                </a:lnTo>
                <a:close/>
              </a:path>
              <a:path fill="lightenLess" w="23605" h="21600">
                <a:moveTo>
                  <a:pt x="0" y="0"/>
                </a:moveTo>
                <a:lnTo>
                  <a:pt x="23605" y="0"/>
                </a:lnTo>
                <a:lnTo>
                  <a:pt x="22205" y="1400"/>
                </a:lnTo>
                <a:lnTo>
                  <a:pt x="1400" y="1400"/>
                </a:lnTo>
                <a:close/>
              </a:path>
              <a:path fill="darken" w="23605" h="21600">
                <a:moveTo>
                  <a:pt x="23605" y="0"/>
                </a:moveTo>
                <a:lnTo>
                  <a:pt x="23605" y="21600"/>
                </a:lnTo>
                <a:lnTo>
                  <a:pt x="22205" y="20200"/>
                </a:lnTo>
                <a:lnTo>
                  <a:pt x="22205" y="1400"/>
                </a:lnTo>
                <a:close/>
              </a:path>
              <a:path fill="darkenLess" w="23605" h="21600">
                <a:moveTo>
                  <a:pt x="2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05" y="20200"/>
                </a:lnTo>
                <a:close/>
              </a:path>
              <a:path fill="lighten" w="2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05" h="21600">
                <a:moveTo>
                  <a:pt x="11802" y="3837"/>
                </a:moveTo>
                <a:lnTo>
                  <a:pt x="14379" y="6448"/>
                </a:ln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lnTo>
                  <a:pt x="18765" y="10800"/>
                </a:lnTo>
                <a:lnTo>
                  <a:pt x="17112" y="10800"/>
                </a:lnTo>
                <a:lnTo>
                  <a:pt x="17112" y="17989"/>
                </a:lnTo>
                <a:lnTo>
                  <a:pt x="6493" y="17989"/>
                </a:lnTo>
                <a:lnTo>
                  <a:pt x="6493" y="10800"/>
                </a:lnTo>
                <a:lnTo>
                  <a:pt x="4839" y="10800"/>
                </a:lnTo>
                <a:close/>
              </a:path>
              <a:path fill="darkenLess" w="23605" h="21600">
                <a:moveTo>
                  <a:pt x="14379" y="6448"/>
                </a:move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close/>
              </a:path>
              <a:path fill="darkenLess" w="23605" h="21600">
                <a:moveTo>
                  <a:pt x="10880" y="14299"/>
                </a:moveTo>
                <a:lnTo>
                  <a:pt x="12725" y="14299"/>
                </a:lnTo>
                <a:lnTo>
                  <a:pt x="12725" y="17989"/>
                </a:lnTo>
                <a:lnTo>
                  <a:pt x="17112" y="17989"/>
                </a:lnTo>
                <a:lnTo>
                  <a:pt x="17112" y="10800"/>
                </a:lnTo>
                <a:lnTo>
                  <a:pt x="6493" y="10800"/>
                </a:lnTo>
                <a:lnTo>
                  <a:pt x="6493" y="17989"/>
                </a:lnTo>
                <a:lnTo>
                  <a:pt x="1088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endshow"/>
          </p:cNvPr>
          <p:cNvSpPr/>
          <p:nvPr/>
        </p:nvSpPr>
        <p:spPr>
          <a:xfrm>
            <a:off x="7883640" y="6273720"/>
            <a:ext cx="433440" cy="395280"/>
          </a:xfrm>
          <a:custGeom>
            <a:avLst/>
            <a:gdLst>
              <a:gd name="textAreaLeft" fmla="*/ 25560 w 433440"/>
              <a:gd name="textAreaRight" fmla="*/ 407880 w 43344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683" h="21600">
                <a:moveTo>
                  <a:pt x="0" y="0"/>
                </a:moveTo>
                <a:lnTo>
                  <a:pt x="23683" y="0"/>
                </a:lnTo>
                <a:lnTo>
                  <a:pt x="23683" y="21600"/>
                </a:lnTo>
                <a:lnTo>
                  <a:pt x="0" y="21600"/>
                </a:lnTo>
                <a:close/>
              </a:path>
              <a:path fill="lightenLess" w="23683" h="21600">
                <a:moveTo>
                  <a:pt x="0" y="0"/>
                </a:moveTo>
                <a:lnTo>
                  <a:pt x="23683" y="0"/>
                </a:lnTo>
                <a:lnTo>
                  <a:pt x="22283" y="1400"/>
                </a:lnTo>
                <a:lnTo>
                  <a:pt x="1400" y="1400"/>
                </a:lnTo>
                <a:close/>
              </a:path>
              <a:path fill="darken" w="23683" h="21600">
                <a:moveTo>
                  <a:pt x="23683" y="0"/>
                </a:moveTo>
                <a:lnTo>
                  <a:pt x="23683" y="21600"/>
                </a:lnTo>
                <a:lnTo>
                  <a:pt x="22283" y="20200"/>
                </a:lnTo>
                <a:lnTo>
                  <a:pt x="22283" y="1400"/>
                </a:lnTo>
                <a:close/>
              </a:path>
              <a:path fill="darkenLess" w="23683" h="21600">
                <a:moveTo>
                  <a:pt x="236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83" y="20200"/>
                </a:lnTo>
                <a:close/>
              </a:path>
              <a:path fill="lighten" w="236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83" h="21600">
                <a:moveTo>
                  <a:pt x="15341" y="10800"/>
                </a:moveTo>
                <a:lnTo>
                  <a:pt x="4835" y="17806"/>
                </a:lnTo>
                <a:lnTo>
                  <a:pt x="4835" y="3794"/>
                </a:lnTo>
                <a:close/>
              </a:path>
              <a:path fill="darken" w="23683" h="21600">
                <a:moveTo>
                  <a:pt x="17186" y="3794"/>
                </a:moveTo>
                <a:lnTo>
                  <a:pt x="17186" y="17806"/>
                </a:lnTo>
                <a:lnTo>
                  <a:pt x="18848" y="17806"/>
                </a:lnTo>
                <a:lnTo>
                  <a:pt x="18848" y="3794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8EC2-ACBB-40CF-AC9A-148038DCA735}" type="slidenum">
              <a:t>27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Изменения в современном образован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яются цели и задачи, стоящие перед образованием, происходит перенос с усвоения знаний на формирование компетент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чностно-ориентированное образование: ведущий вид деятельности – познавательная, деятельность учения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яется понимание «фундаментализации» образования (база для непрерывного образования (в ЗБР); уметь, владея системой знаний о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способствует внедрению новых педагогических технологий в образовательный процесс отечественной школ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D934-FA30-4179-9649-553F473A3F1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ть понятия «информационные технологии в образовании»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войственная трактовка И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66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учное направление (совокупность знаний о способах и средствах работы с информационными ресурсами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3366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кретный способ работы с информацией (способ и средства сбора , обработки и передачи информации для получения новых сведений об изучаемом объект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В какой-то степени все педагогические технологии являются информационными – обмен информации между педагогом и обучающимс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502E-ED08-453A-9CE7-99BA7F1D468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Суть понятия «информационные технологии в образовании»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технология обучения -  это педагогическая технология, использующая специальные способы, программные и технические средства  (кино, аудио, видеосредства, компьютеры, телекоммуникационные сети) для работы с информа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о В.И. Загвязинском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ть информатизации образования – создание как для педагогов, так и для обучающихся благоприятных условий для свободного доступа к культурной, учебной и науч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E277-1EDD-4680-A566-1D2EE34DE15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едагогические цели использования ИКТ в образовании (1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3366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витие личности обучающегося - подготовка к самостоятельной продуктивной деятельности в условиях информационного об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тие мышления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тие коммуникативных способностей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звитие навыков исследовательской деятельности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мирование умений принимать решения в сложных ситуациях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формирование информационной культур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FCF6-FA74-4BD8-AAA6-57AE88023B4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едагогические цели использования ИКТ в образовании (2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336600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ализация социального заказа, обусловленного информатизацией общест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готовка обучающихся к самостоятельной познавательной деятельности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готовка мобильных конкурентоспособных личностей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дготовка специалистов в области И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7596360" y="6273720"/>
            <a:ext cx="396720" cy="395280"/>
          </a:xfrm>
          <a:custGeom>
            <a:avLst/>
            <a:gdLst>
              <a:gd name="textAreaLeft" fmla="*/ 25560 w 396720"/>
              <a:gd name="textAreaRight" fmla="*/ 371160 w 39672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79" h="21600">
                <a:moveTo>
                  <a:pt x="0" y="0"/>
                </a:moveTo>
                <a:lnTo>
                  <a:pt x="21679" y="0"/>
                </a:lnTo>
                <a:lnTo>
                  <a:pt x="21679" y="21600"/>
                </a:lnTo>
                <a:lnTo>
                  <a:pt x="0" y="21600"/>
                </a:lnTo>
                <a:close/>
              </a:path>
              <a:path fill="lightenLess" w="21679" h="21600">
                <a:moveTo>
                  <a:pt x="0" y="0"/>
                </a:moveTo>
                <a:lnTo>
                  <a:pt x="21679" y="0"/>
                </a:lnTo>
                <a:lnTo>
                  <a:pt x="20279" y="1400"/>
                </a:lnTo>
                <a:lnTo>
                  <a:pt x="1400" y="1400"/>
                </a:lnTo>
                <a:close/>
              </a:path>
              <a:path fill="darken" w="21679" h="21600">
                <a:moveTo>
                  <a:pt x="21679" y="0"/>
                </a:moveTo>
                <a:lnTo>
                  <a:pt x="21679" y="21600"/>
                </a:lnTo>
                <a:lnTo>
                  <a:pt x="20279" y="20200"/>
                </a:lnTo>
                <a:lnTo>
                  <a:pt x="20279" y="1400"/>
                </a:lnTo>
                <a:close/>
              </a:path>
              <a:path fill="darkenLess" w="21679" h="21600">
                <a:moveTo>
                  <a:pt x="2167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79" y="20200"/>
                </a:lnTo>
                <a:close/>
              </a:path>
              <a:path fill="lighten" w="2167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79" h="21600">
                <a:moveTo>
                  <a:pt x="3833" y="3794"/>
                </a:moveTo>
                <a:lnTo>
                  <a:pt x="17846" y="10800"/>
                </a:lnTo>
                <a:lnTo>
                  <a:pt x="3833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88FC-FBC5-467F-A8B7-85E123BB1BA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Педагогические цели использования ИКТ в образовании (3)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нсификация образовательного процесс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выявление и использование стимулов активизации познавательной деятельности (например, учет типа личности и приоритетных способов восприятия информации)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овышение эффективности и качества образовательного процесса за счет реализации возможностей ИКТ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-4953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углубление межпредметных связ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525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7164360" y="6273720"/>
            <a:ext cx="432000" cy="395280"/>
          </a:xfrm>
          <a:custGeom>
            <a:avLst/>
            <a:gdLst>
              <a:gd name="textAreaLeft" fmla="*/ 25560 w 432000"/>
              <a:gd name="textAreaRight" fmla="*/ 406440 w 43200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3605" h="21600">
                <a:moveTo>
                  <a:pt x="0" y="0"/>
                </a:moveTo>
                <a:lnTo>
                  <a:pt x="23605" y="0"/>
                </a:lnTo>
                <a:lnTo>
                  <a:pt x="23605" y="21600"/>
                </a:lnTo>
                <a:lnTo>
                  <a:pt x="0" y="21600"/>
                </a:lnTo>
                <a:close/>
              </a:path>
              <a:path fill="lightenLess" w="23605" h="21600">
                <a:moveTo>
                  <a:pt x="0" y="0"/>
                </a:moveTo>
                <a:lnTo>
                  <a:pt x="23605" y="0"/>
                </a:lnTo>
                <a:lnTo>
                  <a:pt x="22205" y="1400"/>
                </a:lnTo>
                <a:lnTo>
                  <a:pt x="1400" y="1400"/>
                </a:lnTo>
                <a:close/>
              </a:path>
              <a:path fill="darken" w="23605" h="21600">
                <a:moveTo>
                  <a:pt x="23605" y="0"/>
                </a:moveTo>
                <a:lnTo>
                  <a:pt x="23605" y="21600"/>
                </a:lnTo>
                <a:lnTo>
                  <a:pt x="22205" y="20200"/>
                </a:lnTo>
                <a:lnTo>
                  <a:pt x="22205" y="1400"/>
                </a:lnTo>
                <a:close/>
              </a:path>
              <a:path fill="darkenLess" w="23605" h="21600">
                <a:moveTo>
                  <a:pt x="236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05" y="20200"/>
                </a:lnTo>
                <a:close/>
              </a:path>
              <a:path fill="lighten" w="236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05" h="21600">
                <a:moveTo>
                  <a:pt x="11802" y="3837"/>
                </a:moveTo>
                <a:lnTo>
                  <a:pt x="14379" y="6448"/>
                </a:ln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lnTo>
                  <a:pt x="18765" y="10800"/>
                </a:lnTo>
                <a:lnTo>
                  <a:pt x="17112" y="10800"/>
                </a:lnTo>
                <a:lnTo>
                  <a:pt x="17112" y="17989"/>
                </a:lnTo>
                <a:lnTo>
                  <a:pt x="6493" y="17989"/>
                </a:lnTo>
                <a:lnTo>
                  <a:pt x="6493" y="10800"/>
                </a:lnTo>
                <a:lnTo>
                  <a:pt x="4839" y="10800"/>
                </a:lnTo>
                <a:close/>
              </a:path>
              <a:path fill="darkenLess" w="23605" h="21600">
                <a:moveTo>
                  <a:pt x="14379" y="6448"/>
                </a:moveTo>
                <a:lnTo>
                  <a:pt x="14379" y="4707"/>
                </a:lnTo>
                <a:lnTo>
                  <a:pt x="16154" y="4707"/>
                </a:lnTo>
                <a:lnTo>
                  <a:pt x="16154" y="8224"/>
                </a:lnTo>
                <a:close/>
              </a:path>
              <a:path fill="darkenLess" w="23605" h="21600">
                <a:moveTo>
                  <a:pt x="10880" y="14299"/>
                </a:moveTo>
                <a:lnTo>
                  <a:pt x="12725" y="14299"/>
                </a:lnTo>
                <a:lnTo>
                  <a:pt x="12725" y="17989"/>
                </a:lnTo>
                <a:lnTo>
                  <a:pt x="17112" y="17989"/>
                </a:lnTo>
                <a:lnTo>
                  <a:pt x="17112" y="10800"/>
                </a:lnTo>
                <a:lnTo>
                  <a:pt x="6493" y="10800"/>
                </a:lnTo>
                <a:lnTo>
                  <a:pt x="6493" y="17989"/>
                </a:lnTo>
                <a:lnTo>
                  <a:pt x="10880" y="17989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5E32A-4EC8-4263-BBBD-D2663BAE86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ИКТ компетентность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етентности в области информационных и коммуникационных технолог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КТ компетентность – как способность индивида решать учебные, бытовые, профессиональные задачи с использованием информационных и коммуникационных технологий.  ИКТ компетентность проявляется, прежде всего, в деятельности при решении различных задач, которые могут быть решены с привлечением компьютера, средств телекоммуникаций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д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>
            <a:hlinkClick r:id="" action="ppaction://hlinkshowjump?jump=previousslide"/>
          </p:cNvPr>
          <p:cNvSpPr/>
          <p:nvPr/>
        </p:nvSpPr>
        <p:spPr>
          <a:xfrm>
            <a:off x="6767640" y="6273720"/>
            <a:ext cx="395280" cy="395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395280"/>
              <a:gd name="textAreaBottom" fmla="*/ 369720 h 3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4360" y="6200640"/>
            <a:ext cx="395280" cy="51300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513000"/>
              <a:gd name="textAreaBottom" fmla="*/ 487440 h 513000"/>
            </a:gdLst>
            <a:ahLst/>
            <a:rect l="textAreaLeft" t="textAreaTop" r="textAreaRight" b="textAreaBottom"/>
            <a:pathLst>
              <a:path w="21600" h="28027">
                <a:moveTo>
                  <a:pt x="0" y="0"/>
                </a:moveTo>
                <a:lnTo>
                  <a:pt x="21600" y="0"/>
                </a:lnTo>
                <a:lnTo>
                  <a:pt x="21600" y="28027"/>
                </a:lnTo>
                <a:lnTo>
                  <a:pt x="0" y="28027"/>
                </a:lnTo>
                <a:close/>
              </a:path>
              <a:path fill="lightenLess" w="21600" h="2802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27">
                <a:moveTo>
                  <a:pt x="21600" y="0"/>
                </a:moveTo>
                <a:lnTo>
                  <a:pt x="21600" y="28027"/>
                </a:lnTo>
                <a:lnTo>
                  <a:pt x="20200" y="26627"/>
                </a:lnTo>
                <a:lnTo>
                  <a:pt x="20200" y="1400"/>
                </a:lnTo>
                <a:close/>
              </a:path>
              <a:path fill="darkenLess" w="21600" h="28027">
                <a:moveTo>
                  <a:pt x="21600" y="28027"/>
                </a:moveTo>
                <a:lnTo>
                  <a:pt x="0" y="28027"/>
                </a:lnTo>
                <a:lnTo>
                  <a:pt x="1400" y="26627"/>
                </a:lnTo>
                <a:lnTo>
                  <a:pt x="20200" y="26627"/>
                </a:lnTo>
                <a:close/>
              </a:path>
              <a:path fill="lighten" w="21600" h="28027">
                <a:moveTo>
                  <a:pt x="0" y="28027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27"/>
                </a:lnTo>
                <a:close/>
              </a:path>
              <a:path fill="darken" w="21600" h="28027">
                <a:moveTo>
                  <a:pt x="10800" y="7051"/>
                </a:moveTo>
                <a:lnTo>
                  <a:pt x="13376" y="9662"/>
                </a:lnTo>
                <a:lnTo>
                  <a:pt x="13376" y="7921"/>
                </a:lnTo>
                <a:lnTo>
                  <a:pt x="15152" y="7921"/>
                </a:lnTo>
                <a:lnTo>
                  <a:pt x="15152" y="11437"/>
                </a:lnTo>
                <a:lnTo>
                  <a:pt x="17763" y="14013"/>
                </a:lnTo>
                <a:lnTo>
                  <a:pt x="16109" y="14013"/>
                </a:lnTo>
                <a:lnTo>
                  <a:pt x="16109" y="21203"/>
                </a:lnTo>
                <a:lnTo>
                  <a:pt x="5491" y="21203"/>
                </a:lnTo>
                <a:lnTo>
                  <a:pt x="5491" y="14013"/>
                </a:lnTo>
                <a:lnTo>
                  <a:pt x="3837" y="14013"/>
                </a:lnTo>
                <a:close/>
              </a:path>
              <a:path fill="darkenLess" w="21600" h="28027">
                <a:moveTo>
                  <a:pt x="13376" y="9662"/>
                </a:moveTo>
                <a:lnTo>
                  <a:pt x="13376" y="7921"/>
                </a:lnTo>
                <a:lnTo>
                  <a:pt x="15152" y="7921"/>
                </a:lnTo>
                <a:lnTo>
                  <a:pt x="15152" y="11437"/>
                </a:lnTo>
                <a:close/>
              </a:path>
              <a:path fill="darkenLess" w="21600" h="28027">
                <a:moveTo>
                  <a:pt x="9877" y="17512"/>
                </a:moveTo>
                <a:lnTo>
                  <a:pt x="11723" y="17512"/>
                </a:lnTo>
                <a:lnTo>
                  <a:pt x="11723" y="21203"/>
                </a:lnTo>
                <a:lnTo>
                  <a:pt x="16109" y="21203"/>
                </a:lnTo>
                <a:lnTo>
                  <a:pt x="16109" y="14013"/>
                </a:lnTo>
                <a:lnTo>
                  <a:pt x="5491" y="14013"/>
                </a:lnTo>
                <a:lnTo>
                  <a:pt x="5491" y="21203"/>
                </a:lnTo>
                <a:lnTo>
                  <a:pt x="9877" y="21203"/>
                </a:lnTo>
                <a:close/>
              </a:path>
            </a:pathLst>
          </a:cu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E54F3-3AC4-4C3E-8385-C85E30BBE6B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2T07:45:19Z</dcterms:created>
  <dc:creator>Кафедра ИКТ</dc:creator>
  <dc:description/>
  <dc:language>en-US</dc:language>
  <cp:lastModifiedBy>www.PHILka.RU</cp:lastModifiedBy>
  <dcterms:modified xsi:type="dcterms:W3CDTF">2011-11-01T17:22:27Z</dcterms:modified>
  <cp:revision>20</cp:revision>
  <dc:subject/>
  <dc:title>Использование ИКТ в образовательном процессе</dc:title>
</cp:coreProperties>
</file>