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082099F3-A2C0-4432-9E26-4E9808E86DF7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539640" y="404640"/>
            <a:ext cx="6877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Средневековый портрет Архимеда"/>
          <p:cNvPicPr/>
          <p:nvPr/>
        </p:nvPicPr>
        <p:blipFill>
          <a:blip r:embed="rId2"/>
          <a:stretch/>
        </p:blipFill>
        <p:spPr>
          <a:xfrm>
            <a:off x="539640" y="765000"/>
            <a:ext cx="2914920" cy="326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84720" y="620640"/>
            <a:ext cx="4464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не можете ничего поделать с длиной вашей жизни, но можете сделать многое с её шириной и глубиной.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х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9647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35cb1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35cb1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35cb1"/>
                </a:solidFill>
                <a:latin typeface="Arial"/>
              </a:rPr>
              <a:t>Сила, выталкивающая целиком погружённое в жидкость тело, равна весу жидкости в объёме этого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cb1"/>
                </a:solidFill>
                <a:latin typeface="Arial"/>
              </a:rPr>
              <a:t>Мертвое 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00720" y="1267920"/>
            <a:ext cx="4114800" cy="211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солёностью в 33.7% Мертвое море — один из самых соленых водоемов в ми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мёртвое море"/>
          <p:cNvPicPr/>
          <p:nvPr/>
        </p:nvPicPr>
        <p:blipFill>
          <a:blip r:embed="rId1"/>
          <a:stretch/>
        </p:blipFill>
        <p:spPr>
          <a:xfrm>
            <a:off x="324000" y="1268280"/>
            <a:ext cx="4103640" cy="2792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003640" y="3573360"/>
            <a:ext cx="3152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cb1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9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9 упр.24(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ить действие выталкивающей силы в ван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сообщение на тему: «Архимед», «Открытия Архиме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35cb1"/>
                </a:solidFill>
                <a:latin typeface="Arial"/>
              </a:rPr>
              <a:t>Формула выталкивающей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82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выт = Рв воздухе – Рв в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8820000" cy="2813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54936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cb1"/>
                </a:solidFill>
                <a:latin typeface="Times New Roman"/>
                <a:ea typeface="Times New Roman"/>
              </a:rPr>
              <a:t>Выталкивающая с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cb1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каких величин зависит выталкивающая си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cb1"/>
                </a:solidFill>
                <a:latin typeface="Arial"/>
              </a:rPr>
              <a:t>Эксперимента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4691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опыт я ставлю выше, чем тысячу мнений, рожденных только воображен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В.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600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26280" bIns="26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                       2 груп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176720" cy="2548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4151160" cy="2522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1280" y="3933720"/>
            <a:ext cx="3816360" cy="2605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rcRect l="4334" t="0" r="5201" b="0"/>
          <a:stretch/>
        </p:blipFill>
        <p:spPr>
          <a:xfrm>
            <a:off x="5076720" y="3860640"/>
            <a:ext cx="3456000" cy="2786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26920" y="328464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                       4 груп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-17640"/>
            <a:ext cx="8147160" cy="61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72320" cy="2835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627280" y="54936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cb1"/>
                </a:solidFill>
                <a:latin typeface="Times New Roman"/>
                <a:ea typeface="Times New Roman"/>
              </a:rPr>
              <a:t>Выталкивающая с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40000" y="274680"/>
            <a:ext cx="634680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35cb1"/>
                </a:solidFill>
                <a:latin typeface="Arial"/>
              </a:rPr>
              <a:t>Тема</a:t>
            </a:r>
            <a:r>
              <a:rPr b="1" lang="ru-RU" sz="4000" spc="-1" strike="noStrike">
                <a:solidFill>
                  <a:srgbClr val="235cb1"/>
                </a:solidFill>
                <a:latin typeface="Arial"/>
              </a:rPr>
              <a:t>: Архимедова с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581280" cy="1297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5954" t="16447" r="74427" b="16447"/>
          <a:stretch/>
        </p:blipFill>
        <p:spPr>
          <a:xfrm>
            <a:off x="1042920" y="2276640"/>
            <a:ext cx="1008000" cy="863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38702" t="16447" r="38702" b="16447"/>
          <a:stretch/>
        </p:blipFill>
        <p:spPr>
          <a:xfrm>
            <a:off x="1187280" y="3357720"/>
            <a:ext cx="809640" cy="869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56564" t="16447" r="23817" b="16447"/>
          <a:stretch/>
        </p:blipFill>
        <p:spPr>
          <a:xfrm>
            <a:off x="1116000" y="4508640"/>
            <a:ext cx="703440" cy="871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rcRect l="74427" t="16447" r="0" b="16447"/>
          <a:stretch/>
        </p:blipFill>
        <p:spPr>
          <a:xfrm>
            <a:off x="1042920" y="5589720"/>
            <a:ext cx="917640" cy="871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Средневековый портрет Архимеда"/>
          <p:cNvPicPr/>
          <p:nvPr/>
        </p:nvPicPr>
        <p:blipFill>
          <a:blip r:embed="rId6"/>
          <a:stretch/>
        </p:blipFill>
        <p:spPr>
          <a:xfrm>
            <a:off x="324000" y="189000"/>
            <a:ext cx="2208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cb1"/>
                </a:solidFill>
                <a:latin typeface="Arial"/>
              </a:rPr>
              <a:t>Легенда об Архиме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ancesco Marino / FreeDigitalPhotos.net </dc:description>
  <dc:language>en-US</dc:language>
  <cp:lastModifiedBy>Liliya</cp:lastModifiedBy>
  <dcterms:modified xsi:type="dcterms:W3CDTF">2015-02-20T16:05:02Z</dcterms:modified>
  <cp:revision>40</cp:revision>
  <dc:subject/>
  <dc:title>Blue Water Flow</dc:title>
</cp:coreProperties>
</file>