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2517-CBF0-4332-9D8F-B20494E1E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0E3-3245-4540-8B04-6E49CF90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9A7-1DB5-47EE-B09E-6D54B837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4833-8C39-4887-B48C-FA1AF33A7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7C43E-48E2-4016-BC70-D60E209D6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A151-C723-4E38-9C4E-1CD2B8D7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2F75-138B-4A32-B666-3460CDD63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037B-5F7D-4441-841C-6E5FCB403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78D4-0CFB-42DB-9B30-6395E3F9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E4D6-98AC-485C-B47B-0C0D241D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98E7-2459-40E6-9CEF-B7C6AFBF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FCFC-3871-40DE-B3DA-53A81819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3553-55DF-4EA9-994B-0899A1AE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5225-E7EE-48AF-A3D6-8F0790576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7A22-E8A8-4092-90C0-7B4D674E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5CC53-26B9-4817-9A89-0EEB3B261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01FD-A555-4D2A-B5E6-A5B8B4B7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A9E9-DEE3-42DB-AE0E-E51833C5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2575-4DE4-429F-9D3D-F1085525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F03-D3BC-406D-A727-BC636931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F968-F0E3-47C2-B7C2-F98E1807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B008-1AA2-474F-AF1F-B2EDE61B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72AB-F7BE-4A8D-8E50-89E81FE7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A2B-9F67-43D0-9B3C-B87D51B6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1D6D-1DE5-439C-99B5-C13F5A98EE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175F1-192D-4701-BCF7-0DAB7CE0210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Ход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Организационный моме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ряем готовность к уро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4" descr="j0233018"/>
          <p:cNvPicPr/>
          <p:nvPr/>
        </p:nvPicPr>
        <p:blipFill>
          <a:blip r:embed="rId1"/>
          <a:stretch/>
        </p:blipFill>
        <p:spPr>
          <a:xfrm>
            <a:off x="2771640" y="3357720"/>
            <a:ext cx="3311640" cy="3190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Единицы измерения плотно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И: 1кг/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(килограмм на кубический мет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Е: 1г/с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= 1000 кг/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равнение плотности воды, льда и водяного пар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9" name="Picture 7" descr="2B3975BC"/>
          <p:cNvPicPr/>
          <p:nvPr/>
        </p:nvPicPr>
        <p:blipFill>
          <a:blip r:embed="rId1"/>
          <a:srcRect l="18347" t="13498" r="18347" b="11249"/>
          <a:stretch/>
        </p:blipFill>
        <p:spPr>
          <a:xfrm>
            <a:off x="539640" y="1600200"/>
            <a:ext cx="3672000" cy="452592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отность одного и того же вещества в твердом, жидком и газообразном состояниях различ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3.Закреп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 какой физической величиной вы познакомилис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оказывает плотнос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 находят плотнос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каких единицах в СИ измеряют плотнос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порный конспек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4" name="Picture 4" descr="C:\Documents and Settings\Teacher\Рабочий стол\ОК плотность.jpg"/>
          <p:cNvPicPr/>
          <p:nvPr/>
        </p:nvPicPr>
        <p:blipFill>
          <a:blip r:embed="rId1"/>
          <a:stretch/>
        </p:blipFill>
        <p:spPr>
          <a:xfrm>
            <a:off x="1209600" y="1600200"/>
            <a:ext cx="6724800" cy="452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ражение плотности в г/см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900кг/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7800кг/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40кг/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0,9г/с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7,8г/с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0,24г/с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ыражение плотности в кг/м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,03г/с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,8г/с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,5г/с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030кг/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800кг/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500кг/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русок объемом 0,0003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меет массу 1,2кг. Определите плотность вещества, из которого сделан брус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но:             Решение:                          к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0,0003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/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,2кг:0,0003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4000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,2кг                                                     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—————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твет: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4000кг/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Line 4"/>
          <p:cNvSpPr/>
          <p:nvPr/>
        </p:nvSpPr>
        <p:spPr>
          <a:xfrm>
            <a:off x="2484360" y="3357720"/>
            <a:ext cx="0" cy="215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тофелина массой 59г имеет объем 50с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.Определите плотность картофел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но: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Решени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9г         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/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=59г:50с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=1,18г/с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=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0с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————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твет: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=1,18г/с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-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>
            <a:off x="2195640" y="350028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шение задач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са некоторого вещества, взятого в объеме 0,2с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, равна 3,86г. Что это за вещество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ано:                    Реше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0,2с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l-GR" sz="32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/V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3,86г:0,2с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19,3г/с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3,86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—————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твет: вещество-золо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ещество-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2484360" y="34290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5"/>
          <p:cNvSpPr/>
          <p:nvPr/>
        </p:nvSpPr>
        <p:spPr>
          <a:xfrm>
            <a:off x="2411280" y="3500280"/>
            <a:ext cx="0" cy="187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1. Плотность – это физическая величина, показывающая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А)…сколько в теле молеку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Б)…чему равна масса тела из данного веще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)… что массы разных тел неодинаков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)… какова масса 1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веще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№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2. Как определить плотность веществ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А) Измерить массу тела, сделанного из этого веще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Б)Определить массу тела и его размер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)Найти массу тела из данного вещества, его объем и разделить массу на объ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Г) Сравнить массы двух тел из данного веществ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№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3. Плотность нефти 800кг/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. Что это значит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А) Что 1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 нефти имеет массу, равную 800кг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Б) Что масса нефти должна быть выражена в кг, а объем в м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  <a:ea typeface="Arial"/>
              </a:rPr>
              <a:t>В) Что масса нефти равна 800кг при любом объем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2.Постановка учебной проблем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елезное ведро         Пластмассовое ведр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&gt;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Picture 8" descr="16CC5A29"/>
          <p:cNvPicPr/>
          <p:nvPr/>
        </p:nvPicPr>
        <p:blipFill>
          <a:blip r:embed="rId1"/>
          <a:srcRect l="2569" t="0" r="72894" b="32270"/>
          <a:stretch/>
        </p:blipFill>
        <p:spPr>
          <a:xfrm>
            <a:off x="1187280" y="1600200"/>
            <a:ext cx="2592720" cy="21859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16CC5A29"/>
          <p:cNvPicPr/>
          <p:nvPr/>
        </p:nvPicPr>
        <p:blipFill>
          <a:blip r:embed="rId2"/>
          <a:srcRect l="2569" t="0" r="72894" b="32270"/>
          <a:stretch/>
        </p:blipFill>
        <p:spPr>
          <a:xfrm>
            <a:off x="5003640" y="1600200"/>
            <a:ext cx="2521080" cy="2185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с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Плотность стекла 2500кг/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. Выразите ее в г/с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)2500г/с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) 2,5г/с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)250г/с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)25г/с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№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5. Плотность алюминия 2,7г/с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. Выразите ее в кг/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)2,7кг/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) 27кг/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)270кг/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)2700кг/м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№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6. На рисунке показаны три шара, имеющие равные массы. Какой из них обладает наибольшей плотностью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) №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) №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) №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) Плотности шаров одинаков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№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7. Какой из кубиков равного объема, представленных на рисунке, имеет наименьшую плотност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А) №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Б) №2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) №3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Г) Плотности одинаков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C:\Documents and Settings\Teacher\Рабочий стол\к тесту плотность 2.jpg"/>
          <p:cNvPicPr/>
          <p:nvPr/>
        </p:nvPicPr>
        <p:blipFill>
          <a:blip r:embed="rId1"/>
          <a:stretch/>
        </p:blipFill>
        <p:spPr>
          <a:xfrm>
            <a:off x="6156360" y="3716280"/>
            <a:ext cx="2232000" cy="792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C:\Documents and Settings\Teacher\Рабочий стол\к тесту плотность 1.jpg"/>
          <p:cNvPicPr/>
          <p:nvPr/>
        </p:nvPicPr>
        <p:blipFill>
          <a:blip r:embed="rId2"/>
          <a:stretch/>
        </p:blipFill>
        <p:spPr>
          <a:xfrm>
            <a:off x="5724360" y="5013360"/>
            <a:ext cx="1584360" cy="88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равильные отве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 –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 – 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 –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 –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 – 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 – 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 - 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4. Итог уро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должите фразу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годня на уроке я узнал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годня на уроке я научился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5. Домашне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21- изучи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Упражнение №7 (2-у, 4-п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отность веществ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70FE8AFA"/>
          <p:cNvPicPr/>
          <p:nvPr/>
        </p:nvPicPr>
        <p:blipFill>
          <a:blip r:embed="rId1"/>
          <a:srcRect l="7674" t="16724" r="7674" b="16724"/>
          <a:stretch/>
        </p:blipFill>
        <p:spPr>
          <a:xfrm>
            <a:off x="468360" y="162864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накомиться с  понятием плотность веществ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ать словесную формулировку плотности и записать формулу для ее расче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знакомиться с единицами плотност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работать умения вычислять плотность, зная массу и объем, пользоваться таблицей плотностей, преобразовывать числовые значения плот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7" descr="D477AF2A"/>
          <p:cNvPicPr/>
          <p:nvPr/>
        </p:nvPicPr>
        <p:blipFill>
          <a:blip r:embed="rId1"/>
          <a:srcRect l="20835" t="0" r="12501" b="18407"/>
          <a:stretch/>
        </p:blipFill>
        <p:spPr>
          <a:xfrm>
            <a:off x="468360" y="1628640"/>
            <a:ext cx="4174920" cy="44643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59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зучение нового материал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спериментально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Picture 7" descr="D1B14970"/>
          <p:cNvPicPr/>
          <p:nvPr/>
        </p:nvPicPr>
        <p:blipFill>
          <a:blip r:embed="rId1"/>
          <a:srcRect l="22189" t="19056" r="22189" b="19056"/>
          <a:stretch/>
        </p:blipFill>
        <p:spPr>
          <a:xfrm>
            <a:off x="531720" y="1600200"/>
            <a:ext cx="3888000" cy="452592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а, имеющие равные объемы, но изготовленные из разных веществ, имеют разные мас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спериментальное зад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ла с равными массами, изготовленные из разных веществ, имеют разные объ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6" descr="450720FE"/>
          <p:cNvPicPr/>
          <p:nvPr/>
        </p:nvPicPr>
        <p:blipFill>
          <a:blip r:embed="rId1"/>
          <a:srcRect l="17282" t="17633" r="17282" b="17633"/>
          <a:stretch/>
        </p:blipFill>
        <p:spPr>
          <a:xfrm>
            <a:off x="684360" y="1700280"/>
            <a:ext cx="367164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отность показывае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му равна масса вещества в единице объем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ОТНОСТЬ=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———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БЪ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                    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МАССА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ЛОТНОСТЬ=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  <a:ea typeface="Arial"/>
              </a:rPr>
              <a:t>———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  <a:ea typeface="Arial"/>
              </a:rPr>
              <a:t>                           ОБЪЕ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640" y="2492280"/>
            <a:ext cx="8229600" cy="39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лотность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кг/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l-GR" sz="2800" spc="-1" strike="noStrike">
                <a:solidFill>
                  <a:srgbClr val="ffffff"/>
                </a:solidFill>
                <a:latin typeface="Arial"/>
                <a:ea typeface="Arial"/>
              </a:rPr>
              <a:t>ρ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=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асса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кг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бъем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м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³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1T09:20:18Z</dcterms:created>
  <dc:creator>1</dc:creator>
  <dc:description/>
  <dc:language>en-US</dc:language>
  <cp:lastModifiedBy>Teacher</cp:lastModifiedBy>
  <dcterms:modified xsi:type="dcterms:W3CDTF">2014-11-27T06:05:08Z</dcterms:modified>
  <cp:revision>14</cp:revision>
  <dc:subject/>
  <dc:title>Слайд 1</dc:title>
</cp:coreProperties>
</file>