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9.gif" ContentType="image/gif"/>
  <Override PartName="/ppt/media/image7.gif" ContentType="image/gif"/>
  <Override PartName="/ppt/media/image5.jpeg" ContentType="image/jpeg"/>
  <Override PartName="/ppt/media/image6.gif" ContentType="image/gif"/>
  <Override PartName="/ppt/media/image8.gif" ContentType="image/gif"/>
  <Override PartName="/ppt/media/image18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5BBA-1706-4620-98E9-9B58B7502D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2C3E-1A34-43AC-8D19-8468BBDD904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03977-F338-486A-976A-D27CFB0C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3648B-7C8B-4461-A429-08DDF498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42514-A84D-4A62-9943-FAD77688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F0CF-A19F-4174-9226-DC9EE278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E8E7-163A-47AC-AF41-3297752C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5C2C-F57D-42F1-B1A0-E5B8E7CE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01D2-C3E8-4776-83E7-60ED5711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3C4A-3670-41CD-AB04-7832D9E0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D471-E91A-467B-BE4B-5BDF112F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A89D-F13B-4F5D-93CE-46C027FF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0C7C-892F-4087-83A1-BECF2FCB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03D2B-42B5-4C2D-9A5B-816BFE6D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F9E9-F362-4C9F-9141-FD4E775F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D5AA-04BA-4143-A109-4F7E44DE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95A4-DD9F-43D9-86A0-B5D331DD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0C06-4BB6-4E23-805E-61FE990D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B157-E88A-4E7A-9EB3-7E9FA7EA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3FACA-CBB8-4968-9493-851C797B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2921-0271-417B-8498-7478F29E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91ECE-90CA-4DCF-A3C9-2DC94648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30334-060F-48C3-8E7D-D70DA790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8BEBF-6013-4335-AD25-2F6B4867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DAD8C-16BF-4DDD-BD3A-160C6D37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26A80-29D3-4B38-9248-92832014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2AE39-13A0-41DE-8E87-272BDBD0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6E8D4-CB4C-4B6F-953D-A32D57C0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D28C3-05AC-4A63-BD46-FA31EB42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E4BF9-73C3-49EE-AA5D-35A8D8E3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BCE8-46EA-4B19-B4BC-49063E79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DCEF2-2F3D-4EB6-A8B0-1F53092A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FFBFB-8DE2-49DC-8C69-6821E93C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B1651-FEC1-4291-8461-08FB075E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1C75C-E988-4C81-B345-562A9CF6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EB9DE-93B8-4578-A70F-8AE4B786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40145-7C17-42A6-B537-4D4E3F17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6FE0-7356-494F-9722-9698740D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кина Н.В., учитель физики и информатики МОУ "СОШ №3 с. Алакуртти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FF64-E40E-40B9-88FC-C66BC88B8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48EA-6DA9-4F74-B174-5D28DF13ED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502F-318D-40A3-A60C-1E6AC879B0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:\Documents and Settings\Наташа\Рабочий стол\Новый рисунок.jpg"/>
          <p:cNvPicPr/>
          <p:nvPr/>
        </p:nvPicPr>
        <p:blipFill>
          <a:blip r:embed="rId2"/>
          <a:stretch/>
        </p:blipFill>
        <p:spPr>
          <a:xfrm>
            <a:off x="642960" y="1119240"/>
            <a:ext cx="7858080" cy="52624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8"/>
          <p:cNvSpPr/>
          <p:nvPr/>
        </p:nvSpPr>
        <p:spPr>
          <a:xfrm>
            <a:off x="0" y="115920"/>
            <a:ext cx="9144000" cy="2089080"/>
          </a:xfrm>
          <a:custGeom>
            <a:avLst/>
            <a:gdLst>
              <a:gd name="textAreaLeft" fmla="*/ 1532880 w 9144000"/>
              <a:gd name="textAreaRight" fmla="*/ 7611120 w 9144000"/>
              <a:gd name="textAreaTop" fmla="*/ 222120 h 2089080"/>
              <a:gd name="textAreaBottom" fmla="*/ 13273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7878"/>
                </a:moveTo>
                <a:arcTo wR="21600" hR="40418" stAng="-6428836" swAng="388921"/>
                <a:lnTo>
                  <a:pt x="3621" y="2298"/>
                </a:lnTo>
                <a:arcTo wR="21600" hR="40418" stAng="-6039915" swAng="1279831"/>
                <a:lnTo>
                  <a:pt x="17979" y="4761"/>
                </a:lnTo>
                <a:arcTo wR="21600" hR="40418" stAng="-4760085" swAng="388921"/>
                <a:lnTo>
                  <a:pt x="18900" y="12273"/>
                </a:lnTo>
                <a:lnTo>
                  <a:pt x="21600" y="21600"/>
                </a:lnTo>
                <a:lnTo>
                  <a:pt x="21600" y="21600"/>
                </a:lnTo>
                <a:arcTo wR="21600" hR="40418" stAng="-4371164" swAng="-641066"/>
                <a:lnTo>
                  <a:pt x="15279" y="14601"/>
                </a:lnTo>
                <a:arcTo wR="21600" hR="40418" stAng="-5012230" swAng="-775541"/>
                <a:lnTo>
                  <a:pt x="6321" y="17064"/>
                </a:lnTo>
                <a:arcTo wR="21600" hR="40418" stAng="-5787770" swAng="-641066"/>
                <a:lnTo>
                  <a:pt x="2700" y="12273"/>
                </a:lnTo>
                <a:close/>
              </a:path>
              <a:path fill="none" w="21600" h="21600">
                <a:moveTo>
                  <a:pt x="6321" y="14601"/>
                </a:moveTo>
                <a:arcTo wR="21600" hR="40418" stAng="-5787770" swAng="-252145"/>
                <a:lnTo>
                  <a:pt x="6321" y="17064"/>
                </a:lnTo>
              </a:path>
              <a:path fill="none" w="21600" h="21600">
                <a:moveTo>
                  <a:pt x="15279" y="14601"/>
                </a:moveTo>
                <a:arcTo wR="21600" hR="40418" stAng="-5012230" swAng="252145"/>
                <a:lnTo>
                  <a:pt x="15279" y="17064"/>
                </a:lnTo>
              </a:path>
              <a:path fill="none" w="21600" h="21600">
                <a:moveTo>
                  <a:pt x="3621" y="4761"/>
                </a:moveTo>
                <a:lnTo>
                  <a:pt x="3621" y="16020"/>
                </a:lnTo>
              </a:path>
              <a:path fill="none" w="21600" h="21600">
                <a:moveTo>
                  <a:pt x="17979" y="4761"/>
                </a:moveTo>
                <a:lnTo>
                  <a:pt x="17979" y="1602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ГОРО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ahoma"/>
              </a:rPr>
              <a:t>ВЕЩЕ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АГРЕГАТНЫЕ СОСТОЯНИЯ ВЕЩЕСТВ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620640"/>
            <a:ext cx="5545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ГАЗ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не имеет собственной формы и объема. Они принимают форму сосуда и полностью заполняют предоставленный им объем. Молекулы газа, двигаясь во всех направлениях, почти не притягиваются друг к другу и легко сжимают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ЖИДКОСТЬ: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легко меняет свою форму, но сохраняет объем. Молекулы жидкости не расходятся на большие расстояния и поскольку притяжение между молекулами не так велико, то они текуч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ТВЕРДЫЕ ТЕЛА: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имеет собственную форму и объем. Притяжение между молекулами очень большое и молекулы находятся в строгом порядке. Молекулы или атомы колеблются около положения равновесия и не могут далеко переместится от не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8748720" y="645336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7895"/>
                </a:moveTo>
                <a:lnTo>
                  <a:pt x="7301" y="7895"/>
                </a:lnTo>
                <a:lnTo>
                  <a:pt x="7301" y="13230"/>
                </a:lnTo>
                <a:cubicBezTo>
                  <a:pt x="7301" y="14153"/>
                  <a:pt x="8102" y="14884"/>
                  <a:pt x="9138" y="14884"/>
                </a:cubicBezTo>
                <a:lnTo>
                  <a:pt x="10800" y="14884"/>
                </a:lnTo>
                <a:cubicBezTo>
                  <a:pt x="11836" y="14884"/>
                  <a:pt x="12636" y="14153"/>
                  <a:pt x="12636" y="13230"/>
                </a:cubicBezTo>
                <a:lnTo>
                  <a:pt x="12636" y="7895"/>
                </a:lnTo>
                <a:lnTo>
                  <a:pt x="10800" y="7895"/>
                </a:lnTo>
                <a:lnTo>
                  <a:pt x="14308" y="4387"/>
                </a:lnTo>
                <a:lnTo>
                  <a:pt x="17981" y="7895"/>
                </a:lnTo>
                <a:lnTo>
                  <a:pt x="16144" y="7895"/>
                </a:lnTo>
                <a:lnTo>
                  <a:pt x="16144" y="13230"/>
                </a:lnTo>
                <a:cubicBezTo>
                  <a:pt x="16144" y="15998"/>
                  <a:pt x="13568" y="18557"/>
                  <a:pt x="10800" y="18557"/>
                </a:cubicBezTo>
                <a:lnTo>
                  <a:pt x="9138" y="18557"/>
                </a:lnTo>
                <a:cubicBezTo>
                  <a:pt x="6370" y="18557"/>
                  <a:pt x="3794" y="15998"/>
                  <a:pt x="3794" y="13230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9" descr="C:\Documents and Settings\Наташа\Рабочий стол\Новый рисунок (6).jpg"/>
          <p:cNvPicPr/>
          <p:nvPr/>
        </p:nvPicPr>
        <p:blipFill>
          <a:blip r:embed="rId5"/>
          <a:stretch/>
        </p:blipFill>
        <p:spPr>
          <a:xfrm>
            <a:off x="5715000" y="642960"/>
            <a:ext cx="1978200" cy="1514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C:\Documents and Settings\Наташа\Рабочий стол\Новый рисунок (7).jpg"/>
          <p:cNvPicPr/>
          <p:nvPr/>
        </p:nvPicPr>
        <p:blipFill>
          <a:blip r:embed="rId6"/>
          <a:stretch/>
        </p:blipFill>
        <p:spPr>
          <a:xfrm>
            <a:off x="7000920" y="2214720"/>
            <a:ext cx="1928880" cy="2020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C:\Documents and Settings\Наташа\Рабочий стол\Новый рисунок (8).jpg"/>
          <p:cNvPicPr/>
          <p:nvPr/>
        </p:nvPicPr>
        <p:blipFill>
          <a:blip r:embed="rId7"/>
          <a:stretch/>
        </p:blipFill>
        <p:spPr>
          <a:xfrm>
            <a:off x="5570640" y="4357800"/>
            <a:ext cx="20016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411480"/>
            <a:ext cx="37418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179280" y="189000"/>
            <a:ext cx="7056720" cy="5256000"/>
          </a:xfrm>
          <a:custGeom>
            <a:avLst/>
            <a:gdLst>
              <a:gd name="textAreaLeft" fmla="*/ 1611000 w 7056720"/>
              <a:gd name="textAreaRight" fmla="*/ 5445720 w 7056720"/>
              <a:gd name="textAreaTop" fmla="*/ 1199880 h 5256000"/>
              <a:gd name="textAreaBottom" fmla="*/ 4056120 h 525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ГОР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ВЕЩЕСТВ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3"/>
          <p:cNvSpPr/>
          <p:nvPr/>
        </p:nvSpPr>
        <p:spPr>
          <a:xfrm rot="10800000">
            <a:off x="179280" y="4581000"/>
            <a:ext cx="2952720" cy="2087640"/>
          </a:xfrm>
          <a:prstGeom prst="wedgeEllipseCallout">
            <a:avLst>
              <a:gd name="adj1" fmla="val -59250"/>
              <a:gd name="adj2" fmla="val 6512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92760" y="4941720"/>
            <a:ext cx="260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КАРТИННАЯ</a:t>
            </a: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ГАЛЕР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J0336902"/>
          <p:cNvPicPr/>
          <p:nvPr/>
        </p:nvPicPr>
        <p:blipFill>
          <a:blip r:embed="rId3"/>
          <a:stretch/>
        </p:blipFill>
        <p:spPr>
          <a:xfrm>
            <a:off x="1258920" y="5950080"/>
            <a:ext cx="1079640" cy="7189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6"/>
          <p:cNvSpPr/>
          <p:nvPr/>
        </p:nvSpPr>
        <p:spPr>
          <a:xfrm>
            <a:off x="324000" y="333360"/>
            <a:ext cx="3168360" cy="1800360"/>
          </a:xfrm>
          <a:prstGeom prst="wedgeEllipseCallout">
            <a:avLst>
              <a:gd name="adj1" fmla="val 34268"/>
              <a:gd name="adj2" fmla="val 7213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8560" y="765000"/>
            <a:ext cx="28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МАСТЕРС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4932360" y="260280"/>
            <a:ext cx="3887640" cy="2089080"/>
          </a:xfrm>
          <a:prstGeom prst="wedgeEllipseCallout">
            <a:avLst>
              <a:gd name="adj1" fmla="val -40282"/>
              <a:gd name="adj2" fmla="val 5934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590800" y="404640"/>
            <a:ext cx="257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НАСЕЛЕНИЕ</a:t>
            </a: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ГОР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5508720" y="4797360"/>
            <a:ext cx="3456000" cy="1871640"/>
          </a:xfrm>
          <a:prstGeom prst="wedgeEllipseCallout">
            <a:avLst>
              <a:gd name="adj1" fmla="val -31625"/>
              <a:gd name="adj2" fmla="val -8053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5940360" y="501336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ПРАВИЛ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ПЕРЕДВИ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2" descr="J0336907"/>
          <p:cNvPicPr/>
          <p:nvPr/>
        </p:nvPicPr>
        <p:blipFill>
          <a:blip r:embed="rId4"/>
          <a:stretch/>
        </p:blipFill>
        <p:spPr>
          <a:xfrm>
            <a:off x="6948360" y="5805360"/>
            <a:ext cx="936720" cy="876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J0336900"/>
          <p:cNvPicPr/>
          <p:nvPr/>
        </p:nvPicPr>
        <p:blipFill>
          <a:blip r:embed="rId5"/>
          <a:stretch/>
        </p:blipFill>
        <p:spPr>
          <a:xfrm>
            <a:off x="6443640" y="1484280"/>
            <a:ext cx="920880" cy="722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J0336892"/>
          <p:cNvPicPr/>
          <p:nvPr/>
        </p:nvPicPr>
        <p:blipFill>
          <a:blip r:embed="rId6"/>
          <a:stretch/>
        </p:blipFill>
        <p:spPr>
          <a:xfrm>
            <a:off x="1476360" y="1197000"/>
            <a:ext cx="1150920" cy="89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учены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564000" y="981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755640" y="37926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6300720" y="105264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Демокри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635280" y="314172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Ломоносов М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227640" y="314172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Галилео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Гали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602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Ньюто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Исаа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учены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2328840" cy="25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708360" y="1557360"/>
            <a:ext cx="1879560" cy="2592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300720" y="1557360"/>
            <a:ext cx="2024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ЗАД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9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Закончить логическую цепочку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ВЕЩЕСТВО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9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Написать основные положения теории строения веществ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9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Написать, чем отличаются агрегатные состояния веществ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3492360" y="2276640"/>
            <a:ext cx="863640" cy="215640"/>
          </a:xfrm>
          <a:prstGeom prst="rightArrow">
            <a:avLst>
              <a:gd name="adj1" fmla="val 50000"/>
              <a:gd name="adj2" fmla="val 100125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6300720" y="2276640"/>
            <a:ext cx="863640" cy="215640"/>
          </a:xfrm>
          <a:prstGeom prst="rightArrow">
            <a:avLst>
              <a:gd name="adj1" fmla="val 50000"/>
              <a:gd name="adj2" fmla="val 100125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5899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ИСТОРИЯ СТАНОВЛЕНИЯ ТЕОРИИ СТРОЕНИЯ ВЕЩЕСТВ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Первый эта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2500 лет назад древнегреческие философы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Левкипп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и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емокрит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ысказывались о строении веществ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«Ничего не существует, кроме атомов и пустого пространства; все прочие – мнение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«Различие всех предметов зависит от различия их атомов в числе и бесконечно различны по форме …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«Различие всех предметов зависит от различия их атомов в числе, величине, форме и порядке; качественного различия не существу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360" y="3865680"/>
            <a:ext cx="8120160" cy="14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ahoma"/>
              </a:rPr>
              <a:t>Второй эта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Ученые Г. Галилей, Р.Декарт, И. Ньютон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М.В. Ломоносов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, считали, что материя состоит из мельчайших неделимых частиц, и называли эти частицы корпускулами или атом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24000" y="5157720"/>
            <a:ext cx="8351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Третий эта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Ученые Д. Дальтон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Ж. Л. Гей-Луссак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А. Авогадро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дали количественное обоснование атомистической теории строения вещ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8675640" y="645336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7493"/>
                </a:moveTo>
                <a:lnTo>
                  <a:pt x="9941" y="7493"/>
                </a:lnTo>
                <a:lnTo>
                  <a:pt x="9941" y="12828"/>
                </a:lnTo>
                <a:cubicBezTo>
                  <a:pt x="9941" y="13751"/>
                  <a:pt x="10742" y="14482"/>
                  <a:pt x="11778" y="14482"/>
                </a:cubicBezTo>
                <a:lnTo>
                  <a:pt x="13440" y="14482"/>
                </a:lnTo>
                <a:cubicBezTo>
                  <a:pt x="14476" y="14482"/>
                  <a:pt x="15277" y="13751"/>
                  <a:pt x="15277" y="12828"/>
                </a:cubicBezTo>
                <a:lnTo>
                  <a:pt x="15277" y="7493"/>
                </a:lnTo>
                <a:lnTo>
                  <a:pt x="13440" y="7493"/>
                </a:lnTo>
                <a:lnTo>
                  <a:pt x="16948" y="3985"/>
                </a:lnTo>
                <a:lnTo>
                  <a:pt x="20621" y="7493"/>
                </a:lnTo>
                <a:lnTo>
                  <a:pt x="18784" y="7493"/>
                </a:lnTo>
                <a:lnTo>
                  <a:pt x="18784" y="12828"/>
                </a:lnTo>
                <a:cubicBezTo>
                  <a:pt x="18784" y="15596"/>
                  <a:pt x="16208" y="18155"/>
                  <a:pt x="13440" y="18155"/>
                </a:cubicBezTo>
                <a:lnTo>
                  <a:pt x="11778" y="18155"/>
                </a:lnTo>
                <a:cubicBezTo>
                  <a:pt x="9010" y="18155"/>
                  <a:pt x="6434" y="15596"/>
                  <a:pt x="643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ОСНОВНЫЕ ПОЛОЖЕНИЯ ТЕОРИИ СТРОЕНИЯ ВЕЩЕСТВ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424476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Все вещества состоят из отдельных частиц, между которыми есть промежут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6" descr="C:\Documents and Settings\Наташа\Рабочий стол\Новый рисунок (1).jpg"/>
          <p:cNvPicPr/>
          <p:nvPr/>
        </p:nvPicPr>
        <p:blipFill>
          <a:blip r:embed="rId2"/>
          <a:stretch/>
        </p:blipFill>
        <p:spPr>
          <a:xfrm>
            <a:off x="4786200" y="1995480"/>
            <a:ext cx="39229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4356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800000"/>
                </a:solidFill>
                <a:latin typeface="Times New Roman"/>
              </a:rPr>
              <a:t>Все частицы непрерывно и хаотично движут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281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28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800000"/>
                </a:solidFill>
                <a:latin typeface="Times New Roman"/>
              </a:rPr>
              <a:t>Между частицами действуют силы притяжения и отталки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8748720" y="6453360"/>
            <a:ext cx="287280" cy="250560"/>
          </a:xfrm>
          <a:custGeom>
            <a:avLst/>
            <a:gdLst>
              <a:gd name="textAreaLeft" fmla="*/ 16200 w 287280"/>
              <a:gd name="textAreaRight" fmla="*/ 271080 w 2872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61" h="21600">
                <a:moveTo>
                  <a:pt x="5374" y="7493"/>
                </a:moveTo>
                <a:lnTo>
                  <a:pt x="8882" y="7493"/>
                </a:lnTo>
                <a:lnTo>
                  <a:pt x="8882" y="12828"/>
                </a:lnTo>
                <a:cubicBezTo>
                  <a:pt x="8882" y="13751"/>
                  <a:pt x="9682" y="14482"/>
                  <a:pt x="10718" y="14482"/>
                </a:cubicBezTo>
                <a:lnTo>
                  <a:pt x="12380" y="14482"/>
                </a:lnTo>
                <a:cubicBezTo>
                  <a:pt x="13416" y="14482"/>
                  <a:pt x="14217" y="13751"/>
                  <a:pt x="14217" y="12828"/>
                </a:cubicBezTo>
                <a:lnTo>
                  <a:pt x="14217" y="7493"/>
                </a:lnTo>
                <a:lnTo>
                  <a:pt x="12380" y="7493"/>
                </a:lnTo>
                <a:lnTo>
                  <a:pt x="15888" y="3985"/>
                </a:lnTo>
                <a:lnTo>
                  <a:pt x="19561" y="7493"/>
                </a:lnTo>
                <a:lnTo>
                  <a:pt x="17725" y="7493"/>
                </a:lnTo>
                <a:lnTo>
                  <a:pt x="17725" y="12828"/>
                </a:lnTo>
                <a:cubicBezTo>
                  <a:pt x="17725" y="15596"/>
                  <a:pt x="15148" y="18155"/>
                  <a:pt x="12380" y="18155"/>
                </a:cubicBezTo>
                <a:lnTo>
                  <a:pt x="10718" y="18155"/>
                </a:lnTo>
                <a:cubicBezTo>
                  <a:pt x="7950" y="18155"/>
                  <a:pt x="5374" y="15596"/>
                  <a:pt x="537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7" descr="C:\Documents and Settings\Наташа\Рабочий стол\Новый рисунок (2).jpg"/>
          <p:cNvPicPr/>
          <p:nvPr/>
        </p:nvPicPr>
        <p:blipFill>
          <a:blip r:embed="rId2"/>
          <a:stretch/>
        </p:blipFill>
        <p:spPr>
          <a:xfrm>
            <a:off x="4500720" y="428760"/>
            <a:ext cx="4267080" cy="257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Documents and Settings\Наташа\Рабочий стол\Новый рисунок (3).jpg"/>
          <p:cNvPicPr/>
          <p:nvPr/>
        </p:nvPicPr>
        <p:blipFill>
          <a:blip r:embed="rId3"/>
          <a:stretch/>
        </p:blipFill>
        <p:spPr>
          <a:xfrm>
            <a:off x="4500720" y="3643200"/>
            <a:ext cx="42670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91960"/>
            <a:ext cx="8218440" cy="21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МОЛЕКУЛЫ, АТОМЫ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–</a:t>
            </a: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мельчайшие частицы вещества.</a:t>
            </a: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Молекулы состоят из атомов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8748720" y="333360"/>
            <a:ext cx="216000" cy="260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60280"/>
              <a:gd name="textAreaBottom" fmla="*/ 246600 h 260280"/>
            </a:gdLst>
            <a:ahLst/>
            <a:rect l="textAreaLeft" t="textAreaTop" r="textAreaRight" b="textAreaBottom"/>
            <a:pathLst>
              <a:path w="21600" h="26021">
                <a:moveTo>
                  <a:pt x="0" y="0"/>
                </a:moveTo>
                <a:lnTo>
                  <a:pt x="21600" y="0"/>
                </a:lnTo>
                <a:lnTo>
                  <a:pt x="21600" y="26021"/>
                </a:lnTo>
                <a:lnTo>
                  <a:pt x="0" y="26021"/>
                </a:lnTo>
                <a:close/>
              </a:path>
              <a:path fill="lightenLess" w="21600" h="26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1">
                <a:moveTo>
                  <a:pt x="21600" y="0"/>
                </a:moveTo>
                <a:lnTo>
                  <a:pt x="21600" y="26021"/>
                </a:lnTo>
                <a:lnTo>
                  <a:pt x="20200" y="24621"/>
                </a:lnTo>
                <a:lnTo>
                  <a:pt x="20200" y="1400"/>
                </a:lnTo>
                <a:close/>
              </a:path>
              <a:path fill="darkenLess" w="21600" h="26021">
                <a:moveTo>
                  <a:pt x="21600" y="26021"/>
                </a:moveTo>
                <a:lnTo>
                  <a:pt x="0" y="26021"/>
                </a:lnTo>
                <a:lnTo>
                  <a:pt x="1400" y="24621"/>
                </a:lnTo>
                <a:lnTo>
                  <a:pt x="20200" y="24621"/>
                </a:lnTo>
                <a:close/>
              </a:path>
              <a:path fill="lighten" w="21600" h="26021">
                <a:moveTo>
                  <a:pt x="0" y="26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1"/>
                </a:lnTo>
                <a:close/>
              </a:path>
              <a:path fill="darken" w="21600" h="26021">
                <a:moveTo>
                  <a:pt x="3794" y="9703"/>
                </a:moveTo>
                <a:lnTo>
                  <a:pt x="7301" y="9703"/>
                </a:lnTo>
                <a:lnTo>
                  <a:pt x="7301" y="15038"/>
                </a:lnTo>
                <a:cubicBezTo>
                  <a:pt x="7301" y="15961"/>
                  <a:pt x="8102" y="16692"/>
                  <a:pt x="9138" y="16692"/>
                </a:cubicBezTo>
                <a:lnTo>
                  <a:pt x="10800" y="16692"/>
                </a:lnTo>
                <a:cubicBezTo>
                  <a:pt x="11836" y="16692"/>
                  <a:pt x="12636" y="15961"/>
                  <a:pt x="12636" y="15038"/>
                </a:cubicBezTo>
                <a:lnTo>
                  <a:pt x="12636" y="9703"/>
                </a:lnTo>
                <a:lnTo>
                  <a:pt x="10800" y="9703"/>
                </a:lnTo>
                <a:lnTo>
                  <a:pt x="14308" y="6195"/>
                </a:lnTo>
                <a:lnTo>
                  <a:pt x="17981" y="9703"/>
                </a:lnTo>
                <a:lnTo>
                  <a:pt x="16144" y="9703"/>
                </a:lnTo>
                <a:lnTo>
                  <a:pt x="16144" y="15038"/>
                </a:lnTo>
                <a:cubicBezTo>
                  <a:pt x="16144" y="17806"/>
                  <a:pt x="13568" y="20365"/>
                  <a:pt x="10800" y="20365"/>
                </a:cubicBezTo>
                <a:lnTo>
                  <a:pt x="9138" y="20365"/>
                </a:lnTo>
                <a:cubicBezTo>
                  <a:pt x="6370" y="20365"/>
                  <a:pt x="3794" y="17806"/>
                  <a:pt x="3794" y="1503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11280" y="1989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ВЕЩЕСТВО →МОЛЕКУЛА→АТОМ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8" descr="C:\Documents and Settings\Наташа\Рабочий стол\Новый рисунок (4).jpg"/>
          <p:cNvPicPr/>
          <p:nvPr/>
        </p:nvPicPr>
        <p:blipFill>
          <a:blip r:embed="rId2"/>
          <a:stretch/>
        </p:blipFill>
        <p:spPr>
          <a:xfrm>
            <a:off x="428760" y="3071880"/>
            <a:ext cx="3543120" cy="3200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C:\Documents and Settings\Наташа\Рабочий стол\Новый рисунок (5).jpg"/>
          <p:cNvPicPr/>
          <p:nvPr/>
        </p:nvPicPr>
        <p:blipFill>
          <a:blip r:embed="rId3"/>
          <a:stretch/>
        </p:blipFill>
        <p:spPr>
          <a:xfrm>
            <a:off x="4714920" y="3143160"/>
            <a:ext cx="3533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09:27:55Z</dcterms:created>
  <dc:creator>нАТАША</dc:creator>
  <dc:description/>
  <dc:language>en-US</dc:language>
  <cp:lastModifiedBy>корнеевич</cp:lastModifiedBy>
  <dcterms:modified xsi:type="dcterms:W3CDTF">2009-12-10T19:39:18Z</dcterms:modified>
  <cp:revision>17</cp:revision>
  <dc:subject/>
  <dc:title>ПЕРВОНАЧАЛЬНЫЕ СВЕДЕНИЯ О СТРОЕНИИ ВЕЩЕСТВА</dc:title>
</cp:coreProperties>
</file>