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7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F46EC-F870-4D3E-B840-3A6CAD74B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B1E6E-E658-4965-827B-4347DC92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034DD-37ED-422C-9ADF-C1E50CAD1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85AC6-C8B2-4572-8B75-FF38B854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54F6-8C53-4E83-BA6E-5A81E2C82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F36C-AA06-4D1E-8D98-0E68FB42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0012-20B1-4704-B4C6-ECC2C195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4C63-7803-4C09-9354-CC9AC48D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D54C-7784-4538-9406-EE3DCAB6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40E0-E1F0-46BF-A177-9B6F3689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EF17-0FF9-45E7-A11E-B137983B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BC0AC-65CA-4D34-8C96-116FA70E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40C6-98E6-4636-B1E5-0D25C014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D77D-909D-4776-BFA2-0EEDF014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6E94-3945-4933-96BA-C61B8B52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BF0A-1574-4CCF-B44A-63B735730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A5D2-8469-4ABD-A615-F774FBC47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8921B-F4CB-4465-96CC-B4E435BD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9F21F-ADEC-41D2-930D-2E8EABC2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1A730-EF7C-4BC1-BF92-1E83F624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D6D1E-75E5-4CA5-BDB4-94C7F7A7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53481-3EB4-4AE9-9A21-86AAA47F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730B2-84E7-46A3-82AC-7EBB1D3D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9BF5E-6BDA-4406-84E0-5EAD9A80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6A70-AD72-47CE-B179-4862E1CB42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9DE1-A8B6-41DF-BD76-FF7D3D2C5D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d"/>
                </a:solidFill>
                <a:latin typeface="Times New Roman"/>
              </a:rPr>
              <a:t>Физика 9 класс</a:t>
            </a:r>
            <a:br>
              <a:rPr sz="4000"/>
            </a:br>
            <a:r>
              <a:rPr b="1" i="1" lang="en-US" sz="4000" spc="-1" strike="noStrike">
                <a:solidFill>
                  <a:srgbClr val="00007d"/>
                </a:solidFill>
                <a:latin typeface="Times New Roman"/>
              </a:rPr>
              <a:t>Реактивное движение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читель физики МОУ Авиловской СОШ Иловлинского района Волгоградской обла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раузе Сергей Корн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0" t="1668" r="0" b="0"/>
          <a:stretch/>
        </p:blipFill>
        <p:spPr>
          <a:xfrm>
            <a:off x="4919760" y="2254320"/>
            <a:ext cx="3494160" cy="26686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d"/>
                </a:solidFill>
                <a:latin typeface="Times New Roman"/>
              </a:rPr>
              <a:t>Вывод формулы скорости ракеты при взл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770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гласно третьему закону Ньюто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= -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сила, с которой ракета действует на раскаленные газы, 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сила, с которой газы отталкивают от себя раке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дули этих сил равны: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енно сил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является реактивной силой. Рассчитаем скорость, которую может приобрести рак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импульс выброшенных газов равен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а импульс ракеты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то по закону сохранения импульса, получа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•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куда скорость раке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48320" y="25776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d"/>
                </a:solidFill>
                <a:latin typeface="Times New Roman"/>
              </a:rPr>
              <a:t>Константин Эдуардович Циолков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усский и советский инженер и школьный учитель. Его считают «отцом космонавтики». Первым предложил использование многоступенчатых ракет на жидком топливе, доказал возможность полетов в косм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648320" y="1981080"/>
          <a:ext cx="4038480" cy="388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1981080"/>
                    <a:ext cx="4038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5219640" y="1916280"/>
            <a:ext cx="3041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7d"/>
                </a:solidFill>
                <a:latin typeface="Times New Roman"/>
              </a:rPr>
              <a:t>Начало космической эпох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490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нимок 1: первый искусственный спутник Земли, выведенный на околоземную орбиту 4 октября 1957 г. Советским Союзом с космодрома Байконур и сделавший полный виток за 96 ми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нимок 2: собака Белка – одно из первых живых существ, благополучно вернувшихся из Космоса; стартовала на орбиту со своей спутницей Стрел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 августа 1960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724360" y="1628640"/>
            <a:ext cx="2808360" cy="21560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940360" y="3860640"/>
            <a:ext cx="2664000" cy="2664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7d"/>
                </a:solidFill>
                <a:latin typeface="Times New Roman"/>
              </a:rPr>
              <a:t>Первый космонавт планеты и главный конструктор отечественной ракетно-космической техни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47640" y="261936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2920" y="2637000"/>
            <a:ext cx="403884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Сергей Павлович Королё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советский ученый и конструктор, руководитель всех космических полетов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Юрий Алексеевич Гагари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первый космонавт, совершил облет Земли 12 апреля 1961 г. за 1 час 48 минут на корабле «Восток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активный миномет БМ-13 «Катюша» времен В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403280" y="2492280"/>
            <a:ext cx="4032360" cy="30099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867280" y="2421000"/>
            <a:ext cx="252108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временные РСЗ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867280" y="2276640"/>
            <a:ext cx="2847960" cy="3168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rcRect l="0" t="0" r="0" b="18339"/>
          <a:stretch/>
        </p:blipFill>
        <p:spPr>
          <a:xfrm>
            <a:off x="2556000" y="4797360"/>
            <a:ext cx="2714400" cy="1656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1042920" y="1916280"/>
            <a:ext cx="2448000" cy="1827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116000" y="39337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стема «Град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5373720"/>
            <a:ext cx="19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СЗО «Смерч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227640" y="55897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СЗО «Урага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лашников М.Ф. и его автома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971640" y="2133720"/>
            <a:ext cx="2465280" cy="3456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932360" y="3573360"/>
            <a:ext cx="288432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35280" y="456840"/>
            <a:ext cx="597672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5640" y="1628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но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2133720"/>
            <a:ext cx="1440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8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/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170028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11280" y="162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24000" y="2060640"/>
            <a:ext cx="1224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0м/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,2 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01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/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48000" y="162864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08360" y="1628640"/>
            <a:ext cx="5111640" cy="28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выстрела общий импульс был равен 0, поэтом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ю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ставив числовые значения, получ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0,01кг * 800м/с / 5,2 кг = 1,5 м/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1,5 м/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С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1628640"/>
            <a:ext cx="7200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Верно ли утверждение, что для осуществления реактивного движения не требуется взаимодействия с окружающей средой?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) да    б) нет    в) в начальный момент        г) другие вариа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71640" y="3357720"/>
            <a:ext cx="7272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На каком законе основано реактивное движение?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) закон сохранения энергии б) закон сохранения массы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) закон сохранения импульса             г) другие вариа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1628640"/>
            <a:ext cx="7345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От чего зависит скорость ракеты?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) от массы ракеты     б) от массы топлива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) от скорости истечения газов г) от всех перечисленных велич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4360" y="3716280"/>
            <a:ext cx="7559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Когда и где был запущен первый искусственный спутник Земли?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) 1949г СССР   б) 1957г СССР    в) 1960г СССР     г) 1961г ССС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d"/>
                </a:solidFill>
                <a:latin typeface="Times New Roman"/>
              </a:rPr>
              <a:t>Вопросы по повторению изученного материа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сегда ли удобно пользоваться законами Ньютона для описания взаимодействия те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Что такое импуль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уда направлен вектор импульс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формулируйте закон сохранения импульса т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то открыл закон сохранения импульс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 проявляется закон сохранения импульса тела при столкновении те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3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3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3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3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3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184464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то мы делали для достижения поставленной це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" y="2565360"/>
            <a:ext cx="74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де вам пригодятся приобретённые зна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328464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амым интересным на уроке для меня было это 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9640" y="39337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амым сложным для меня сегодня было 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Выучить § 2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Решить задачи упр. 22 (1,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Проделать опыт из упр. 22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d"/>
                </a:solidFill>
                <a:latin typeface="Times New Roman"/>
              </a:rPr>
              <a:t>Задача по теме «Импульс. Закон сохранения импульса тела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наряд массой 20 кг, летящий горизонтально со скоростью 500 м/с, попадает в неподвижную платформу с песком массой 10 т и застревает в песке. С какой скоростью стала двигаться платформ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могут летать ракеты в космосе, если ей не с чем взаимодействова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700360" y="2492280"/>
            <a:ext cx="3340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d"/>
                </a:solidFill>
                <a:latin typeface="Times New Roman"/>
              </a:rPr>
              <a:t>Реактивное движение и его проявление в приро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981080"/>
          <a:ext cx="3613320" cy="1876680"/>
        </p:xfrm>
        <a:graphic>
          <a:graphicData uri="http://schemas.openxmlformats.org/drawingml/2006/table">
            <a:tbl>
              <a:tblPr/>
              <a:tblGrid>
                <a:gridCol w="3613320"/>
              </a:tblGrid>
              <a:tr h="187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3989520"/>
            <a:ext cx="8229600" cy="18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ыкновенная каракатица движется за счет выталкивания воды, словно сопло реактивной турбины, обеспечивая движение вперед и позволяя совершать молниеносные бро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91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3743280" cy="2181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800" y="40255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d"/>
                </a:solidFill>
                <a:latin typeface="Times New Roman"/>
              </a:rPr>
              <a:t>Движение воздушного шар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стейшим примером реактивного движения является подъем воздушного шарика при выходе из него воздуха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Фото 1"/>
          <p:cNvPicPr/>
          <p:nvPr/>
        </p:nvPicPr>
        <p:blipFill>
          <a:blip r:embed="rId2"/>
          <a:stretch/>
        </p:blipFill>
        <p:spPr>
          <a:xfrm>
            <a:off x="1908000" y="1557360"/>
            <a:ext cx="446436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d"/>
                </a:solidFill>
                <a:latin typeface="Times New Roman"/>
              </a:rPr>
              <a:t>Отдача при выстре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26920" y="2060640"/>
            <a:ext cx="2664000" cy="2317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211640" y="3429000"/>
            <a:ext cx="4032360" cy="2141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71640" y="4724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руж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43280" y="57340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пу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7d"/>
                </a:solidFill>
                <a:latin typeface="Times New Roman"/>
              </a:rPr>
              <a:t>Вращение сегнерова кол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4941360"/>
            <a:ext cx="8291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же является примером реактивного дви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Фото 4"/>
          <p:cNvPicPr/>
          <p:nvPr/>
        </p:nvPicPr>
        <p:blipFill>
          <a:blip r:embed="rId2"/>
          <a:stretch/>
        </p:blipFill>
        <p:spPr>
          <a:xfrm>
            <a:off x="2843280" y="1700280"/>
            <a:ext cx="28400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активное дви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402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Реактивное движение – это движение, происходящее за счёт отделения от тела с какой-то скоростью некоторой его части”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508720" y="1700280"/>
            <a:ext cx="25812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08:51:22Z</dcterms:created>
  <dc:creator>User</dc:creator>
  <dc:description/>
  <dc:language>en-US</dc:language>
  <cp:lastModifiedBy>корнеевич</cp:lastModifiedBy>
  <dcterms:modified xsi:type="dcterms:W3CDTF">2009-12-08T15:18:16Z</dcterms:modified>
  <cp:revision>16</cp:revision>
  <dc:subject/>
  <dc:title>Слайд 1</dc:title>
</cp:coreProperties>
</file>