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8.wmf" ContentType="image/x-wmf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690E-AF30-4028-9BA2-256ED86CB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8A4A-FD1E-4E88-8859-6E7982319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классное мероприятие можно использовать для групповых и индивидуальны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E8CC-C044-4723-B0B4-E81EDB6C4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B329-F4EF-473C-9CB1-197D1B99A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2DD7-717C-413B-BE13-AF41D9D8D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D6E-8D41-43AE-ADD8-B497CB850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955-FDBE-4E90-9036-4185CD4F7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845-5F2D-4E68-B531-45CE0BB54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CDF-DB0D-4277-83D9-224D9D470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DED-45BA-42DE-BE84-4B2FB249D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6E1-95B3-4ACF-9C09-2AAC49069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580F-374B-4EA4-9A3B-ABB7319C2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156-0FD4-4EBC-975A-947BE419B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CA1-651E-4BD2-80DF-DFA1ABB63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344A-0552-4954-9EA4-2EAC3DD8A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F41B-DB6A-4D1E-9636-72D32E366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290-89DE-4C22-A7C6-1E02DBA69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EC7-94AE-46CA-9A65-77A74A2BC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D39-12D4-44EB-A98D-E2359CAD78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4A3F-0016-42C5-8362-210230D36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B84-416E-45BE-892F-03645B907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A8B-CB9A-4229-BEEA-975E1D1AF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090-5C52-475B-A46B-9F15DE26B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DCB6-B02C-4497-B756-B5D25F314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339-3663-4F3B-92BF-F5855294A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EC58-B2CA-441B-810A-20A824A28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5BEB-3480-4210-AAFD-94935F273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A03-22B2-483C-B19A-D3F16326B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C4A-110A-4A79-B3B9-EBFA6327E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7829-F4F8-439A-9449-D60DD0AF7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F13-F803-4E00-A56E-24C75A42E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034-6180-4F6D-AF83-8AABBA617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747E-8D00-4936-AC1F-C0A46327E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AD8-5ADE-4587-88D7-C6126FB8A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CCF0-76B1-4F44-BA78-5EB599E8F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431-BAA7-4D10-8DF9-A204547DC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E1C7-CBEA-4040-BC90-70D80DF51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32F7-E8CD-4237-97E5-CAD12C0EB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FDC-2F25-4EDE-A5ED-12E223CA4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E2B8-FD03-43CF-9A5D-B56293323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0B83-5397-4E32-9A0B-C9F402E13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D6E-5817-41DC-BDE2-64E6B9FF8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513-9899-410E-A4A6-AE315DCE9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A664-F027-4F0C-83FB-6B1AD4DF2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F31-47B2-4C92-917F-55E2B7E9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80B-16F0-432B-9419-43C6AA64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FD7-45AE-4B84-A41E-1A46A604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407-609B-4872-9BE5-0837CA1E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F2B-6FD6-4FF7-A01F-D8EB39C2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C17F-B9EF-4CAB-907F-4CA235D9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AD1C-5A8B-4D14-8127-7475729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9F62-3E65-4B86-AEAE-B311E7FD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A84A-C163-491F-8E27-15279D1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5269-A082-4CDC-B2E2-3DC5071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D225-973A-4910-B021-8BD5F3A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46F-0FA5-420A-8E3A-1B038C89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9E19-B796-4B1F-8E1A-2CC328E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EB5E-5368-4BED-BDE6-E7245918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8F2E-701D-4BAA-A947-F7531F1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2436-B677-41BD-97BA-008BAB91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CB62-9108-4242-8AF1-F8069E0C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C77-592D-4808-A450-E7DF48D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22A-CE4D-422F-A6A6-E9314026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D6C-BF22-4E1D-9F2C-111F3AC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3EA-3B16-4E45-8E50-B2D0983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9A4-7DAF-4731-80E9-047DF02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549-489B-429F-A799-38166DF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0A2-25F4-40F6-8206-B9FAB55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B8C7-5B65-493E-A73B-DB559C3F02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8592-932C-4745-822A-44E12774ED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c911"/>
            </a:gs>
            <a:gs pos="50000">
              <a:srgbClr val="ffff99"/>
            </a:gs>
            <a:gs pos="100000">
              <a:srgbClr val="a2c9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6"/>
          <p:cNvSpPr txBox="1"/>
          <p:nvPr/>
        </p:nvSpPr>
        <p:spPr>
          <a:xfrm>
            <a:off x="2362320" y="91440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СВОЯ ИГРА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00200" y="2286000"/>
            <a:ext cx="510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9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19ff"/>
                </a:solidFill>
                <a:latin typeface="Arial"/>
              </a:rPr>
              <a:t>Интеллектуальная   игра по географи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895480" y="40384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Учитель географии МБОУ СОШ № 8 г. Бердска Новосибирской области Минимухаметова ЭльвираТаг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Рельеф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ые  молодые гор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кавказ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00200" y="1219320"/>
            <a:ext cx="5791320" cy="4037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Рельеф 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51814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кую горную систему назвали «каменный пояс земли русско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Ответ: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вопрос"/>
          <p:cNvPicPr/>
          <p:nvPr/>
        </p:nvPicPr>
        <p:blipFill>
          <a:blip r:embed="rId2"/>
          <a:stretch/>
        </p:blipFill>
        <p:spPr>
          <a:xfrm>
            <a:off x="5410080" y="1905120"/>
            <a:ext cx="3438720" cy="2184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3"/>
          <a:srcRect l="0" t="0" r="0" b="8162"/>
          <a:stretch/>
        </p:blipFill>
        <p:spPr>
          <a:xfrm>
            <a:off x="755640" y="1654200"/>
            <a:ext cx="471168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2. Рельеф 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5333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Ключевская со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040" y="15998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самый высокий действующий вулкан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J:\для баннера\1085905.jpg"/>
          <p:cNvPicPr/>
          <p:nvPr/>
        </p:nvPicPr>
        <p:blipFill>
          <a:blip r:embed="rId2"/>
          <a:stretch/>
        </p:blipFill>
        <p:spPr>
          <a:xfrm>
            <a:off x="4199040" y="182880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Внутренние воды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крупный левый приток Вол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 К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кама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133720" y="15238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Внутренние воды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, до 1775 года носившая название Я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река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урал"/>
          <p:cNvPicPr/>
          <p:nvPr/>
        </p:nvPicPr>
        <p:blipFill>
          <a:blip r:embed="rId2">
            <a:lum bright="6000"/>
          </a:blip>
          <a:srcRect l="0" t="3987" r="0" b="4279"/>
          <a:stretch/>
        </p:blipFill>
        <p:spPr>
          <a:xfrm>
            <a:off x="1447920" y="1447920"/>
            <a:ext cx="5867280" cy="3855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Внутренние воды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зеро - самый крупный водоем в Евро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зеро впадает 30 рек, а вытекает одна Н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озеро Ладож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ладожское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76520" y="1523880"/>
            <a:ext cx="54864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Внутренние воды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5409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120" y="159984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какому озеру можно пройти пешком и проехать в поез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f0000"/>
                </a:solidFill>
                <a:latin typeface="Arial"/>
              </a:rPr>
              <a:t>Ответ: По озеру Баскунчак в Астраханской области. Оно заполнено солью и по нему проложена железная 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Users\User\Downloads\Баскунчак.jpg"/>
          <p:cNvPicPr/>
          <p:nvPr/>
        </p:nvPicPr>
        <p:blipFill>
          <a:blip r:embed="rId2"/>
          <a:stretch/>
        </p:blipFill>
        <p:spPr>
          <a:xfrm>
            <a:off x="4619520" y="2666880"/>
            <a:ext cx="4524480" cy="339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3. Внутренние воды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3 основные причины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переувлажнение грунта при большом количестве осадков, малое испарение, замедленный 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болото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5120" y="14479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Растительный и животный мир (1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моро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тречается в тунд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Arial"/>
              </a:rPr>
              <a:t>Фотозагад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зображенное здесь раст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природно-хозяйственной зоне оно встреч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C:\Users\User\Desktop\красивые места\p7060945m_1373314782_sel.jpg"/>
          <p:cNvPicPr/>
          <p:nvPr/>
        </p:nvPicPr>
        <p:blipFill>
          <a:blip r:embed="rId2"/>
          <a:stretch/>
        </p:blipFill>
        <p:spPr>
          <a:xfrm>
            <a:off x="4975200" y="1189080"/>
            <a:ext cx="379908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Растительный и животный мир (2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Фотозагадк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редстав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кол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колонок"/>
          <p:cNvPicPr/>
          <p:nvPr/>
        </p:nvPicPr>
        <p:blipFill>
          <a:blip r:embed="rId2"/>
          <a:srcRect l="0" t="0" r="0" b="5535"/>
          <a:stretch/>
        </p:blipFill>
        <p:spPr>
          <a:xfrm>
            <a:off x="1905120" y="1523880"/>
            <a:ext cx="5486400" cy="3575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Те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676520"/>
          <a:ext cx="7772400" cy="4640040"/>
        </p:xfrm>
        <a:graphic>
          <a:graphicData uri="http://schemas.openxmlformats.org/drawingml/2006/table">
            <a:tbl>
              <a:tblPr/>
              <a:tblGrid>
                <a:gridCol w="3454200"/>
                <a:gridCol w="849240"/>
                <a:gridCol w="851040"/>
                <a:gridCol w="851040"/>
                <a:gridCol w="915840"/>
                <a:gridCol w="8510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Географическое по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лье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нутренние во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стительный и животный м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Природные з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сследова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Рекордсме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hlinkClick r:id="rId3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</a:t>
                      </a: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hlinkClick r:id="rId36" action="ppaction://hlinksldjump"/>
                        </a:rPr>
                        <a:t>ФИ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Растительный и животный мир (3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4190760"/>
            <a:ext cx="6934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ш выигрыш увеличи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3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Рисунок1"/>
          <p:cNvPicPr/>
          <p:nvPr/>
        </p:nvPicPr>
        <p:blipFill>
          <a:blip r:embed="rId2"/>
          <a:stretch/>
        </p:blipFill>
        <p:spPr>
          <a:xfrm>
            <a:off x="3048120" y="2362320"/>
            <a:ext cx="305100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Растительный и животный мир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3240" y="17046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ая птица является символом Мос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Ответ : С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C:\Users\User\Desktop\ф своя игра\17184.jpg"/>
          <p:cNvPicPr/>
          <p:nvPr/>
        </p:nvPicPr>
        <p:blipFill>
          <a:blip r:embed="rId2"/>
          <a:stretch/>
        </p:blipFill>
        <p:spPr>
          <a:xfrm>
            <a:off x="4017960" y="2749680"/>
            <a:ext cx="4059360" cy="3803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Растительный и животный мир (5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целью создания та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ведников является сохранение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ынешних и будущих поко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типичных пр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ых экосистем и сообществ,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генофонда растений и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это за природные учас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биосферный запов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Природные зоны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 какой природной зоне встречаются эти животны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тай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rId1" action="ppaction://hlinksldjump"/>
          </p:cNvPr>
          <p:cNvSpPr/>
          <p:nvPr/>
        </p:nvSpPr>
        <p:spPr>
          <a:xfrm>
            <a:off x="8153280" y="60199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рысь"/>
          <p:cNvPicPr/>
          <p:nvPr/>
        </p:nvPicPr>
        <p:blipFill>
          <a:blip r:embed="rId2"/>
          <a:srcRect l="0" t="0" r="0" b="4764"/>
          <a:stretch/>
        </p:blipFill>
        <p:spPr>
          <a:xfrm>
            <a:off x="762120" y="1600200"/>
            <a:ext cx="252252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куница"/>
          <p:cNvPicPr/>
          <p:nvPr/>
        </p:nvPicPr>
        <p:blipFill>
          <a:blip r:embed="rId3"/>
          <a:stretch/>
        </p:blipFill>
        <p:spPr>
          <a:xfrm>
            <a:off x="3352680" y="160020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348923_9129nothumb500"/>
          <p:cNvPicPr/>
          <p:nvPr/>
        </p:nvPicPr>
        <p:blipFill>
          <a:blip r:embed="rId4"/>
          <a:srcRect l="10530" t="0" r="7897" b="0"/>
          <a:stretch/>
        </p:blipFill>
        <p:spPr>
          <a:xfrm>
            <a:off x="5791320" y="1600200"/>
            <a:ext cx="26892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Природные зоны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54100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какой природной зоне встречаются эти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ту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брусника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38080" y="1600200"/>
            <a:ext cx="3581640" cy="2394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карли береза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952880" y="1676520"/>
            <a:ext cx="3597480" cy="2392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ягель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352680" y="3429000"/>
            <a:ext cx="2540160" cy="2041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Природные зоны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чем связано избыточное увл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н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с низкой испаряем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тундра"/>
          <p:cNvPicPr/>
          <p:nvPr/>
        </p:nvPicPr>
        <p:blipFill>
          <a:blip r:embed="rId2"/>
          <a:srcRect l="0" t="0" r="0" b="4930"/>
          <a:stretch/>
        </p:blipFill>
        <p:spPr>
          <a:xfrm>
            <a:off x="2057400" y="1447920"/>
            <a:ext cx="480060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Природные зоны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95280" y="4190760"/>
            <a:ext cx="6934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ш выигрыш увеличи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4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Рисунок1"/>
          <p:cNvPicPr/>
          <p:nvPr/>
        </p:nvPicPr>
        <p:blipFill>
          <a:blip r:embed="rId2"/>
          <a:stretch/>
        </p:blipFill>
        <p:spPr>
          <a:xfrm>
            <a:off x="3048120" y="2362320"/>
            <a:ext cx="3051000" cy="11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Times New Roman"/>
              </a:rPr>
              <a:t>5. Природные зоны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ие деревья изображены на картине Шишк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корабельная рощ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твет: со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Users\User\Desktop\ф своя игра\5199599effe055ee295bfff5e792f4a5.jpg"/>
          <p:cNvPicPr/>
          <p:nvPr/>
        </p:nvPicPr>
        <p:blipFill>
          <a:blip r:embed="rId2"/>
          <a:stretch/>
        </p:blipFill>
        <p:spPr>
          <a:xfrm>
            <a:off x="3021120" y="2282760"/>
            <a:ext cx="5970600" cy="3819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6. Исследователи 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я э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 нос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е, прол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т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Витус Бе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беренг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14400" y="1981080"/>
            <a:ext cx="3333600" cy="405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9. Исследователи 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ьим име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в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точная т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с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Семен Деж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дежнев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90720" y="1752480"/>
            <a:ext cx="3219480" cy="4530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1. Географическое положение  (1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46479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ая Федерация – самое больш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о мира .Его 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яет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 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,1 млн. кв.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8481960" y="617220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10800" y="4224"/>
                </a:moveTo>
                <a:lnTo>
                  <a:pt x="13376" y="6836"/>
                </a:lnTo>
                <a:lnTo>
                  <a:pt x="13376" y="5095"/>
                </a:lnTo>
                <a:lnTo>
                  <a:pt x="15152" y="5095"/>
                </a:lnTo>
                <a:lnTo>
                  <a:pt x="15152" y="8611"/>
                </a:lnTo>
                <a:lnTo>
                  <a:pt x="17763" y="11187"/>
                </a:lnTo>
                <a:lnTo>
                  <a:pt x="16109" y="11187"/>
                </a:lnTo>
                <a:lnTo>
                  <a:pt x="16109" y="18377"/>
                </a:lnTo>
                <a:lnTo>
                  <a:pt x="5491" y="18377"/>
                </a:lnTo>
                <a:lnTo>
                  <a:pt x="5491" y="11187"/>
                </a:lnTo>
                <a:lnTo>
                  <a:pt x="3837" y="11187"/>
                </a:lnTo>
                <a:close/>
              </a:path>
              <a:path fill="darkenLess" w="21600" h="22375">
                <a:moveTo>
                  <a:pt x="13376" y="6836"/>
                </a:moveTo>
                <a:lnTo>
                  <a:pt x="13376" y="5095"/>
                </a:lnTo>
                <a:lnTo>
                  <a:pt x="15152" y="5095"/>
                </a:lnTo>
                <a:lnTo>
                  <a:pt x="15152" y="8611"/>
                </a:lnTo>
                <a:close/>
              </a:path>
              <a:path fill="darkenLess" w="21600" h="22375">
                <a:moveTo>
                  <a:pt x="9877" y="14686"/>
                </a:moveTo>
                <a:lnTo>
                  <a:pt x="11723" y="14686"/>
                </a:lnTo>
                <a:lnTo>
                  <a:pt x="11723" y="18377"/>
                </a:lnTo>
                <a:lnTo>
                  <a:pt x="16109" y="18377"/>
                </a:lnTo>
                <a:lnTo>
                  <a:pt x="16109" y="11187"/>
                </a:lnTo>
                <a:lnTo>
                  <a:pt x="5491" y="11187"/>
                </a:lnTo>
                <a:lnTo>
                  <a:pt x="5491" y="18377"/>
                </a:lnTo>
                <a:lnTo>
                  <a:pt x="9877" y="18377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regionmap"/>
          <p:cNvPicPr/>
          <p:nvPr/>
        </p:nvPicPr>
        <p:blipFill>
          <a:blip r:embed="rId2"/>
          <a:srcRect l="0" t="3148" r="0" b="8840"/>
          <a:stretch/>
        </p:blipFill>
        <p:spPr>
          <a:xfrm>
            <a:off x="1981080" y="1600200"/>
            <a:ext cx="5257800" cy="2986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9. Исследователи 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00600" y="19051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ешествия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сурийскому кр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м Сихотэ-Али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л Центра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ю Азию. Им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тибетский 7-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е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Н.Пржева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пржевальский"/>
          <p:cNvPicPr/>
          <p:nvPr/>
        </p:nvPicPr>
        <p:blipFill>
          <a:blip r:embed="rId2"/>
          <a:stretch/>
        </p:blipFill>
        <p:spPr>
          <a:xfrm>
            <a:off x="914400" y="1752480"/>
            <a:ext cx="3594240" cy="4530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9. Исследователи  (4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вове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В. Доку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докучаев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90720" y="1905120"/>
            <a:ext cx="3431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9. Исследователи 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24280" y="19047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са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шественников,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руководи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м Географиче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м. В 1906 году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уги в открыт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м исслед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й горной страны с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ь двойную фамил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 П. Семенов- Тян-Ш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семенов"/>
          <p:cNvPicPr/>
          <p:nvPr/>
        </p:nvPicPr>
        <p:blipFill>
          <a:blip r:embed="rId2"/>
          <a:stretch/>
        </p:blipFill>
        <p:spPr>
          <a:xfrm>
            <a:off x="762120" y="1752480"/>
            <a:ext cx="3809880" cy="448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0. Рекордсмены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е глубокое озеро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байкал"/>
          <p:cNvPicPr/>
          <p:nvPr/>
        </p:nvPicPr>
        <p:blipFill>
          <a:blip r:embed="rId2"/>
          <a:stretch/>
        </p:blipFill>
        <p:spPr>
          <a:xfrm>
            <a:off x="1600200" y="1523880"/>
            <a:ext cx="5715000" cy="376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0. Рекордсмены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большой остр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Саха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сахалин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752480" y="1447920"/>
            <a:ext cx="5410440" cy="394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0. Рекордсмены (3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77640" y="5181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9ff"/>
                </a:solidFill>
                <a:latin typeface="Arial"/>
              </a:rPr>
              <a:t>Ответ: Московский кремль. Общая длина стен с 20 башнями составляет 2 км 235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469880"/>
            <a:ext cx="3679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крепость нашей страны является самой большой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Users\User\Desktop\ф своя игра\38073.jpg"/>
          <p:cNvPicPr/>
          <p:nvPr/>
        </p:nvPicPr>
        <p:blipFill>
          <a:blip r:embed="rId2"/>
          <a:stretch/>
        </p:blipFill>
        <p:spPr>
          <a:xfrm>
            <a:off x="3962520" y="1447920"/>
            <a:ext cx="5049720" cy="3368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10. Рекордсмены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большой полуостр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Тайм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таймыр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00200" y="1523880"/>
            <a:ext cx="5562720" cy="373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10. Рекордсмены (5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480060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е большое и глубокое море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Берингово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беренгово"/>
          <p:cNvPicPr/>
          <p:nvPr/>
        </p:nvPicPr>
        <p:blipFill>
          <a:blip r:embed="rId2">
            <a:lum bright="12000"/>
          </a:blip>
          <a:srcRect l="1822" t="2855" r="1822" b="3092"/>
          <a:stretch/>
        </p:blipFill>
        <p:spPr>
          <a:xfrm>
            <a:off x="1600200" y="1523880"/>
            <a:ext cx="594360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8120" y="1752120"/>
            <a:ext cx="5486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Запове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амо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дивительное ря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2209680" y="449568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Arial"/>
              </a:rPr>
              <a:t>ФИНА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209680" y="380988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2209680" y="23623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2209680" y="30481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209680" y="16765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3"/>
          <p:cNvSpPr/>
          <p:nvPr/>
        </p:nvSpPr>
        <p:spPr>
          <a:xfrm>
            <a:off x="2209680" y="525780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Управляющая кнопка: настраиваемая 1"/>
          <p:cNvSpPr/>
          <p:nvPr/>
        </p:nvSpPr>
        <p:spPr>
          <a:xfrm>
            <a:off x="6019920" y="571500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Заповед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единственный в мире заповедник, расположенный в центре многомиллионного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0061"/>
                </a:solidFill>
                <a:latin typeface="Arial"/>
              </a:rPr>
              <a:t>Ответ: Лосиный остров. Он расположен на северо-востоке Москвы. Там живут лоси, кабаны, пятнистые олени и другие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Управляющая кнопка: домой 3"/>
          <p:cNvSpPr/>
          <p:nvPr/>
        </p:nvSpPr>
        <p:spPr>
          <a:xfrm>
            <a:off x="6172200" y="56386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solidFill>
            <a:srgbClr val="9966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1. Географическое положение  (2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: водами Атлантического, Северного Ледовитог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хого оке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19320" y="2666520"/>
            <a:ext cx="702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ми каких океанов омывается Росс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Города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ее этот город находился в лесных дебрях и назывался Дебрянск. Как он называется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вет: Бря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Самоцветы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у редчайшую разновидность обыденного и необходимого продукта к столу Екатери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авляли из Большого и Малого Малиновых озер в низовьях Волги. О чем иде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вет: Цветная поваренная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Удивительное ряд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находится «ноль» в каждом российском 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: Это главный почтамт. От него считаются все расстояния на автодорог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Загадка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 в Смолен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1371600" y="2133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де живут  смоля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Вод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Почему Тверская область- «главный колодец Росси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Тверская область расположена на Валдайской возвышенности, откуда берут начало Волга, Западная Двина, Днепр и друг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игра окончена"/>
          <p:cNvPicPr/>
          <p:nvPr/>
        </p:nvPicPr>
        <p:blipFill>
          <a:blip r:embed="rId1"/>
          <a:stretch/>
        </p:blipFill>
        <p:spPr>
          <a:xfrm>
            <a:off x="609480" y="2438280"/>
            <a:ext cx="7848720" cy="176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1. Географическое положение  (3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0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ком крохотном острове нашей страны рождается новый день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: на острове Ратма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User\Desktop\ф своя игра\Bigdiomecropped.jpg"/>
          <p:cNvPicPr/>
          <p:nvPr/>
        </p:nvPicPr>
        <p:blipFill>
          <a:blip r:embed="rId2"/>
          <a:stretch/>
        </p:blipFill>
        <p:spPr>
          <a:xfrm>
            <a:off x="2895480" y="2649600"/>
            <a:ext cx="6105600" cy="2836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1. Географическое положение  (4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государство, спрятанное под зн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: Казахста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Рисунок1"/>
          <p:cNvPicPr/>
          <p:nvPr/>
        </p:nvPicPr>
        <p:blipFill>
          <a:blip r:embed="rId2"/>
          <a:srcRect l="0" t="2816" r="8000" b="19191"/>
          <a:stretch/>
        </p:blipFill>
        <p:spPr>
          <a:xfrm>
            <a:off x="1295280" y="1447920"/>
            <a:ext cx="670572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ff"/>
                </a:solidFill>
                <a:latin typeface="Times New Roman"/>
              </a:rPr>
              <a:t>1. Географическое положение  (50)</a:t>
            </a:r>
            <a:r>
              <a:rPr b="0" lang="ru-RU" sz="3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:  В городе Салехар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торый расположен на линии Полярного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1760" y="1447560"/>
            <a:ext cx="4647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российском городе установлен единственный в мире обелиск Полярному кру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:\Users\User\Desktop\ф своя игра\SalekhardMonument.jpg"/>
          <p:cNvPicPr/>
          <p:nvPr/>
        </p:nvPicPr>
        <p:blipFill>
          <a:blip r:embed="rId2"/>
          <a:stretch/>
        </p:blipFill>
        <p:spPr>
          <a:xfrm>
            <a:off x="5334120" y="1219320"/>
            <a:ext cx="3440160" cy="4587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2. Рельеф  (1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рельеф преобладает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 равни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равнинный"/>
          <p:cNvPicPr/>
          <p:nvPr/>
        </p:nvPicPr>
        <p:blipFill>
          <a:blip r:embed="rId2"/>
          <a:srcRect l="0" t="0" r="0" b="12963"/>
          <a:stretch/>
        </p:blipFill>
        <p:spPr>
          <a:xfrm>
            <a:off x="2286000" y="2970360"/>
            <a:ext cx="5486400" cy="358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Times New Roman"/>
              </a:rPr>
              <a:t>2. Рельеф  (20)</a:t>
            </a:r>
            <a:r>
              <a:rPr b="0" lang="ru-RU" sz="4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57440" y="18288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язекам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грязевой по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услам го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, возникающий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си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вней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та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с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сель"/>
          <p:cNvPicPr/>
          <p:nvPr/>
        </p:nvPicPr>
        <p:blipFill>
          <a:blip r:embed="rId2"/>
          <a:stretch/>
        </p:blipFill>
        <p:spPr>
          <a:xfrm>
            <a:off x="533520" y="220968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С.А.</dc:creator>
  <dc:description>Презентацию можно использовать для групповых и индивидуальных занятий</dc:description>
  <cp:keywords>география</cp:keywords>
  <dc:language>en-US</dc:language>
  <cp:lastModifiedBy>User</cp:lastModifiedBy>
  <dcterms:modified xsi:type="dcterms:W3CDTF">2014-05-30T12:37:51Z</dcterms:modified>
  <cp:revision>263</cp:revision>
  <dc:subject>география</dc:subject>
  <dc:title>Своя игра по географии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Автор">
    <vt:lpwstr>Лисенков С.А.</vt:lpwstr>
  </property>
  <property fmtid="{D5CDD505-2E9C-101B-9397-08002B2CF9AE}" pid="3" name="Цель">
    <vt:lpwstr>закрепление знаний по географии в 8 кл.</vt:lpwstr>
  </property>
  <property fmtid="{D5CDD505-2E9C-101B-9397-08002B2CF9AE}" pid="4" name="Язык">
    <vt:lpwstr>русский</vt:lpwstr>
  </property>
  <property fmtid="{D5CDD505-2E9C-101B-9397-08002B2CF9AE}" pid="5" name="класс">
    <vt:lpwstr>8</vt:lpwstr>
  </property>
  <property fmtid="{D5CDD505-2E9C-101B-9397-08002B2CF9AE}" pid="6" name="тема">
    <vt:lpwstr>география</vt:lpwstr>
  </property>
</Properties>
</file>