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7D7-DFF3-4523-88CC-B4A135F3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2BA-4BA4-484C-A195-57EC2C89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583-07D9-4DE6-B0D6-7A6C2505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AA8-2DD1-4651-B42F-EB4A654E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EA42-47C1-4E27-9DBF-CA4B1E6D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1296-0108-4787-BFDD-CA543377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D226-AEA4-4FDC-AABC-38B78FA0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8C34-9772-451A-B7E7-03508E8A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865A-9912-4FD1-85BA-B009BEBE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5DD0-943B-4F41-8E54-A4F1431A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7A1A-AA04-444E-88C3-D8BE7915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E5E-4C50-4F89-A5AE-9B0CF372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AD75-E9B1-4651-9ED0-5FF780A6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7C9B-250E-492E-8AB2-E7C6DB5E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E5EE-98F9-42AE-93A2-D3C19AD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F316-A461-407F-AF1F-19F16D5F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46A1-3C82-4C6F-856F-D3121D48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36D-858C-4D50-B513-087643A3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9FF-F02A-4DF1-B400-97BE6465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FE1-052E-4F5D-A4AB-31AB4D19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5B4-5977-4C27-8A65-C41E8EF2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FF1-385F-4539-9F60-461A863F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1BF-0D32-4A72-A9BF-0725FDF9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F037-551F-40F3-9B01-11F05C2E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8E2D-A43B-4A03-B7AD-5B484A0FABA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EAB2-94BD-4728-B143-16EC7B784F1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ак делать презентации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Руководство дизайнер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Главное - не перестараться!.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1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 Black"/>
              </a:rPr>
              <a:t>… </a:t>
            </a:r>
            <a:r>
              <a:rPr b="0" lang="en-US" sz="3200" spc="-1" strike="noStrike">
                <a:solidFill>
                  <a:srgbClr val="008000"/>
                </a:solidFill>
                <a:latin typeface="Arial Black"/>
              </a:rPr>
              <a:t>не писать зеленым цветом 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Arial Black"/>
              </a:rPr>
              <a:t>на красном фон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Black"/>
              </a:rPr>
              <a:t>(пожалейте дальтоников,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Arial Black"/>
              </a:rPr>
              <a:t>которым придется смотреть вашу презентацию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9930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е вставлять огромные куски текста, написанные мелким шрифтом,</a:t>
            </a:r>
            <a:br>
              <a:rPr sz="2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еще и с муторной анимацией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Смотришь такую презентацию, и думаешь: «Может, пойти кофе себе заварить, пока все эти буквы на экране появятся?»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 они все бегут и бегут потихоньку. Вот уже три строчки набежало. Много ли еще?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А самое-то главное, что такой текст прочитать с экрана проектора почти невозможно. Это вам не докторская диссертация в четырех частях… не готическая трилогия с Прологом и Эпилогом… и даже не роман Льва Николаевича Толстого… </a:t>
            </a: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Великого русского писателя..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а самый что ни на есть простой незатейливый слайд!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900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е давать повода зрителям думать, что ваша презентация…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рыгае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 скачет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 ничег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е значит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000"/>
                            </p:stCondLst>
                            <p:childTnLst>
                              <p:par>
                                <p:cTn id="151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600"/>
                            </p:stCondLst>
                            <p:childTnLst>
                              <p:par>
                                <p:cTn id="158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1600"/>
                            </p:stCondLst>
                            <p:childTnLst>
                              <p:par>
                                <p:cTn id="16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от золотые правила, которые должен знать КАЖДЫЙ, кто хочет своей презентацией покорить сердца слушателей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b17"/>
                </a:solidFill>
                <a:latin typeface="Arial Black"/>
              </a:rPr>
              <a:t>Правило 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резентация представляет собой </a:t>
            </a:r>
            <a:r>
              <a:rPr b="1" lang="en-US" sz="3200" spc="-1" strike="noStrike">
                <a:solidFill>
                  <a:srgbClr val="fe1f08"/>
                </a:solidFill>
                <a:latin typeface="Arial Black"/>
              </a:rPr>
              <a:t>иллюстрацию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к докладу, а не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его полную стенограмму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"/>
          <p:cNvSpPr/>
          <p:nvPr/>
        </p:nvSpPr>
        <p:spPr>
          <a:xfrm>
            <a:off x="2016000" y="4365720"/>
            <a:ext cx="71280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 ней должно быть МНОГО рисунков, схем, графиков и МАЛО пространных рассуждений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b17"/>
                </a:solidFill>
                <a:latin typeface="Arial Black"/>
              </a:rPr>
              <a:t>Правило 2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Хорошая презентация – </a:t>
            </a:r>
            <a:r>
              <a:rPr b="1" lang="en-US" sz="3200" spc="-1" strike="noStrike">
                <a:solidFill>
                  <a:srgbClr val="fe1f08"/>
                </a:solidFill>
                <a:latin typeface="Arial Black"/>
              </a:rPr>
              <a:t>динамичная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презентация. Каждый слайд должен висеть на экране не более 7 секунд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…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засекаем время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b17"/>
                </a:solidFill>
                <a:latin typeface="Arial Black"/>
              </a:rPr>
              <a:t>Правило 3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 хорошей презентации должна быть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e1f08"/>
                </a:solidFill>
                <a:latin typeface="Arial Black"/>
              </a:rPr>
              <a:t>интрига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на должна увлекать зрителей с первых кадров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Но КАК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Если вы – продавец попкорна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 вам нужно внушить окружающим, что ваш попкорн – 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самый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лучший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попкорн в мире!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То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ет ничего проще,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ем создать презентацию!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начала поставьте проблему, так чтобы она близкой сердцу каждого зрителя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Любовь жестока. Что делать, когда Он не звонит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отом предложите взглянуть на проблему с другой стороны (выгодной вам)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Вспомни народную мудрость: Любовь приходит и уходит,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а кушать хочется всегда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Скажите, что решение ЕСТЬ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Решение ЕСТЬ!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ЕСТЬ Попкорн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тметьте, что ВАШЕ решение решает еще множество других проблем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После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</a:rPr>
              <a:t>не надо</a:t>
            </a: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 мыть посуду и застирывать пятна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кажите всем, что нужно бежать и делать ПРЯМО СЕЙЧА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Закажи попкорн по почте прямо сейчас и получи упаковку Мезима</a:t>
            </a:r>
            <a:br>
              <a:rPr sz="3200"/>
            </a:b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в подарок!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е забудьте раскланяться под занавес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66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Спасибо за внимание!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Для этого нужно выбрать самое красивое 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формление слайдо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В меню </a:t>
            </a:r>
            <a:r>
              <a:rPr b="1" lang="en-US" sz="1200" spc="-1" strike="noStrike">
                <a:solidFill>
                  <a:srgbClr val="ffcc00"/>
                </a:solidFill>
                <a:latin typeface="Arial Black"/>
              </a:rPr>
              <a:t>Формат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пункт </a:t>
            </a:r>
            <a:r>
              <a:rPr b="1" lang="en-US" sz="1200" spc="-1" strike="noStrike">
                <a:solidFill>
                  <a:srgbClr val="ffcc00"/>
                </a:solidFill>
                <a:latin typeface="Arial Black"/>
              </a:rPr>
              <a:t>Оформление слайдов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Подобрать подходящую </a:t>
            </a: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цветовую схем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На боковой панели </a:t>
            </a:r>
            <a:r>
              <a:rPr b="1" lang="en-US" sz="1200" spc="-1" strike="noStrike">
                <a:solidFill>
                  <a:srgbClr val="ffffff"/>
                </a:solidFill>
                <a:latin typeface="Arial Black"/>
              </a:rPr>
              <a:t>Дизайн слайда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пункт </a:t>
            </a:r>
            <a:r>
              <a:rPr b="1" lang="en-US" sz="1200" spc="-1" strike="noStrike">
                <a:solidFill>
                  <a:srgbClr val="ffffff"/>
                </a:solidFill>
                <a:latin typeface="Arial Black"/>
              </a:rPr>
              <a:t>Цветовые схемы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И создавать один слайд за другим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Кнопка </a:t>
            </a:r>
            <a:r>
              <a:rPr b="1" lang="en-US" sz="1200" spc="-1" strike="noStrike">
                <a:solidFill>
                  <a:srgbClr val="ffcc00"/>
                </a:solidFill>
                <a:latin typeface="Arial Black"/>
              </a:rPr>
              <a:t>Создать слайд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на панели инструментов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85800" y="4114800"/>
          <a:ext cx="38098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3809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43280" y="1699920"/>
            <a:ext cx="381024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На новом слайде вы можете разместить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82080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Текст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82080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Рисун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82080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Диаграмм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82080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Спис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82080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Таблиц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1803240" y="2060640"/>
            <a:ext cx="1573200" cy="18208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572000" y="5589720"/>
            <a:ext cx="408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Любые объекты вставляются через меню </a:t>
            </a:r>
            <a:r>
              <a:rPr b="1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Вставка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Ну а теперь САМОЕ ИНТЕРЕСНОЕ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Кто бы мог подумать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Что так просто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Превратить презентацию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В настояще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US" sz="9600" spc="-1" strike="noStrike">
                <a:solidFill>
                  <a:srgbClr val="fe1f08"/>
                </a:solidFill>
                <a:latin typeface="Arial Black"/>
              </a:rPr>
              <a:t>Ш</a:t>
            </a:r>
            <a:r>
              <a:rPr b="0" lang="en-US" sz="9600" spc="-1" strike="noStrike">
                <a:solidFill>
                  <a:srgbClr val="af273e"/>
                </a:solidFill>
                <a:latin typeface="Arial Black"/>
              </a:rPr>
              <a:t>О</a:t>
            </a:r>
            <a:r>
              <a:rPr b="0" lang="en-US" sz="9600" spc="-1" strike="noStrike">
                <a:solidFill>
                  <a:srgbClr val="ffcc00"/>
                </a:solidFill>
                <a:latin typeface="Arial Black"/>
              </a:rPr>
              <a:t>У</a:t>
            </a:r>
            <a:r>
              <a:rPr b="0" lang="en-US" sz="9600" spc="-1" strike="noStrike">
                <a:solidFill>
                  <a:srgbClr val="fe1f08"/>
                </a:solidFill>
                <a:latin typeface="Arial Black"/>
              </a:rPr>
              <a:t>?</a:t>
            </a:r>
            <a:r>
              <a:rPr b="0" lang="en-US" sz="9600" spc="-1" strike="noStrike">
                <a:solidFill>
                  <a:srgbClr val="ff8b17"/>
                </a:solidFill>
                <a:latin typeface="Arial Black"/>
              </a:rPr>
              <a:t>!</a:t>
            </a:r>
            <a:r>
              <a:rPr b="0" lang="en-US" sz="9600" spc="-1" strike="noStrike">
                <a:solidFill>
                  <a:srgbClr val="ff3399"/>
                </a:solidFill>
                <a:latin typeface="Arial Black"/>
              </a:rPr>
              <a:t>!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45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450"/>
                            </p:stCondLst>
                            <p:childTnLst>
                              <p:par>
                                <p:cTn id="47" nodeType="after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450"/>
                            </p:stCondLst>
                            <p:childTnLst>
                              <p:par>
                                <p:cTn id="58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6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7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7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Тем более, что </a:t>
            </a:r>
            <a:r>
              <a:rPr b="1" lang="ru-RU" sz="3200" spc="-1" strike="noStrike" u="sng">
                <a:solidFill>
                  <a:srgbClr val="ffcc00"/>
                </a:solidFill>
                <a:uFillTx/>
                <a:latin typeface="Arial Black"/>
              </a:rPr>
              <a:t>смена слайдов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также предоставляет широкую область для креатив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12600"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В меню </a:t>
            </a:r>
            <a:r>
              <a:rPr b="1" lang="ru-RU" sz="1200" spc="-1" strike="noStrike">
                <a:solidFill>
                  <a:srgbClr val="ffcc00"/>
                </a:solidFill>
                <a:latin typeface="Arial Black"/>
              </a:rPr>
              <a:t>Показ Слайдов</a:t>
            </a:r>
            <a:r>
              <a:rPr b="0" lang="ru-RU" sz="1200" spc="-1" strike="noStrike">
                <a:solidFill>
                  <a:srgbClr val="ffcc00"/>
                </a:solidFill>
                <a:latin typeface="Arial Black"/>
              </a:rPr>
              <a:t> пункт </a:t>
            </a:r>
            <a:r>
              <a:rPr b="1" lang="ru-RU" sz="1200" spc="-1" strike="noStrike">
                <a:solidFill>
                  <a:srgbClr val="ffcc00"/>
                </a:solidFill>
                <a:latin typeface="Arial Black"/>
              </a:rPr>
              <a:t>Смена слайдов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1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20:02:35Z</dcterms:created>
  <dc:creator>Камилла Дамье</dc:creator>
  <dc:description/>
  <dc:language>en-US</dc:language>
  <cp:lastModifiedBy>Малков</cp:lastModifiedBy>
  <dcterms:modified xsi:type="dcterms:W3CDTF">2008-05-05T19:40:32Z</dcterms:modified>
  <cp:revision>10</cp:revision>
  <dc:subject/>
  <dc:title>Как делать презентации?</dc:title>
</cp:coreProperties>
</file>