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gif" ContentType="image/gif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DF8-31F5-4644-BE6F-38EF4F24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7C4-742F-4E37-9D0C-E0E02B01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F45-0AA0-4F82-A5FC-53823673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58C-76DA-4350-953E-BB456B13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AFA-7465-4605-9C52-149D3153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6C4-D689-4C13-BB29-B64F7C84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8AA-3930-494E-9025-97D9EB0A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85D-BAD3-4E83-ABB2-7E106EF8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7A6-088C-4B91-9985-4EE5F113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E60-F73D-44B2-92B3-E418F2E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3E2-4741-4D55-8DBB-128BE064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E15-FE24-4D6E-B9AE-2920AD8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D523-5742-4DA8-88A4-539DBE7F5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4720" y="1484280"/>
            <a:ext cx="8244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оссийский федерализм 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межнациональные отношен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 ослаблением власти Центра, национальный вопрос приобрел особую остроту-над Россией нависла уг-роза распада.Дотации центра в основном касались национальных образований, возникла проблема русскоязычных беженцев - это привело к появле-нию национально-радикальных организаций («РНЕ»). Неспособность Центра решить проблему Чечни привела к призывам создать республики на  Дальнем Востоке,Алтае и Ур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Национальный вопрос в современной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8680" y="1714680"/>
            <a:ext cx="24973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Заседание 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едер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43280" y="544680"/>
            <a:ext cx="4105440" cy="302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Центр и реги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Федеративный догов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Противоречия Центра и регио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Чеченская вой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5.Национальный вопрос в современной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99"/>
                </a:solidFill>
                <a:latin typeface="Monotype Corsiva"/>
              </a:rPr>
              <a:t>Выделите основные причины обострения национального вопроса в Российской Федерации в 90-е гг.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3640" y="404280"/>
            <a:ext cx="4105440" cy="640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91 г. Б.Ельцин призвал регионы брать макси-мум самостоятельности и заключить Федератив-ный договор,но придя к власти, он заявил о необ-ходимости разграниче-ния полномочий Центра и регионов.После распа-да СССР Татарстан и Башкирия потребовали заключения с Центром прямых догов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91-92 гг.Национальные конгрессы Чечни,Тата-рии, Башкирии,Якутии заявили о выходе из сос-тава РСФСР.Это заста-вило власти ускорить по дписание Федеративного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Центр и реги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57840" y="6021360"/>
            <a:ext cx="1945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03280" y="981000"/>
            <a:ext cx="3483000" cy="469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58920" y="3645000"/>
            <a:ext cx="785016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го смысл заключался в перераспределении власти в пользу местных национальных элит.Проект Догово ра провозглашал Россию Федерацией независимых национальных государств,в которых преимущест-венными правами пользовались титульные нацио-нальности.Их родной язык провозглашался госу-дарственным.31 марта 1992 г.Федеральный договор  подписали все субъекты Федерации кроме Чечни и Татарст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Федеративный догов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72360" y="1341360"/>
            <a:ext cx="222120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дпис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едератив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ого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31 марта 199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716360" y="544680"/>
            <a:ext cx="4248360" cy="302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Федеральный договор не смог устранить противоре-чий Центра и регионов.Вскоре Татарстан и Башки-рия перестали перечислять налоги в бюджет, нача-ли вести самостоятельную внешнюю политику.По их пути попытались пойти Чечня, Тува, Якутия и др.Это вызвало недовольство областей и краев.Кро ме того в автономиях началось нарушение прав русского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Противоречия Центра и реги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3280" y="1803240"/>
            <a:ext cx="22654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итинг в Каз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211640" y="582480"/>
            <a:ext cx="4753080" cy="294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итоге были предприняты попытки провозгласить сувернитет даже в Кирове,Туле,на Дальнем Восто-ке и в Краснояр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о самая большая опасность исходила от Чечни и Та-тарстана.В Татарии М.Шаймиев смог взять ситуа-цию под контроль, обговорив особый статус респу-блики и подписав в 1994 г. Федеративный договор. А в Чечне Д.Дудаев сделать этого не смог и в рес-публике началась криминализация местной влас-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Противоречия Центра и реги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80200" y="1700280"/>
            <a:ext cx="2539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итинг в Гроз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716360" y="577800"/>
            <a:ext cx="4176720" cy="2986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осква пыталась уговорить Чечню подписать Феде-ративный договор.Но 10 августа Съезд чеченского народа принял решение о всеобщей мобилизации и начале «священной войны» с Россией.1 декабря Б. Ельцин предъявил Д.Дудаеву ультиматум.10 декаб ря российские войска вошли на территорию Чеч-ни.В январе 1995 г.был занят Грозный.Повстанцы отошли в южные районы Чечни.В июне отряд Ш. Басаева захватил 3000 заложников в Буденов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Чечен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23680" y="1700280"/>
            <a:ext cx="18738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личный 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Гроз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067280" y="600120"/>
            <a:ext cx="4897440" cy="2963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292360" y="404280"/>
            <a:ext cx="3816360" cy="640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осква пошла на перего-воры,но чеченцы вос-пользовались ими для перегруппировки сил. В январе 1996 г.после-довал новый теракт-в Кизляре и в  Первомай ском.В ответ спецслуж бы уничтожили Д.Ду-даева.В августе чечен-цы атаковали Гроз-ный.Переговоры возоб новились и в сентябре 1996 г.ген. Лебедь и А. Масхадов подписали Хасавюртский  мир. Россия выводи из Чеч-ни войска. На 5 лет вводился мораторий на вопрос о статусе Че-ч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Чечен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15760" y="6051600"/>
            <a:ext cx="14137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Ш.Бас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547640" y="620640"/>
            <a:ext cx="3490920" cy="5267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2-30T15:46:59Z</dcterms:modified>
  <cp:revision>69</cp:revision>
  <dc:subject/>
  <dc:title>Слайд 1</dc:title>
</cp:coreProperties>
</file>