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3D5-23BD-4512-BA85-2A5C5687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16A-4F26-4672-98E3-EF1AFE64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99C-3AEB-47E3-BC3A-06338CE3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5DD-E951-4267-9730-EC662878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D4E-C9BC-4608-88CE-EF6A9876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540-EE82-40AD-B89B-450B19E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DF5-42CA-4DEE-808D-3E025C01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478-7C4D-452E-9FD9-CFCF621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410-703C-4DB3-85BA-0F944066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DF8-EF6C-4D23-A140-ACAF758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C18-5544-43F3-9A87-559D4CD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AD1-FD58-49EC-A619-9278436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7C29-24CF-4630-9941-332009839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828800"/>
            <a:ext cx="59212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Февральска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еволюция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850160" cy="345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авительство заявило о готовности вести во-йну до победного конца.Социально-экономи ческая политика строилась из учета необхо-димости продолжения войны.Поэтому 8-ча-совой рабочий день вынужден был ввести Со-вет.Было отложено решение вопроса о зе мле,бла введена государственная монополия на хлеб и его запасы были взяты под конт-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Политика новой в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15520" y="1268280"/>
            <a:ext cx="24696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ед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оград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611280"/>
            <a:ext cx="4752720" cy="2646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620120" cy="3733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Революция в Петроград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Двоевластие в центр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Отречение Николая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Политика новой вла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Почему Февральская революция оказалась такой малокровной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8560" y="3530160"/>
            <a:ext cx="7885080" cy="3211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1917 г.недовольство народа усилилось-перебои в поставке продовольствия в столицу привели к на-чалу погромов хлебных лавок.18 февраля началась забастовка на Путиловском заводе.23 февраля про-шла женская демонстрация под лозунгами-«Долой войну!»,«Долой самодержавие!».Николай из Ставки приказал генерал-губернатору Петрограда Хабало-ву прекратить беспорядки в стол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Революция в Петрогра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1400" y="1228680"/>
            <a:ext cx="22471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ррикады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тей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пек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08360" y="620640"/>
            <a:ext cx="5292720" cy="28227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58560" y="3313080"/>
            <a:ext cx="7885080" cy="3500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абалов отдал приказ об аресте 100 человек из левых партий.Днем 27 февраля по демонстрантам была открыта стрельба.В этот же день указом царя была приостановлена работа Государственной думы.Но этот день стал и перломным в ходе революции.Час-ти Волынского полка перешли на сторону восстав-шего народа.Они захватили Арсенал,Петропавлов-ку,Зимний,Адмиралтейство.Из тюрем были выпу-щены политические заключе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Революция в Петрогра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75960" y="1197000"/>
            <a:ext cx="18738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лд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ын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29080" y="608040"/>
            <a:ext cx="4464000" cy="26542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30880" y="620640"/>
            <a:ext cx="4389120" cy="2797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7 февраля члены государственной Думы ре-шили не расходиться и объявили о создании Временного комитета для управления сто-лицей и государством.В это же время был сформирован Исполком Петроградского Совета во главе с меньшевиком Н.Чхеидзе.-Большинство в Совете занимали меньшеви-ки и эс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Двоевластие в цент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8160" y="1341360"/>
            <a:ext cx="3015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ный ком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6880" y="5084640"/>
            <a:ext cx="23936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Чхеид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ед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оград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76360" y="620280"/>
            <a:ext cx="4032360" cy="619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 марта было создано Вре-менное правительство во главе с Г.Львовым. Министром иностран-ных дел стал П.Милю-ков,военным-А.Гучков. Заместитель Петросо-вета А.Керенский стал министром юстиции. Со вет 1 марта издал при-каз №1 по которому пра ктически подчинил себе армию.Поэтому реаль-ная власть в стране при надлежала ему.Но лиде-ры Совета считали,что если революция носит буржуазный характер,то у власти должна быть буржуаз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Двоевластие в цент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3506760" cy="4327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645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очь с 1 на 2 марта М.Родзянко попросил команду-ющего Северным фронтом ген.Рузского убедить Ни колая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отречься от престола в пользу сына.Коман дующие фронтами и флотами практически единог-ласно поддержали это предложение.2 мата Николай подписал отречение,но не в пользу сына,а младше-го брата Михаила.михаил под давлением политиче-ских лидеров принял решение престол не прини-мать.Самодержавие в России было свергну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Отречение Николая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1052640"/>
            <a:ext cx="24775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гон,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ло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282920" y="549360"/>
            <a:ext cx="4392720" cy="2787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 марта была опубликована Декларация изло-жившая принципы внутренней политики Временного правительства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литическая амнистия,введение демократи-ческих свобод,отмена сословий, подготовка к созыву Учредительного собрания,замена полиции народной милицией с выборным начальством,выборы местной власти на ос-нове тайного,прямого голос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Политика новой в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41600" y="1301760"/>
            <a:ext cx="23126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ст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27640" y="609480"/>
            <a:ext cx="4176720" cy="2733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14T16:39:42Z</dcterms:modified>
  <cp:revision>59</cp:revision>
  <dc:subject/>
  <dc:title>Презентация PowerPoint</dc:title>
</cp:coreProperties>
</file>