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0D9-6428-49F7-9441-0AE476C0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25B-ECA0-49FB-AB59-8648BF79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E0D-F0A2-4126-8839-02C37868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18F-1F26-4D04-870C-2D2976D2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779-053D-4E7A-B29B-F68FD6A1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652-F8D7-4856-8B7A-580EEB93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DD8-14DA-4356-B583-B18ED96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62E-1887-4790-8BA8-0C5C42E9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A81-5BAD-4D4B-95A2-506CC02F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C31-28D8-4FE2-975F-A60A6567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302-621C-4913-B0FB-B7866A52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BE1-0C36-40DC-9AD7-48EE6D4F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6D14-4CE8-4899-81DB-9731FA0EA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1828800"/>
            <a:ext cx="59212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Третьеиюнская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монархия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47600" y="1341360"/>
            <a:ext cx="15508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рт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н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стр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3573000"/>
            <a:ext cx="7705800" cy="324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сле убийства Столыпина стало ясно,что полити-ческих реформ ждать не следует и это привело к оживлению революционного движения.В ответ правительство перешло в наступление.Был изме-нен университетский устав.В знак протеста группа виднейших професоров Московского университе-та объявила об отставке.В апреле 1912 г.на приис- ках «Лензолото» были расстреляны 270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282920" y="558720"/>
            <a:ext cx="4537080" cy="29764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90040" y="5770440"/>
            <a:ext cx="170928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иди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19640" y="549000"/>
            <a:ext cx="388944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1912 г.начала свою работу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Государс-твенная Дума.В ней сохранился октяб-ристский маятник и председателем Ду-мы стал М.В.Родзян ко.Хотя большинст-во было за черносо-тенцами Дума была настроена оппозици онно и по многим вопросам Родзянко конфликтовал с Ни колаем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76360" y="692280"/>
            <a:ext cx="3457440" cy="48099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Ужесточение националь-ной поли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.Общество и реформы Столыпин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Почему Столыпину не удалось довести до конца свои реформы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58920" y="3573000"/>
            <a:ext cx="7850160" cy="324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 июня одновременно с роспуском Думы был обнаро-дован новый избирательный Закон.В нем сохраня-лось деление на 4 курии, но ставка теперь делалась на дворян и буржуазию.1 голос дворянина равнялся 260 голосам крестьян и 563рабочих.Представитель-ство инородцев сокращалось,многие народы были лишены избирательных прав,как не достигщие гра жданской зрел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540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82080" y="1413000"/>
            <a:ext cx="17856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идиу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27640" y="636480"/>
            <a:ext cx="3960720" cy="28638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58920" y="404640"/>
            <a:ext cx="4249800" cy="6453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беду на выборах одер-жали октябрист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154 ме-ста),монархисты получи-ли 147 мест и на долю ле-вых 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сь ок.100 ман-датов.Эта ситуация поз-волила октябристам,груп пируясь или с правыми, или с левыми провести любой закон.Из-за конф-ликтов с царем в Думе сменилось 3 председателя -Н.Хомяков,А. Гучков,М. Родзянко-все октябристы.  3 июня одновременно с ро спуском Думы был обна-родован новый избирате-льный Закон.В нем сохра-нялось деление на 4 ку-рии,но ставка делалась на дворян и буржуаз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Государственная ду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02280" y="5300640"/>
            <a:ext cx="324396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итические пар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у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258920" y="1125360"/>
            <a:ext cx="3529080" cy="31910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58920" y="3573000"/>
            <a:ext cx="7850160" cy="324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Целью реформ Столыпина было создание «Великой России».Это предполагало сохранение целостности государства.В Думе предпринимались попытки ликвидировать права окраин дарованные во время революции.В 1909 г.образовалась фракция нацио-налистов,ставшая опорой Столыпина.В 1910 г. Ду-ма приняла закон фактически урезавший финскую автономию.В ответ на протесты финов,Николай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распустил финский Сей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Ужесточение национальной поли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50120" y="1125360"/>
            <a:ext cx="170784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ужд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финск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27640" y="587520"/>
            <a:ext cx="4321080" cy="2931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076360" y="549000"/>
            <a:ext cx="403236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ольше были закрыты культурные общества число земств сократи-лось в 1,5 раза,предста-вительство в Думе сок-ратилось с 37 до 14 чело век.Курии образовыва-лись не по сословному а по национальному прин ципу.В 1908 г. Началась новая антиеврейская ко мпания.достигшая свое- го пика в «Деле Бейли-са», несправедливо обви ненного в ритуальном убийстве 12-летнего ма-льчика.В 1913 г. Суд присяжных вынес ему оправдательный приго-в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Ужесточение национальной поли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45400" y="5877000"/>
            <a:ext cx="153864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.Бейл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03280" y="981000"/>
            <a:ext cx="3449880" cy="43210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ношение общества к реформам Столыпина было сложным,т.к. население не доверяло власти.Крес-тьяне,разчарованные провалом переселенческой политики,вновь активно включались в революци-онное движение.Дворяне видели в премьере разру-шителя устоев.Либералы не могли простить терро-ра.Столыпин мог опереться лишь на октябристов, но и они отвернулись от него из-за медлительности в проведении политических рефо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Общество и реформы Столыпи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77400" y="1224000"/>
            <a:ext cx="163620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ып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реч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арск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м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211640" y="596880"/>
            <a:ext cx="4680000" cy="29764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к. 1910 г.возник конфликт между Столыпи-ным и Николаем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I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, увидевшем в проводи-мой политике угрозу самодержавию.Все ожидали отставки премьера.Но 1 сентября Столыпин был убит двойным агентом,эсе-ром Д.Багровым. Царь на похороны Сто-лыпина не явил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Общество и реформы Столыпи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50480" y="1341360"/>
            <a:ext cx="17884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.Бог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бий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ып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5080" y="619200"/>
            <a:ext cx="3959280" cy="28098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</cp:lastModifiedBy>
  <dcterms:modified xsi:type="dcterms:W3CDTF">2003-01-10T16:04:34Z</dcterms:modified>
  <cp:revision>55</cp:revision>
  <dc:subject/>
  <dc:title>Презентация PowerPoint</dc:title>
</cp:coreProperties>
</file>