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8.png" ContentType="image/png"/>
  <Override PartName="/ppt/media/image11.jpeg" ContentType="image/jpeg"/>
  <Override PartName="/ppt/media/image5.gif" ContentType="image/gif"/>
  <Override PartName="/ppt/media/image9.png" ContentType="image/png"/>
  <Override PartName="/ppt/media/image6.png" ContentType="image/png"/>
  <Override PartName="/ppt/media/image7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8BD2-3299-42EE-A63D-03C045A8F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EC82-3D31-4AB3-AC27-B63F0812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4547-77FE-4EAB-B25C-9E7A6687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D2A5-3CFE-4A11-9145-28D66280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F0D-AABD-4D94-B054-18D56ECA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362D-8CE0-4C77-B1BB-D643F8D1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8F2F-0559-49AC-A0E8-7708C61A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4B52-4873-48E5-AB01-DFF72AAF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232-D533-40AF-A4F1-9AEAE7729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F3BE-9F34-4406-8269-131281C0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A8B9-0F0F-40CA-97C1-092770B6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31FD-3264-4E61-BA4A-93588A57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ECBA0-388F-4F83-B066-F20BA498E0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48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6629400" y="5581800"/>
            <a:ext cx="2590920" cy="112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История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Росс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3276720" y="5695920"/>
            <a:ext cx="1981080" cy="89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3366"/>
                    </a:gs>
                    <a:gs pos="100000">
                      <a:srgbClr val="ffccff"/>
                    </a:gs>
                  </a:gsLst>
                  <a:lin ang="5400000"/>
                </a:gradFill>
                <a:latin typeface="Times New Roman"/>
              </a:rPr>
              <a:t>XX ве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3366"/>
                  </a:gs>
                  <a:gs pos="100000">
                    <a:srgbClr val="ffcc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24000" y="1844640"/>
            <a:ext cx="87120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Советский Союз в 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Monotype Corsiva"/>
              </a:rPr>
              <a:t>предвоенные годы</a:t>
            </a:r>
            <a:endParaRPr b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403280" y="1267920"/>
            <a:ext cx="7632720" cy="496908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Monotype Corsiva"/>
              </a:rPr>
              <a:t> </a:t>
            </a: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1.СССР в начале Второй мировой войны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2.Советско-финляндская войн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3.СССР и Прибалтика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Monotype Corsiva"/>
              </a:rPr>
              <a:t>4.Советско-германские отношения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План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1295280" y="44280"/>
            <a:ext cx="11430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405080" y="1052280"/>
            <a:ext cx="7704000" cy="561636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0000"/>
          </a:bodyPr>
          <a:p>
            <a:pPr marL="30852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-1" strike="noStrike">
                <a:solidFill>
                  <a:srgbClr val="ffff99"/>
                </a:solidFill>
                <a:latin typeface="Monotype Corsiva"/>
              </a:rPr>
              <a:t>Докажите, что внешняя политика СССР накануне войны носила авантюрный характер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368360" y="189000"/>
            <a:ext cx="7667640" cy="57600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Monotype Corsiva"/>
              </a:rPr>
              <a:t>Задание на ур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94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003640" y="476280"/>
            <a:ext cx="4105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1 сентября 1939 г. Герма-ния напала на Польшу и 16 сентября немцы за-няли Варшаву. На следу-ющий день советские войска вступили в поль-ские земли и возвратили земли Западной Украи-ны и Западной Белорус-сии. 28 сентября, после окончательной капиту-ляции Польши, СССР и Германгия подписали Договор о дружбе и гра-нице. Германия факти-чески признала за СССР Ли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1.СССР в н.Второй мировой вой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81840" y="5516640"/>
            <a:ext cx="314640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нглийская карик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 Гитлера и Ста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3292560" cy="4048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331640" y="3357720"/>
            <a:ext cx="7777080" cy="345600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Вскоре СССР предложил Финляндии обменять часть Карельского перешейка на земли в другой части Карелии. В ответ на отказ СССР денонсировал договор о ненападении. 30 ноября 1940 года началась война. Финны опираясь на мощный оборонительный рубеж-линию Маннергейма , оказали отчаянное сопротивление. Начало войны было расценено международной общественностью как акт агрессии и СССР был исключен из Лиги Нац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Советско-финля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22160" y="1341360"/>
            <a:ext cx="233568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рорыв Крас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Армией ли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аннергей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98920" y="523800"/>
            <a:ext cx="4321080" cy="2762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148360" y="476280"/>
            <a:ext cx="396072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</a:rPr>
              <a:t>Запад оказал Финляндии огромную помощь. В феврале 1940 г. Г. Жу-ков, сделав ставку на  технику и артиллерию сумел взломать оборону противника. Финны запросили мира. В марте был подписан Московский договор. Наша страна получила карельский перешеек и ряд островов на Балтике. Но этот успех был оплачен жизнями 75 тыс. солдат. Война привела к подрыву международного авторитета СССР и показала Германии слабые стороны Красной Арм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2.Советско-финляндская вой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42920" y="5514840"/>
            <a:ext cx="252756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Маркиров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ветско-финс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гран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476360" y="981000"/>
            <a:ext cx="3505320" cy="4146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СССР и Прибал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28360" y="1341360"/>
            <a:ext cx="1797840" cy="131364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Подписа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Советско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литовск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догово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1331640" y="3500280"/>
            <a:ext cx="7777080" cy="3313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После разгрома Польши СССР заключил договоры о «взаимной помощи» с прибалтийскими странами. Они предполагали размещение в Прибалтике воен-но-морских ивоенно-воздушных баз Красной Ар-мии.Это создало условия для прихода к власти ком мунистов.В июне 1940 г. Советский Союз потребо-вал назначения новых правительств с участием коммунистов.Это требование вскоре было выпол-н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4068720" y="569880"/>
            <a:ext cx="4680000" cy="2867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3.СССР и Прибалти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46280" y="5659560"/>
            <a:ext cx="3108240" cy="100872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Расшир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советской территор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накануне вой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5076360" y="476280"/>
            <a:ext cx="403236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«Народные правительст-ва» обратились к Совет-скому Союзу с просьбой о вхождении в состав СССР на правах союз-ных республик.В октяб-ре 1940 г. Верховый Со-вет СССР принял соот-ветствующее решение. В Июне 1940 года после советского ультиматума Румыния возвратила Бессарабию и Сев.Буко-вину, отторгнутые в 1920 г.Т.о.западные гра- ницы СССР были отод-винуты на 200-600 к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527120" y="692280"/>
            <a:ext cx="3332160" cy="4733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5219640" y="476280"/>
            <a:ext cx="3889440" cy="6337440"/>
          </a:xfrm>
          <a:prstGeom prst="rect">
            <a:avLst/>
          </a:prstGeom>
          <a:gradFill rotWithShape="0">
            <a:gsLst>
              <a:gs pos="0">
                <a:srgbClr val="46172f"/>
              </a:gs>
              <a:gs pos="50000">
                <a:srgbClr val="993366"/>
              </a:gs>
              <a:gs pos="100000">
                <a:srgbClr val="46172f"/>
              </a:gs>
            </a:gsLst>
            <a:lin ang="5400000"/>
          </a:gradFill>
          <a:ln w="7632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Times New Roman"/>
              </a:rPr>
              <a:t>К осени 1940 г.договорен-ности о разделе «сфер влияния были реали-зованы.К этому време-ни Гитлер покорил ряд европейских стран и ле том 1940 г. отдал при-каз о начале разработ-ки плана войны про-тив СССР- «Барбарос-са».В ноябре 1940 г. Мо лотов в Берлине потре-бовал отнесения к сфе-ре интересов СССР Бо лгарии и черноморс-ких проливов.Гитлер предложил ему присое-диниться к Тройствен-ному союзу и отдать в сферу влияния СССР Ир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7152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368360" y="44280"/>
            <a:ext cx="7667640" cy="433440"/>
          </a:xfrm>
          <a:prstGeom prst="rect">
            <a:avLst/>
          </a:prstGeom>
          <a:solidFill>
            <a:srgbClr val="990033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Monotype Corsiva"/>
              </a:rPr>
              <a:t>4.Советско-германские отнош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53520" y="5950080"/>
            <a:ext cx="2236680" cy="703800"/>
          </a:xfrm>
          <a:prstGeom prst="rect">
            <a:avLst/>
          </a:prstGeom>
          <a:solidFill>
            <a:srgbClr val="ffcc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Папка с план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«Барбаросс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521000" y="620640"/>
            <a:ext cx="3411360" cy="5119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0T17:26:30Z</dcterms:created>
  <dc:creator>Чернов Алексей Иванович</dc:creator>
  <dc:description/>
  <dc:language>en-US</dc:language>
  <cp:lastModifiedBy>Люлюська</cp:lastModifiedBy>
  <dcterms:modified xsi:type="dcterms:W3CDTF">2011-06-08T11:20:22Z</dcterms:modified>
  <cp:revision>59</cp:revision>
  <dc:subject/>
  <dc:title>Слайд 1</dc:title>
</cp:coreProperties>
</file>