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3E4-596F-41F8-A076-C8BE1E8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F9E-5220-464D-B858-801A862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441-45F6-427A-B414-934EE330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84C-A34A-45EF-B033-F0CDEEAA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634-053E-47C6-9B9B-510C7B8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23B-411B-4FAB-9B2C-F54436C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27E-8401-4DC4-B604-0A8B179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062-1F00-4319-B795-1313C39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E35-82A3-4AA2-851B-7FCE9DE6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E73-CDFF-4289-A7EA-657B7F2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163-BABA-4575-9CF7-CE457B6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A59-D0F4-4AD1-A6D4-3FE81E1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493-1E43-458F-BAF5-459F4DCE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492280"/>
            <a:ext cx="871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циально-экономическо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звитие стра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5 г.на установке «То-комак-10» впервые была осуществлена  управля-емая термоядерная реа-кция.В к. 60-х гг.в СССР была создана Единая Энергетическ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5 г.был создан транс- портый самолет «Антей»  В 1975г.началась эксплу- атация сверхзвукового пассажирского самолета ТУ-144.В 1976 г.появил-ся 1-й советский «аэро-бус»-Ил-86. В 1975 г.на-чался выпуск карьер-ных самосвалов БЕЛАЗ-110,началась эксплуата- ция атомного ледокола «Арк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Наука и тех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8760" y="5877000"/>
            <a:ext cx="2831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еактор ато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докола «Аркт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11200" y="836640"/>
            <a:ext cx="3521160" cy="4748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66920" y="1482840"/>
            <a:ext cx="32410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на встре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 колхоз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уркмени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920" y="3645000"/>
            <a:ext cx="785016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20 лет число горожан выросло со 130 до 180 млн. чел. численность жителей села снизилась со 105 до 96 млн.чел.В Нечерноземье села пришли в запусте-ние.Число лиц с высшим и средним образованием составляло 70%.Резко обострился жилищный воп-рос,в республиках средней Азии появилась скрытая безработица. По продолжительности жизни СССР занимал 35-е место в мире, а по детской смертнос-ти-50.Нехватка продовольствия привела к введе-нию в ряде районов страны карто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Особенности социальной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645080" y="549360"/>
            <a:ext cx="424800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 уровню потребления СССР занимал к н. 80-х гг. 77-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оля заработной платы в национальном доходе сос-тавляла лишь 36,5 %, что резко уступало показате-лям развитых капиталистических государств.Оста льную часть доходов  «съедали» гонка вооружений, неразумное хозяйствование, поддержка прокомму-нистических режимов в др.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Особенности социальной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05080" y="549360"/>
            <a:ext cx="4175280" cy="30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ыт советских людей за-метно изменился.Десят-ки миллионов человек переселились в отдель-ные квартиры.В каждой семье появились телеви-зор,радиоприемник и хо-лодильник.Многие ста-ли обладателями отечес-твенных легковых авто-мобилей.Зарплата за 20 лет выросла в 3 раза, но темпы ее роста отстава-ли от темпов роста наци-онального дохода.В то же время номенклатура и работники торговли имели доходы превыша-вшие средние по стране почти в 2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Быт советск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360" y="5661000"/>
            <a:ext cx="19789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конвейе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05080" y="907920"/>
            <a:ext cx="3527280" cy="4105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77080" cy="309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высокооплачиваемой категории населения относи-лись научные работники и творческая интеллиген-ция.В то же время достаток 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3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населения страны был минимальным.Правда цены на продовольст-вие практически были самыми низкими в мире, но во многих районах страны многие категории про-дуктов и промышленных товаров  фактически от-сутствовали в свободной прода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Быт советск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276720" y="549360"/>
            <a:ext cx="4371840" cy="309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Экономические диску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Аграрная реформа 1965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Реформа промышл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Наука и тех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Особенности социальной поли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6.Быт советск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99"/>
                </a:solidFill>
                <a:latin typeface="Monotype Corsiva"/>
              </a:rPr>
              <a:t>Выделите «застойные черты» в экономическом развитии СССР в 60-80-е гг. К чему привел застой советской экономи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ходе обсуждения Прог-раммы партии,в СССР начались дискуссии по вопросам экономическо-го развития.Е.Либерман в 1962 г.предложил оце-нивать деятельность  предприятия не по «ва-лу», а по объему прибы-ли,возродить материаль-ное стимулирование про изводителя и освободить его от мелочной оп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и идеи были одобрены Н.Хрущевым и А.Н.Ко-сыгиным, который стал  главой правительства в 196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Экономические диску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62160" y="6093000"/>
            <a:ext cx="18478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Н.Косыг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03280" y="1125360"/>
            <a:ext cx="3481560" cy="44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24800" y="5891040"/>
            <a:ext cx="36432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на хлоп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нтациях Узбеки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32360" y="763560"/>
            <a:ext cx="4105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кономическая реформа началась с сельского хо-зяйства.В марте 1965 г. Пленум ЦК КПСС ре-шил увеличит капитало-вложения в социальную сферу села, повысить за-купочные цены на сель-хозпродукцию,установил на 6 лет твердый план госзакупок,ввел 50% над бавк уза продажу сверх-плановой продукции, списал долги прошлых лет и снял ряд запретов на ведение личного под-соб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Аграрная реформа 196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3194280" cy="4776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640" y="477720"/>
            <a:ext cx="4105440" cy="61912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администри-рование оставалось гла-вным инструментом аг-рарной политики.В ходе реформы-закупалась те-хника,проводились ме-лиорация,и химизация земель,шло строительст-во грандиозных животно водческих комплексов.В 1970 г.рентабельность с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хозяйства составила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из-за отсутс-твия личной заинтересо-ванности крестьян сред-ства «уходили в песок», потери урожая составля-ли до 40 %, село в н. 80-х гг. вновь стало убыточ-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Аграрная реформа 196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6920" y="5950080"/>
            <a:ext cx="3487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ождевальная устан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3456000" cy="391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ентябре 1965 г. Пленум ЦК рассмотрел вопрос о реформе промышленно-сти.Было изменено дире ктивное планирование. Число плановых показа-телей резко сократилось, но основным по-прежне-му оставался валовый выпуск продукции.В то же время вводился пока-затель качества.Часть до хода предприятие остав-ляло себе.Он шел на раз-витие производства и со- циальной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Реформа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4560" y="5675400"/>
            <a:ext cx="286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фтяные скваж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Поволж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03280" y="836640"/>
            <a:ext cx="3495600" cy="4335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место Совнархозов вновь были введены министерс-тва.Они получили широкие полномочия и ограни-чивали самостоятельность предприятий.8 пятилет ка дала увеличение производства почти в 1,5 раза. Повысилось качество продукции.Были возведены ВАЗ,Красноярская ГЭС и т.д.,началось строитель-ство БАМа и КАМАЗа.Но события в ЧССР в 1968 г.во многом начались из-за аналогичных преобра-зований и реформа была свер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Реформа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725560" y="549360"/>
            <a:ext cx="508644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0-е гг.советская наука добилась огромных ус-пехов,особенно в облас-тях,связанных с оборо-ной.Активно осваивался космос.Началось исполь зование нового космичес кого корабля «Союз»,бы ла создана орбитальная станция «Салют», «Луна -9» в 1966 г.впервые со- вершила мягкую посад ку на поверхность Луны, «Луна-16»доставила на Землю образцы лунного грунта, «Луноход-1» со-вершил поход по лунной поверхности.В 1975 г.со-стоялся полет по прог-рамме «Союз-Аполло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Наука и тех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27400" y="5675400"/>
            <a:ext cx="1630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Лоз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зи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345600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26T16:14:51Z</dcterms:modified>
  <cp:revision>71</cp:revision>
  <dc:subject/>
  <dc:title>Слайд 1</dc:title>
</cp:coreProperties>
</file>