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7DF-8D83-4755-8C0D-A90C03D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555-5ECE-415E-9724-64BDC0F9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4AA-4D0F-4913-99FA-3D32A831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5C6-64F3-400E-ACB2-AB0F3AF1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900-E4B5-411F-A767-AFCD4D69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3DA-71C3-4E16-8C0D-269E5877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C50-96B6-4E5D-B6F6-F49569D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E0D-E938-4D1A-B925-EAB6C58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D10-4C1F-44F4-89DE-36AC184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C11-9824-42C5-9688-222F724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BB5-9880-4266-A497-D690FA9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4AB-B91A-41D1-8C8A-49EFF9D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B845-49E0-4D8E-BAF8-9929C6DF4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1600200"/>
            <a:ext cx="59212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оциально-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экономическо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траны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19640" y="490680"/>
            <a:ext cx="5508360" cy="2938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07880" y="3500280"/>
            <a:ext cx="7800840" cy="3268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обладающей формой монополий в России стали синдикаты, контролировавшие не только процесс производства на отдельных предприятиях,но и про дажу готовой продукции и закупку сырья и комп-лектующих.120 монополий производили около 60% всей промышленной продукции. На крупных пред-приятиях работало 52% от общего числа рабочих в стране.Но в отличии от Запада русская буржуазия не смогла занять ведущие позиции в политической сф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3400" y="1413000"/>
            <a:ext cx="17978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32000" y="3645000"/>
            <a:ext cx="7740720" cy="3168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менения в экономике привели к изменениям в со-циальной сфере.На ведущие позиции стала выхо-дить  «новая»буржуазия связанная с передовыми отраслями.Она сформировалась из гос.чиновни-ков.«Старая буржуазия»,имевшая купеческие кор-ни,отдавала предпочтение текстильной промыш-ленности,но сохраняла при этом свои экономичес-кие позиции.Политическая власть принадлежала дворянам помещикам,сформировался пролетариат его численность составила 13 млн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71240" y="82080"/>
            <a:ext cx="7620120" cy="466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Изменения в социальной сф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2120" y="1074600"/>
            <a:ext cx="2472840" cy="19227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ла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тербург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дунаро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мерче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284720" y="649440"/>
            <a:ext cx="4608360" cy="2923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58560" y="3213000"/>
            <a:ext cx="7799400" cy="360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сер.90-х гг начался подъем сельского хозяй- ства.По основным показателям Россия зани мала 1 место в мире, являясь крупнейшим экспортером хлеба.Быстрыми темпами на-чали развиваться животноводство, произ-водство льна,свеклы,технических культур. прирост производства пришелся на неболь-шую часть зажиточных хозяйств,хотя в де-ревне преобладали полусередняцкие и бед-няцкие семь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Сельское хозяй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800" y="1268280"/>
            <a:ext cx="30168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одство зер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1909-1913 г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555480"/>
            <a:ext cx="5472360" cy="25862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09320" y="3500280"/>
            <a:ext cx="779940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реди помещиков по-прежнему велика была доля хозяйств работающих по старинке и имеющих низкую рентабельность.В деревне остро сказывались 2 проблемы-аграрное пе ренаселение и существование общины,кото- рая спасая слабых тормозила сильных,по-рождала «уравниловку»,сдерживала рост благосостояния крестья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3880" y="1522440"/>
            <a:ext cx="22320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биржи тру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Сельское хозяй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603360"/>
            <a:ext cx="4032360" cy="2849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Промышленный подъем 1893-19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Государство и эконом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Иностранный капита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Монополистический капитализ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Изменения в социальной сфе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Сельское хозяй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ыделите характерные черты развития российской экономики на рубеже 19-20-го вв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32000" y="3644640"/>
            <a:ext cx="7740720" cy="3141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90-х г.19в. В России начался экономический подъ ем.толчком к нему стало строительство Транссиба. За 10 лет протяженность линий росла на 2,5 тыс. км в год.Вслед за железными дорогами началось развитие нефтяной,угольной,металлургической промышленности и машиностроения.В этих отрас-лях ежегодный прирост производства составил 3-4,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Промышленный подъем 1893-1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640" y="1589040"/>
            <a:ext cx="32058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ладка пу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Средне-Сибир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 доро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211640" y="795240"/>
            <a:ext cx="4608360" cy="2765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003560" y="777960"/>
            <a:ext cx="4816440" cy="2722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718560" y="1557360"/>
            <a:ext cx="31633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циональный до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импе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.20 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03280" y="3573000"/>
            <a:ext cx="765648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высокие темпы Россия отставала от раз витых стран по производству продукции на душу населения.Она оставалась среднеразвитой аграр-но-индустриальной страной.Наряду с частнокапи-талистическим укладом в ее экономике соседство-вало мелко товарное и натуральное хозяйство. Многоукладность свидетельствовала о переход-ном характере российской экономики,в которой больше половины национального дохода приноси-ло сельское хозяй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Промышленный подъем 1893-1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332000" y="2968200"/>
            <a:ext cx="7727760" cy="3845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обенностью экономики России являлась особая роль государства,которое вклвдывало деньги в на-иболее мощные военные заводы.Они были исклю-чены из сферы рыночной экономики и выполняли госзаказ и управлялись государственными чинов-никами.Государству принадлежала большая часть желехных дорог,земель,телеграфные линии и поч-та.Оно активно вмешивалось во все сферы хозяйс-твенной жизни,принудительно регулируя уровенб цен устанавливая таможенные пошлины, и выда-вая креди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Государство и эконом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1480" y="936720"/>
            <a:ext cx="27151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ном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859280" y="620640"/>
            <a:ext cx="3544920" cy="2263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03280" y="3357720"/>
            <a:ext cx="7656480" cy="345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 рубеже веков были созданы благоприят-ные условия для привлечения в страну ино странного капитала.В 1897г.министр фина-нсов С.Ю.Витте провел финансовую рефор му.Он ввел золотое обеспечение рубля,его свободную конвертируемость.Потребность в иностранных капиталах объяснялась ог-ромными расходами на индустриализацию и содержание дв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Иностранный капит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22520" y="1341360"/>
            <a:ext cx="21160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остра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213080" y="812880"/>
            <a:ext cx="4680000" cy="24937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02120" y="765000"/>
            <a:ext cx="4890960" cy="2860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332000" y="3688920"/>
            <a:ext cx="7727760" cy="3124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ностранные капиталы составляли 40 % от всех ин-вестиций в экономику.Французы вкладывали де-ньги в банковскую сферу,а через нее в добываю-щую отрасль и машиностроение.Немцы открыва-ли филиалы своих фирм в передовых отраслях пр омышленности.Англия была заинтересована в до-быче нефти и цветных металлов.Это имело и отри-цательную сторону-часть капиталов уплывала за границу,страна должна была выпачивать % по кредита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Иностранный капит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45720" y="1413000"/>
            <a:ext cx="29376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дитер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б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йн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расный Октяб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06920" y="566640"/>
            <a:ext cx="5113080" cy="3024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32000" y="3645000"/>
            <a:ext cx="7727760" cy="3168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1900-03 годах мир охватил экономический кризис.В России особенно сильно пострада-ла тяжелая промышленность.Огромное ко-личество мелких предприятий разорилось, или они были поглощены крупными кон-курентами. В результате в России появи-лись монополии,которые контролировали отрасли эконом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44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40440" y="1557360"/>
            <a:ext cx="18388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02T12:40:10Z</dcterms:modified>
  <cp:revision>62</cp:revision>
  <dc:subject/>
  <dc:title>Презентация PowerPoint</dc:title>
</cp:coreProperties>
</file>