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22A-9BC4-4265-982E-7CEC1470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ED-98A4-4253-97D6-C62EB892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E4F-71D0-49BA-A743-E881866A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56C-BDF3-4974-AC26-0C68B24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7CF-964D-4DDE-9F7F-87E52330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EA9-9240-487D-884A-02B26556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0EB-125C-46CD-92EC-94A1DAE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864-D50E-44EE-8CB0-FFE73359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D16-3A89-4BAE-946F-008AC4E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AA6-E0E4-449B-B70B-8E96EA4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875-8334-449F-80E8-7E133045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194-3682-4DFF-8851-169E8FF6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F2D0-CEE9-4140-9E51-EC12B8F14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557360"/>
            <a:ext cx="8820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циально-экономическое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звитие стра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95640" y="511200"/>
            <a:ext cx="4608720" cy="28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 войны в СССР по-прежнему огромное значе-ние придавалось развитию фундаментальной нау-ки, что объяснялось ее нацеленностью на военную сферу.Были открыты филиала АН СССР  в Дагес-тане, Карелии,Якутии.Общее число научных работ ников за 10 лет удвоилось.В 1949 г.под руководст-вом академика И.Курчатова был успешно реализо ван советский атомный проект и взорвана 1-я со-ветская атомная бомба.В 1953 г.под руководством А.Сахарова, И.Тамма, Ю.Харитона, Я.Зельдовича была создана водородная бом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Развитие науки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5240" y="1341360"/>
            <a:ext cx="15966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спы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том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ом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.Королев успешно работал над созданием управляе-мых ракет.В.1949 г.была запущена высотная гео-физическая ракета.В апреле 1946 г.появились пер-вые реактивные истребители ЯК-15 и МиГ-1. В 1946 г.началось вещание в диапазоне УКВ.В 1951 г. несмотря на гонения,которым подверглась кибер-нетика,академик С.Лебедев смонтировал первую советскую ЭВМ.К сожалению все эти открытия и изобретения уходили в военную сферу и никак не сказывались на улучшении жизни советских лю-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Развитие науки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3440" y="1249200"/>
            <a:ext cx="15141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кадем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.Лебед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 сч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95640" y="549360"/>
            <a:ext cx="4897440" cy="2830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военные годы были одними из самых тяжелых для советских людей.35 млн человек лишились крова, и жили в землянках,бараках и вагонах.рабо-чий день длился 10-12 часов.В деревнях пахали на коровах, сеяли и убирали урожай вручную.Осенью 1947 г. В результате установления единых цен они вырослиот 2 до 3 раз.Цены были настолько высо-ки,что в 1948-52 г.власти 6 раз объявляли об их сни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Быт советск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4320" y="1628640"/>
            <a:ext cx="1846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.Яблон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Хле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568440"/>
            <a:ext cx="5040360" cy="281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рьезной проблемой стала хроническая нехватка продуктов питания и товаров народного потребле-ния.В магазинах часто возникали огромные очере-ди.Население жило на «подножном корме».За хи-щение с колхозных полей были введены жестокие наказания.В то же время эти годы стали одними из наиболее ярких для жителей страны-подъем выз-ванный Победой привел к тому что население счи-тало трудности временными и с надеждой на луч-шее смотрело в будущ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Быт советск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9280" y="1628640"/>
            <a:ext cx="20689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мму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варт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24360" y="539640"/>
            <a:ext cx="5040360" cy="2835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1.</a:t>
            </a: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Экономические последствия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2.Экономические диску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3.Четвертая пятилетка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4.Послевоенная дерев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5.Развитие науки техн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Monotype Corsiva"/>
              </a:rPr>
              <a:t>6.Быт советских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Благодаря чему Советский Союз смог в кратчайший срок преодолеть экономические последствия войн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66560" y="3573360"/>
            <a:ext cx="7777080" cy="32846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а привела к колоссальным материальным и людским потерям нашей страны.27 млн убитых и 2 млн инвалидов.Сокращение посевных площадей на 37 млн га и потеря трети национального богатс-тва.Возрождение экономики началось еще в 1943 г. героизм тружеников тыла привел к тому,что в 1944 г.освобожденные районы дали половину заго-товок зерна,четверть-мяса,треть-молочных продук 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Экономические последствия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14160" y="1700280"/>
            <a:ext cx="1881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а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алинг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708360" y="584280"/>
            <a:ext cx="5184720" cy="29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и разработке 4 пятилет-него плана Госплан во главе с Н.Вознесенским предложил ряд смелых идей-свободную торгов-лю сельхозпродуктами, акционирование промы-шленного производства,-реформирование денеж-ной системы, открытие кооперативных магази-нов,ликвидация части колхозов.Но в 1952 г.в статье  «Экономические проблемы социализма в СССР» Сталин отверг эти предложения и стра на возвратилась к адми-нистративно-хозяйстве-нной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Экономические диску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72000" y="6124680"/>
            <a:ext cx="24728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А.Вознес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76360" y="779400"/>
            <a:ext cx="3360600" cy="502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4-й пятилетний план был принят весной 1946 г.Он предусматривал восстановление экономики стра-ны за 3 года.Эта задача решалась в условиях пере-хода общества на мирные рельсы.Возвращение де-мобилизованных,нехватка квалифицированных ка дров,дефицит финансовых средств,поддержка вос-точноевропейских государств-затрудняли решение главной задачи.В тоже время мы получали репара-ции от Германии и могли вывозить с ее террито-рии оборудование и ста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Четвертая пяти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29440" y="1628640"/>
            <a:ext cx="22928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с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непрогэ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530280"/>
            <a:ext cx="4176720" cy="2886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889440" cy="6264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Тем не менее главным источником восстанов-ления оставалось село-закупочные цены в 10-12 раз были ниже роз-ничных.На восстанов-лении работали плен-ные и узники ГУЛАГа. Огромную роль продол жало играть соцсорев-ноание.Токарь Г.Борт- кевич в 1948 г.выпол-нил 13 сменных норм за день.К 1949 г.эконо-мика была восстанов-лена плановое задание было перевыполнено в промышленности на 70%в сельском хозяй- стве-на 4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Четвертая пяти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29120" y="62690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4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547640" y="907920"/>
            <a:ext cx="3484800" cy="515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ложение села продолжа-ло оставаться очень тя-желым.В 1946 г.разрази-лась засуха в Молдавии, на Украине, Черноземье. Средняя урожайность не превышала 4 центнеров с га.Из-за нехватки жи-вотных погибло 3 млн голов скота.Это привело к сокращению норм вы-дачи продуктов по кар-точкам.Это в свою оче-редь привело к страшно-му голоду, особенно на Украине.Здесь погибло ок.1,5 млн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Послевоенная дере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2520" y="5819760"/>
            <a:ext cx="2264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послево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ре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50800" y="981000"/>
            <a:ext cx="3408480" cy="4584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есмотря на эти трудности поставка зерна за грани-цу продолжилась.Ежего-дно увеличивались дене-жные и натуральные на-логи.У колхозников ото-брали приусадебные уча стки и отдали их колхо-зам.В 1948 г. Крестьянам рекомендовали продать  государству мелкий скот и в ответ было зарезано 2 млн голов скота.Крес-тьяне не имели паспор-тов и не могли выехать в город.В результате сни-жения производства хле ба в н.50-х г. СССР на-чал закупать его за гра-ниц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Послевоенная дерев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1640" y="5819760"/>
            <a:ext cx="1945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.Солов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 194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76360" y="907920"/>
            <a:ext cx="3341880" cy="469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1-04T16:00:17Z</dcterms:modified>
  <cp:revision>54</cp:revision>
  <dc:subject/>
  <dc:title>Слайд 1</dc:title>
</cp:coreProperties>
</file>