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45E-AFF5-4B38-926C-1C5B9749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EEE-8681-41B2-88B8-29657148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C45-B510-4DDE-A63E-26D08D15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2E1-E782-4FBB-84B8-0A7DFBD5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9F6-1862-49FF-A2C6-A6F83662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2B3-EA4C-4931-A191-EDF5A1F0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ED0-06A4-448D-8091-D7960CA9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7C9-6454-459C-9356-E297067D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4D0-36A0-4C1A-A003-2A71107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15F-B1AD-45AB-A259-DF4F14D6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D68-9DAA-4895-B1C6-F71F5D65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C3D-C7F5-40F7-A144-C99FE216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168A-3EDB-468F-859B-2D1D196B3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10840" y="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8120" y="1447920"/>
            <a:ext cx="592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Социально-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экономическое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1907-14 гг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58920" y="3573000"/>
            <a:ext cx="7804080" cy="324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о вновь привело к началу промышленного подъе-ма(1909-13 гг.-9% в год).Крестьянство пошло по своему пути- в отличие от амери-канцев оно стало объединяться в коопера-тивы,которые активно ра-ботали как на внутреннем,так и на внешнем рын-ке. В 1912 г.был создан Московский народный банк кредитовавший крестьяндля покупки техники,се-мян,удобрений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1-е результаты реф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18120" y="1341360"/>
            <a:ext cx="202644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.Столып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гост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ула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95640" y="622440"/>
            <a:ext cx="4824360" cy="2877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П.А.Столыпин и его програм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.Разрушение общи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.Переселенческа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.1-е результаты рефор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В.И.Ленин назвал столыпинскую аграрную реформу «последним клапаном». Прав ли он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87640" y="549000"/>
            <a:ext cx="427500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ля обуздания революции нужны были не только ус тупки и репрессии,но и со циально-экономические реформы.Летом 1906 г. председателем Совета ми-нистров стал П.А.Столы-пин.Выступая в Думе он заявил: «Сначала успоко-ение,потом-реформы».В августе 1906 г.после взры ва его дачи,который иска лечил его младшую дочь, он подписал указ о воен-но-полевых судах-разби-рательство теперь дли-лось 48 часов, а приговор приводился в исполнение в течение суток.За 4 года было казнено 3825 ч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П.А.Столыпин и его програм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23480" y="5734080"/>
            <a:ext cx="224568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.А.Столып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97160" y="981000"/>
            <a:ext cx="3246120" cy="4270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87640" y="549000"/>
            <a:ext cx="427500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иселицу прозвали «столы-пинским галстуком»,а«те-плушки»- «столыпински-ми вагонами».Участие в революции крестьянства заставило премьера на-чать аграрную реформу. 24.08.1906 он опубликовал свою программу.Ставя за-дачу наведения порядка документ объявлял о под-готовке законов о вероис-поведании,начальном об-разовании,местном само-управлении,полицейской реформе,рабочем законо-дательстве,подоходном нало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П.А.Столыпин и его програм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24560" y="5734080"/>
            <a:ext cx="2297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лыпин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лст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15880" y="976320"/>
            <a:ext cx="3156120" cy="4397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58920" y="3716280"/>
            <a:ext cx="7812000" cy="309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9.11.1906 началась аграрная реформа.Правительство разрешило свободный выход из общины.Наделы закрепленные за крестьянином становились его со-бственностью,сводясь в единый участок.Крестья-нин мог выходить на отруб(оставаясь жить в дерев не),или на хутор.Столыпин стремился создать слой мелких буржуазных собственников,как опору само-держав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540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Разрушение общ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67800" y="1666800"/>
            <a:ext cx="274716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Кардаковск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 тащися,Сивк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716360" y="682560"/>
            <a:ext cx="3888000" cy="2962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1200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 главной задачей реформы было стремле-ние отвлечь крестьян от борьбу за отчужде-ние помещичьих земель.Но выход неожидан но пошел в другом направлении.60%вышед ших из общины крестьян продали свои наде лы.Численность хуторян к 1915 г.составля-ла 10%.Остальные крестьяне относились к ним с нескрываемой враждебно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540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Разрушение общ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34120" y="1197000"/>
            <a:ext cx="195012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.Столып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коми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хуторск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зяйст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56000" y="666720"/>
            <a:ext cx="4464000" cy="28162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5016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ажнейшим направлением реформы стала переселен ческая политика.Борясь с перенаселением в центре страны,Столыпин стал раздавать земли в Сибири и на Дальнем Востоке,предоставляя переселенцам льготы(освобождение на 5 лет от налогов и воинс-кой службы).Но местные власти отнеслись к этому враждебно.Почти 20% перселенцев возвратились назад.Правда население восточных районов все же заметно увелич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Переселен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15040" y="981000"/>
            <a:ext cx="1953000" cy="192276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.Столып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ним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волост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ос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211640" y="644400"/>
            <a:ext cx="4032360" cy="27846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58920" y="3573000"/>
            <a:ext cx="7804080" cy="324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толыпин не ждал быстрых результатов.Однажды он заявил: «Дайте государству 20 лет покоя… и вы не узнаете нынешней России».За годы реформы на 10% увеличились посевные площади,Россия стала экспортировать 25% мировой торговли хлебом,на-чалось широкое использование минеральных удо-брений,крестьяне начали закупать и применять се-льскохозяйственную тех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1-е результаты реф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63920" y="1557360"/>
            <a:ext cx="185868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ль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операти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95640" y="590400"/>
            <a:ext cx="4824360" cy="2935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</cp:lastModifiedBy>
  <dcterms:modified xsi:type="dcterms:W3CDTF">2003-01-08T15:36:24Z</dcterms:modified>
  <cp:revision>56</cp:revision>
  <dc:subject/>
  <dc:title>Презентация PowerPoint</dc:title>
</cp:coreProperties>
</file>