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132-80F6-4255-BBAF-19955329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4D4-BD36-4CE8-9018-1D55C06E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94D-FE81-455D-B5D2-3526E5CB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779-E726-4C28-8384-2E081E5F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4D1-EC05-4860-95EE-BC9FC609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394-FDF7-43D7-A7C5-B63AEC12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05D-C545-4634-8B6B-83B16830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B8B-212B-4D86-B6E7-3950BAC9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CB9-5F1A-476C-B52F-A064049D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6F3-E2C7-4C91-9EC7-57B5568A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E82-B94F-4E38-991F-2881BBC1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7B8-4C02-43A1-9B0C-0CED0ED0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F066-8EBF-4661-8F4A-2F25E5D41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844640"/>
            <a:ext cx="87120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оветский тыл в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годы войн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31640" y="3500280"/>
            <a:ext cx="7777080" cy="3313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Другие представители культуры выезжали на фронт в составе артистических бригад.В Средней Азии на объединенной киностудии продолжали снимать кинофильмы.Огромную популярность приобрели лирические песни(«Огонек»,«В землянке»,«Катю-ша» и др.)Д.Шестакович в осажденном Ленинграде написал Седьмую симфонию, которая летом 1942 г.была исполнена в осажденном городе. В Москве, Ленинграде продолжали работать теат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4.Деятели культуры-фрон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14320" y="1643040"/>
            <a:ext cx="181152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.Н.Толс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 летч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995640" y="569880"/>
            <a:ext cx="4824360" cy="2859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 1941 г.на свободе оста-лось 7 епископов Русс- кой Православной церк-ви.Местоблюститель пат риаршнго престола мит-рополит Сергий 22 июня 1941г.призвал верующих на защиту Родины. Его примеру последовали ли деры других конфессий. Церковь не только вела идеологическую работу, но и собирала средства для нужд фронта.В этих условиях Сталин в сен-тябре 1943 г.восстановил патриаршество и освобо-дил часть священ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Церковь в годы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30520" y="6195960"/>
            <a:ext cx="27806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итрополит Сер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476360" y="836640"/>
            <a:ext cx="3341880" cy="4938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479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1.Советское общество в годы вой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2.Перестройка экономики на военный ла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3.Образование и нау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4.Деятели культуры-фронт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5.Церковь в годы вой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99"/>
                </a:solidFill>
                <a:latin typeface="Monotype Corsiva"/>
              </a:rPr>
              <a:t>Докажите, что труженики тыла внесли существенный вклад в разгром гитлеровских захватчиков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11640" y="538200"/>
            <a:ext cx="4681440" cy="2998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31640" y="3573000"/>
            <a:ext cx="7777080" cy="3240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ойна коренным образом изменила жизнь людей.Сна чала была надежда на то, что боевые действия пе-реместятся на территорию врага,но вскоре стало ясно,что в ходе войны решается судьба самой стра-ны.Зверства фашистов привели к советских людей к необходимости беспощадной борьбы с агрессором  Сталин в своей речи 3 июля неожиданно произнес: «Братья и сестры!» Люди поняли необходимость сплочения и самоотверженности в борьбе  и это стало предпосылкой партизанского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Советское общество в годы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17440" y="1660680"/>
            <a:ext cx="14259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Бежен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56000" y="533520"/>
            <a:ext cx="4643640" cy="2943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331640" y="3500280"/>
            <a:ext cx="7777080" cy="3313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Угроза оккупации прифронтовых районов заставила начать вывоз оттуда всего самого ценного-оборудо-вания, сырья людей и т.д. эту деятельность возгла-вил Совет по эвакуации.За короткий срок на Вос-ток было переброшено огромное количество грузов За 5 месяцев было эвакуировано 1500 крупных пре дприятий и 10 млн человек.на новом месте для них возводили новые производственные помещения, или объединяли с уже существующими предприя-тиями(Танкогра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Перестройка экономики на военный л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3280" y="1557360"/>
            <a:ext cx="237996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Эвакуи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завод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ово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31640" y="3500280"/>
            <a:ext cx="7777080" cy="3313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Многие производства были перепрофилированы на выпуск военной продукции.В декабре 1941 г. паде-ние производства прекратилось и начался его рост. В сер. 1942г.перестройка жизни страны на военный была успешно завершена, хотя западные эксперты считали,что нам понадобится на этоне менее 5 лет. Советская экономика в итоге выиграла соревнова-ние у экономики фашистской Германии и это ста-ло одной из причин нашей победы в во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Перестройка экономики на военный л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05400" y="1803240"/>
            <a:ext cx="19454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лакат.194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356000" y="581040"/>
            <a:ext cx="4464000" cy="2890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331640" y="3429000"/>
            <a:ext cx="7777080" cy="3384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ойна нанесла тяжелый удар по системе образования. Тысячи школ были разрушены, не хватало учеб-ников и терадей.Но работа школ продолжалась да-же в осажденных Севастополе,Ленинграде,Сталин-граде и др.городах.В оккупированных районах обучение детей прекрат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Научные центры в годы войны переместились на Восток.Сюда бали эвакуированы научно-исследо-вательские институты АН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Образование и на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49120" y="1482840"/>
            <a:ext cx="12596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о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шк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194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140360" y="550800"/>
            <a:ext cx="4176720" cy="2801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331640" y="3429000"/>
            <a:ext cx="7777080" cy="3384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годы войны советские ученые работали на нужды армии.Академик Е.Патон, разработал новый метод сварки стали,  позволявший получать сверхпроч-ные танковые корпуса.А.Иоффе создал первые в мире радиолокаторы.Медики разработали методи-ку переливания крови и впревые начали приме-нять пенициллин.В 1943 г. Началась разработка со ветского ядерного оружия.Конструкторы работали над созданием новых образцов воору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Образование и на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1571760"/>
            <a:ext cx="177336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Констру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.Дегтяр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140360" y="552600"/>
            <a:ext cx="4608360" cy="2828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 первых дней войны ты-сячи деятелей советской культуры ушли на фронт.Защищая Родину погибли А.Гайдар и Е. Петров. Фронтовыми корреспондентами рабо-тали М.Шолохов,К.Си-монов,А.Фадеев и др. В осажденном Лениграде продолжали работать О. Бергольц,В.Инбер,Д.Шостакович.События тех дней нашли отражение во «Фронтовых дневни-ках» К.Симонова,И.Эрен бурга,Н.Тихонов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4.Деятели культуры-фрон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56000" y="5950080"/>
            <a:ext cx="29804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.П.Гайдар на фрон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3370320" cy="4435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2-10-26T15:38:41Z</dcterms:modified>
  <cp:revision>54</cp:revision>
  <dc:subject/>
  <dc:title>Слайд 1</dc:title>
</cp:coreProperties>
</file>