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11.jpeg" ContentType="image/jpeg"/>
  <Override PartName="/ppt/media/image5.gif" ContentType="image/gif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7023-7EB1-48D0-ACEF-B5653F55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F344-6B97-4747-8DC4-AC46C9CE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F44F-D5B3-4598-814D-075143A0B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962C-AF64-4623-AFE9-0AC85D447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9666-0271-4F41-8C19-8697C128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C56F-A4F0-44ED-9639-EB7DA342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96FE-F0EF-453E-9FA7-4A0617E2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2672-B039-4B67-8211-EE0D1FD3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AE84-3450-4EB7-AC0E-E056929B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A786-3DDC-4278-AFFC-CE02EF01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4CD0-9529-4396-A5EB-313A20DA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D711-BEAA-4932-B548-EB0E3266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15A6-1111-4F01-98F4-B595FB98E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61440" y="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800080"/>
                </a:solidFill>
                <a:uFillTx/>
                <a:latin typeface="Times New Roman"/>
              </a:rPr>
              <a:t>Урок №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87280" y="2347920"/>
            <a:ext cx="7417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Политическое развитие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в 1960-80-х гг.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7 октября 1977 г. Была принята новая Конституция СССР.В Преамбуле говорилось о построении обще-ства «развитого социализма» в СССР.отмечалось, что социальную базу СССР составлял союз рабоче-го,класса,крестьянства и интеллигенции.6 статья закрепляла руководящую роль КПСС в советском обществе.Была подчеркнута доминирующая роль Центра в отношениях с республ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5.Конституция 1977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69600" y="1484280"/>
            <a:ext cx="275184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ерховный Со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СССР приним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Конституцию 1977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645080" y="538200"/>
            <a:ext cx="4319640" cy="3035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Конституция провозглашала и гарантировала,поли-тические,социальные,экономические права совет-ских граждан.Вскоре ВС СССР принял законы,раз вивашие основные положения Конституции.Осно-вной закон 1977 г.носил демократический характер Он соответствовал букве и духу гуманитарных ре-шений Хельсинского Совещания 1975 г.,но на пра-ктике Конституция не соблюдала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5.Конституция 1977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70160" y="1643040"/>
            <a:ext cx="262836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Фонтан «Друж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ародов» на ВДН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4140360" y="573120"/>
            <a:ext cx="4679640" cy="3030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403280" y="1267920"/>
            <a:ext cx="7632720" cy="496908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82000"/>
          </a:bodyPr>
          <a:p>
            <a:pPr marL="4374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Monotype Corsiva"/>
              </a:rPr>
              <a:t>1.Нарастание консервативных тенденц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Monotype Corsiva"/>
              </a:rPr>
              <a:t>2.Усиление партийного контрол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Monotype Corsiva"/>
              </a:rPr>
              <a:t>3.Возрастание роли ВП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Monotype Corsiva"/>
              </a:rPr>
              <a:t>4.«Развитой социализм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Monotype Corsiva"/>
              </a:rPr>
              <a:t>5.Конституция 1977 го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План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295280" y="4428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05080" y="981000"/>
            <a:ext cx="7704000" cy="5616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99"/>
                </a:solidFill>
                <a:latin typeface="Monotype Corsiva"/>
              </a:rPr>
              <a:t>Докажите, что в политической сфере жизни советского общества в 60-80-е гг. определяющими были «застойные» явления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Задание на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79280" y="53737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492360" y="620640"/>
            <a:ext cx="5472360" cy="3159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331640" y="3933720"/>
            <a:ext cx="7777080" cy="288000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1964 г.во главе Советского государства встал Л.И. Брежнев. Он был добр, отзывчив, любил прогулки на свежем воздухе, был охотником и автомобилис-том. Брежнев был тонким психологом,умел учиты-вать психологические особенности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тоталитарной системе эти качества для лидера должны быть определяющ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1.Нарастание консервативных тенден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9280" y="1465200"/>
            <a:ext cx="1978920" cy="131364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Л.И.Брежне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луч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Ленинск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ремию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1.Нарастание консервативных тенден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35040" y="1628640"/>
            <a:ext cx="249552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Л.И.Брежнев и 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рач Е.И.Чаз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356000" y="546120"/>
            <a:ext cx="4608720" cy="3075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1974 г. Леоних ильич перенес инсульт.Это привело к потере им чувства реальности.Он стал подвер-жен лести, получил 122 ордена и медали в том чис-ле 4 золотые звезды Героя Советского Союза,8 ор-денов Ленина,орден «Победы».В условиях болезни он перекладывал ведение дел на Ю.Андропова,А. Громыко,Д.Устинову.Брежнев смог обеспечить стабильность для номенклатуры и она его безого-ворочно поддержив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95760" y="487440"/>
            <a:ext cx="4368960" cy="3085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1966 г. были отменены все изменения в Уставе КПСС.Брежнев стал Генеральным секретарем,воз- растные ограничения были отменены.Парткомы получили право контролировать деятельность ад-министрации.Номенкулатура,получила первоклас-сное жилье,медицинское обслуживание, «продукто-вые пайки».Численность номенклатуры выросла в несколько раз.Численность бюрократии составила 18 млн.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2.Усиление партийного контро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61920" y="1484280"/>
            <a:ext cx="202464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Л.И.Брежнев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М.А.Суслов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заводе З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сер.60-х гг.руководство страны поставило зада-чу достичь военно-стра-тегического паритета с США.На вооружение на-чала поступать новей-шие техника и ядерное оружие.Роль Генерали-тета и руководства ВПК резко выросла.В 1976 г. Министром обороны стал член Политбюро Д. Ф.Устинов,возглавляв-ший долгие годы различ ные отрасли военного произво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Глава Армии впервые стал участником выработки и принятия политичес-ких ре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3.Возрастание роли ВП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19960" y="5734080"/>
            <a:ext cx="222732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Ракеты сре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да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438200" y="765000"/>
            <a:ext cx="3421080" cy="4600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487760" y="476280"/>
            <a:ext cx="4476960" cy="3152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Результаты этого не замедлили себя ждать.СССР еже годно выпускал в 5 раз больше танков,чем страны НАТО и имел на вооружении 64 тыс.машин(НАТО -22 тыс.)СССР превосходил США по подлодкам в 3 раза,по стратегическим бомбардировщикам в 2 ра- за,орудиям и минометам в 7 раз.Доля военных рас-ходов в бюджете СССР составила 30%.После при-хода к власти Ю.Андропова резко повысилась роль КГ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3.Возрастание роли ВП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7840" y="1554120"/>
            <a:ext cx="216036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Л.И.Брежнев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Тихоокеанс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фл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Советское руководство прекрасно понимало,что пос-троить коммунистическое общество к1980 г.не воз-можно.В 1967 г.Брежнев объявил о построении в СССР «развитого социализма».Это был реальный факт-в СССР  завершилось строительство эконо-мических основ индустриального общества.Авто-ры говорили об окончательном решении национа-льного вопроса, однородности советского обще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4.«Развитой социализм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38560" y="1643040"/>
            <a:ext cx="248364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устые прила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1981 г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140360" y="544680"/>
            <a:ext cx="4824360" cy="3062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Чернов Алексей</cp:lastModifiedBy>
  <dcterms:modified xsi:type="dcterms:W3CDTF">2002-11-21T15:34:37Z</dcterms:modified>
  <cp:revision>71</cp:revision>
  <dc:subject/>
  <dc:title>Слайд 1</dc:title>
</cp:coreProperties>
</file>