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0D2-1A54-4B5D-AA81-DF80C95E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CAB-BD22-4E89-8821-C7725D1F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007-F84C-4FEC-84DB-BA753F0E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C61-6E86-4995-92DD-BA20FFEC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C11-E761-4BEF-BE0E-A6F6BFBB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CAF-49FB-433B-98A4-BBD7B27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6BB-C505-469E-89DB-5A8CB7D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60E-81DA-4D52-9959-B53FEE4F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0C7-38B0-4704-A514-4390422E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1F8-A73A-4766-9429-A76DF51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7FB-36F8-42C9-BBD6-FDBFBC6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266-22AA-4B56-90C9-4A8FFEC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EA9C-088B-4DA9-B3FA-57883E677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828800"/>
            <a:ext cx="59212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Политическ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еформы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1906-07 гг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20680" y="5516640"/>
            <a:ext cx="21495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док в Ду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рязанск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932000" y="475920"/>
            <a:ext cx="4203720" cy="6380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сле подавления Декабрь-ского вооруженного вос-стания забастовочное дви жение пошло на убыль.В 1905 г. бастовало 3 млн. чел., в 1906-1 млн.,в 1907-740 тыс.Наибольшую ак-тивность проявляли тек-стильщики,а стачки но-сили в основном экономи ческий характер.рабочие выступали против попы-ток увеличить рабочий день и снижения зарпла-ты.В большинстве случа ев фабриканты шли на уступ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Революция в 1906-07 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3216240" cy="4491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87280" y="3715920"/>
            <a:ext cx="7948800" cy="3140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сной 1906 г. Поднялась волна крестьянского движе-ния. Восстания все чаще стали сопровождаться раз-громом имений. В наказах крестьян в Думу звучали требования передачи земли в их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должились волнения в армии и на флоте.Они про-шли в Кронштадте,Свеаборге и Ревеле.За восстани-ями стояли эсеры,планировавшие окружитьстолицу кольцом военных выступлений.Но восстания были подавлены, а матросы отданы под су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Революция в 1906-07 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05400" y="1341360"/>
            <a:ext cx="16452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росы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лтий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067280" y="620640"/>
            <a:ext cx="4824360" cy="3057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32280" y="504360"/>
            <a:ext cx="4276800" cy="630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волюция носила незавер-шенный характер,т.к. не решила стоящие перед страной задачи.Власти по шли только на ряд усту-пок.Рабочий день снизили до 9-10 часов,повысилась зарплата,начались заклю-чаться коллективные до-говоры на предприятиях были отменены выкуп-ные платежи для кресть-ян и снижена арендная плата за землю.Трудящи-еся получили право на создание организаций,бы-ли дарованы ряд полити-ческих прав и свобод.От-менялось уголовное нака-зание за участие в ста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Итоги револю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0520" y="5516640"/>
            <a:ext cx="314784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Терещенко.Плак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80-лети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ус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волю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03280" y="708120"/>
            <a:ext cx="3219480" cy="45925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31640" y="3716280"/>
            <a:ext cx="7777080" cy="309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ским начальникам запретили налагать на кресть-ян административные взыскания в том числе те-лесные наказания.Была создана Гос.Дума.Огром-ное количество людей втянулось в политическую борьбу и прошло «революционную школу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экономике страны наблюдался большой спад-уме-ньшился торговый оборот,сократилось промыш-ленное и сельскохозяйственное произ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Итоги револю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39640" y="1268280"/>
            <a:ext cx="22989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бирате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выбор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у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51280" y="620640"/>
            <a:ext cx="5113440" cy="30481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34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«Основные законы»1906 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4.Революция в 1906-07 г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5.Итоги революц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Как менялась политика самодержавия в 1906-07 гг. и к каким результатам это привело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76360" y="549000"/>
            <a:ext cx="403236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1.12.1905 был издан закон о выборах в Гос.Думу. Избиратели делились на 4 курии:землевладель-ческая,городская,крестьянская и рабочая.В вы-борах не участвовали женщины,военнослужащие,нац.меньшинства.1 голос помещика равнял ся  3 голосам буржуазии, 15 голосам крестьян и 45 голосам рабочих.Вы-боры были 2 ступенча-тыми для помещихов и буржуазии,3-для рабо-чих и 4-хступенчатыми для крестья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«Основные законы»1906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10120" y="5950080"/>
            <a:ext cx="172764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.Булыг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03280" y="836640"/>
            <a:ext cx="3503520" cy="4692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906 г.Госсовет получил законосовещательные фун кции.он частично выбирался частично назначался царем.В апреле царь утвердил Основные законы Российской империи.Монарх обладал всей полно-той «верховной» власти.Назначал правительство издавал законы,мог распустить Думу.Он мог изме-нить Основные законы,но с согласия Думы.Зако-нодательная власть делилась между царем,Госсо-ветом и Ду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«Основные законы»1906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02520" y="1444680"/>
            <a:ext cx="14760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сов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ов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24360" y="639720"/>
            <a:ext cx="4824360" cy="2935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50720" y="1125360"/>
            <a:ext cx="274860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откры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920" y="3428640"/>
            <a:ext cx="7812000" cy="3427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марте-апреле 1906 г.состоялись выборы.из 499 де-путатов 142 были крестьяне,46 помещиков,5 фаб-рикантов 73 дворянских служащих и др.Депутаты распределились по партийным фракциям,кресть-яне создали фракцию трудовиков.180 человек ока-зались кадетами,поэтому председателем думы стал С.А.Муромцев.Правые в Думу не попали,а больше-вики и эсеры выборы бойкотировали.27 апреля Дума в присутствии царя начала свою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213080" y="654120"/>
            <a:ext cx="4680000" cy="2703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17040" y="1157400"/>
            <a:ext cx="28645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идиу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й слев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.А.Муром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8920" y="3428640"/>
            <a:ext cx="7812000" cy="3427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вительство рассчитывало на аполитичность кре-стьян. Расчет оказался верным,Но зато крестьяне поставили в повестку дня вопрос о земле и сорвали работу Думы.Крестьянский земельный проект пре-дусматривал бесплатную передачу земли тем,кто ее обрабатывает.Часть трудовиков потребовала отме-нить частную собственность на землю.Либералы требовали отмены Госсовета и в ответ 9 июля 1906 г. Дума была распуще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88000" y="677880"/>
            <a:ext cx="3816360" cy="2695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58560" y="3257640"/>
            <a:ext cx="7799400" cy="3556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боры во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Думу прошли в феврале 1907 г.В них приняли участие большевики и эсеры.Социальный состав Думы практически не изменился,но зато в партийных списках произошли изменения.Трудо-вики имели 104 голоса,кадеты-98,социал-демокра-ты-65,эсеры-37,октябристы-32,монархисты-10.Пред седателем был избран кадет Ф.А.Головин.основ-ным вопросом вновь стал аграрный.Левые потре-бовали безвозмездной конфискации помещичьих земель, и ее передачу в общенародный фо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400" y="1373040"/>
            <a:ext cx="29833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идиу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й слев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.А.Голов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564000" y="836640"/>
            <a:ext cx="5329080" cy="2354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560" y="3257640"/>
            <a:ext cx="7799400" cy="3556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спуск Думы стал неизбежным.Правительство обви-нило 55 социал-демократов в подготовке государс-твенного переворота и потребовало лишить их де-путатской неприкосновенности.Дума отказалась это сделать и потредовала доказательст преступной деятельности.В ответ 3 июня 1907 г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ос.Дума бы-ла распущена.Это событие считается датой окон-чания 1 русской революции,т.к. в этот день царь изменил избирательный зак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440" y="1197000"/>
            <a:ext cx="20901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вриче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00720" y="609480"/>
            <a:ext cx="4032000" cy="2571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08T15:40:55Z</dcterms:modified>
  <cp:revision>55</cp:revision>
  <dc:subject/>
  <dc:title>Презентация PowerPoint</dc:title>
</cp:coreProperties>
</file>