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11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84A-E9C7-44E7-8924-37C2C195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A4B-4E75-4187-9590-6C1B8191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193-6449-4524-A5BD-ABD0BBBF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60C-F6C7-4B7D-A554-B5D3FD91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352-6867-41C7-A738-869906B6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5FF3-AFA6-48FF-B240-10360851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7E6E-3E24-4CEC-BFD1-EEFE9067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553-781B-4F31-BECD-D297B89B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DFFC-F903-4B0D-9A82-2EB3E199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FAE-052B-46A7-ACA1-9E20D42C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DFE-52F2-4C17-9514-021790DD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349-0A97-44D9-A262-ECBE0023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3F92-9BF6-4DD8-A59E-3214B9DFE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1800" y="0"/>
            <a:ext cx="15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рок №4</a:t>
            </a: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16000" y="1341360"/>
            <a:ext cx="712800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Изменения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в политической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истеме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связи с переходом к стро-ительству социализма встала задача выработ-ки новой Конституции. Она должна была соз-дать правовую основу для перерастания совет-ского государства в обще народное.Проект Консти туции был подготовлен к лету 1964 г.он предус-матривал демократиза-цию общества,ротацию депутатского корпуса, привлечение трудящих-ся к решению государст-венных вопросов,но отс-тавка Хрущева не позво-лила принять этот про-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Проект Конституции ССС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2600" y="5659560"/>
            <a:ext cx="320904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уководители брат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омпартий у памят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.Марксу в Моск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515960" y="692280"/>
            <a:ext cx="3272040" cy="4794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932360" y="476280"/>
            <a:ext cx="417672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Непоследовательность Н. Хрущева,частые перет-ряски в аппарате,его не-желание прислушивать-ся к мнению других чле-нов высшего руководст-ва привели к складыва-нию против него загово-ра части партийного и государственного аппара та.В октябре1964г.Н.Хру-щев был отправлен на пенсию.Генеральным секретарем ЦК КПСС стал Л.И.Брежнев,а Пред седателем Совета Минис тров-А.Н.Косыг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Октябрьский перево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72480" y="5589720"/>
            <a:ext cx="307332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.Брежнев и Н.Хрущ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 сеансе связ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 космонав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494000" y="620640"/>
            <a:ext cx="3222360" cy="478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3280" y="1267920"/>
            <a:ext cx="7632720" cy="496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ffff99"/>
                </a:solidFill>
                <a:latin typeface="Monotype Corsiva"/>
              </a:rPr>
              <a:t>1.Борьба за власть после смерти Сталин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Monotype Corsiva"/>
              </a:rPr>
              <a:t>2.</a:t>
            </a: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XX</a:t>
            </a:r>
            <a:r>
              <a:rPr b="1" lang="ru-RU" sz="4800" spc="-1" strike="noStrike">
                <a:solidFill>
                  <a:srgbClr val="ffff99"/>
                </a:solidFill>
                <a:latin typeface="Monotype Corsiva"/>
              </a:rPr>
              <a:t> съезд КПСС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Monotype Corsiva"/>
              </a:rPr>
              <a:t>3.</a:t>
            </a: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III </a:t>
            </a:r>
            <a:r>
              <a:rPr b="1" lang="ru-RU" sz="4800" spc="-1" strike="noStrike">
                <a:solidFill>
                  <a:srgbClr val="ffff99"/>
                </a:solidFill>
                <a:latin typeface="Monotype Corsiva"/>
              </a:rPr>
              <a:t>программа парт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Monotype Corsiva"/>
              </a:rPr>
              <a:t>4.Проект Конституции ССС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Monotype Corsiva"/>
              </a:rPr>
              <a:t>5.Октябрьский переворо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5080" y="1052280"/>
            <a:ext cx="7704000" cy="561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99"/>
                </a:solidFill>
                <a:latin typeface="Monotype Corsiva"/>
              </a:rPr>
              <a:t>Можно ли считать политические реформы сер.50-сер.60-х гг. «революцией сверху»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331640" y="3357720"/>
            <a:ext cx="7777080" cy="34560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5 марта 1953 г. Скончался Сталин и среди его сорат-ников началась борьба за власть.На 1 этапе ключе-вые позиции заняли Г.Маленков-председатель Со-вета Министров и Л.Берия-глава МВД.В это время началась критика культа личности, реальная власть перешла от партийных к государственным органам.Защитником интересов партийного аппа-рата выступил Н.С.Хрущев..Воспользовавшись тем, что после амнистии,проведенной Берия, в стра не вырос уровень преступности он организовал за-го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Борьба за власть после смерти Стал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15960" y="1482840"/>
            <a:ext cx="229896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оскви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идут проща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о Стали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140360" y="555480"/>
            <a:ext cx="4679640" cy="2764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331640" y="3357720"/>
            <a:ext cx="7777080" cy="34560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26 июня на заседании правительства Л.Берия был арестован и в декабре 1953 г.расстрелян как «анг-лийский шпион».С этого момента и до начала 1955 г.основная борьба развернулась между Г.Маленко-вым и Н.Хрущевым.В сентябре 1953 г. Он стал 1 секретарем ЦК партии.В к.1954г. Состоялся суд над соратниками Берия(В.Абакумов и др.) обви-ненных в фабрикации «ленинградского дела».В ре-зультате удар был нанесен и по Г.Маленкову, как одному из организаторов этого дела.В январе 1955 г.он подал в отставку а его пост занял Н.Булган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Борьба за власть после смерти Стал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30080" y="1660680"/>
            <a:ext cx="20415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рест Л.Б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067280" y="533520"/>
            <a:ext cx="4681440" cy="2782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076360" y="476280"/>
            <a:ext cx="403236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На третьем этапе(1955-сер. 1958 г.)началось проти-востояние Хрущева и «сталинской гвардии» (Молотов,Каганович,Маленков.)На июньском 1957 г. Пленуме ЦК они попытались снять Хру-щева. Но ЦК оказался на стороне Первого сек-ретаря и противники Хрущева были сняты со своих постов.В марте 1958 г.с поста главы пра вительства снимается Н.Булганин и Хрущев совмещает посты руко-водителя партии и госу-дарства.На этом борьба за власть заверши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Борьба за власть после смерти Стал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9720" y="6124680"/>
            <a:ext cx="16696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.С.Хрущ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476360" y="981000"/>
            <a:ext cx="3417840" cy="4689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331640" y="3357720"/>
            <a:ext cx="7777080" cy="34560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53 г. Начался процесс реабилитации незаконно осужденных.Но к 1956 г.были реабилитированы лишь 7700 человек.В феврале 1956 г. Состоялся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XX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съезд КПСС.Его главной задачей было подведение теоретической базы под курс корректировки ста-линской политики.В руководстве страны по этому вопросу шла борьба.В.Молотов считал необходи-мым консервацию сталинского режима,а Н.Хру-щев выступил за критику культа личности Стали-на и начало преобраз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2.</a:t>
            </a: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XX</a:t>
            </a: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 съезд КП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26480" y="1268280"/>
            <a:ext cx="197136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ыступ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Н.С.Хруще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на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XX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ъез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ар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995640" y="541440"/>
            <a:ext cx="4680000" cy="2741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219640" y="476280"/>
            <a:ext cx="3889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последний день работы съезда Н.Хрущев зачи-тал доклад посвящен-ный беззакониям,тво-рившимся в стране в 30-50-е гг.Но дальше критики Сталина,Ежо-ва и Берии Хрущев не пошел.Он заявил, что «сталинизм» не изме-нил природы социализ-ма.Съезд специальным постановлением осудил культ личности, но в его тексте никаких фак тов не содержалось. Тем не менее доклад по ложил начало процессу десталинизации.На сво боду вышло ок. 700000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2.</a:t>
            </a: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XX</a:t>
            </a: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 съезд КП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7360" y="5659560"/>
            <a:ext cx="285228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Рабочие 1 ГП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бсуждают реш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XX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ъезда пар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403280" y="765000"/>
            <a:ext cx="3679920" cy="4675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31640" y="3284280"/>
            <a:ext cx="7777080" cy="352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59 г.на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XIX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ъезде КПСС был сделан вывод о «по-лной и окончательной победе социализма» в СССР В 1961 г.ХХсъезд принял новую программу партии. Она ставила задачу построения в СССР социалис-тического общества к 1980 году.Был принят новый партийный устав.Он разрешал проведение внутри-партийных дискуссий,обеспечивал обновляемость партийных кадров и расширял права местных пар тийных органов.Но основы партии не были затро-нут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3.</a:t>
            </a: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III </a:t>
            </a: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программа парт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91480" y="1268280"/>
            <a:ext cx="167436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сно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задач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ар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492360" y="534960"/>
            <a:ext cx="5472360" cy="2683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Чернов Алексей</cp:lastModifiedBy>
  <dcterms:modified xsi:type="dcterms:W3CDTF">2002-11-07T16:05:14Z</dcterms:modified>
  <cp:revision>60</cp:revision>
  <dc:subject/>
  <dc:title>Слайд 1</dc:title>
</cp:coreProperties>
</file>