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6A4-DF59-4294-9677-314D22AF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D05-78CC-4692-9C9B-53532DB6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9B0-1132-4F2E-A16C-50503B82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C0F-FDD6-4244-A625-BD5850C9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39D-24B6-46A1-B50B-13A83312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B22-CDB6-44EB-BBC5-583F5DEC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2AE-0E3B-4D20-A8E8-8D96281F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3E0-3772-4C26-8A8F-73B95661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B0B-6BEA-4B4D-B8BC-37EAF4C1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DA4-2B07-4AC5-BA22-87B2D217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90C-593B-465A-80EF-35349B2D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204-8E75-4B1C-9CA3-0ABC6A9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5AE-8A3E-423A-B0E9-95731A474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1773360"/>
            <a:ext cx="5184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еформ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олитическо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истем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чавшаяся демократиза-ция общества привела к изменению отношений государства и церкви. Уже на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Съезд Советов были избраны представи тели церкви.После отме-ны 6-й статьи Конститу-ции был отменен партий но-государственный кон троль за религиозными организациями. Нача-лось возвращение веру-ющим культовых зда-ний,были сняты ограни-чения на церковные о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ряды.В 1988 г.торжест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енно отмечалось 1000-е Крещения Руси.В 1990 гю патриархом стал Алексий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Государство и церк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62120" y="5734080"/>
            <a:ext cx="2803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атриарх Алексий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76360" y="1006560"/>
            <a:ext cx="3375000" cy="3935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501480"/>
            <a:ext cx="4321080" cy="3133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ПСС,инициировав перестроечные процессы, сама перестроиться не смогла.Вначале ее авторитет вы рос,за 2 года численность раядов выросла с 17 до 21 млн.человек.Но в условиях отмены 6-й статьи Конституции и нараставших трудностей, партия оказалась на грани кризиса.В январе 1990 г.возни-кает «Демократическая платформа в КПСС» ста-вившая задачу ркоренного реформирования пар-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ризис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440" y="1643040"/>
            <a:ext cx="27259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адпись на вокз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Борови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о руководство партии найти достойный ответ не смогло. Платформа «К гуманному,демократичес-к-му социализму», обнародованная к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XVIII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съезду партии,оказалось расплывчатой и туманной.Летом 1990 г.была образована Компартия РСФСР,высту-павшая за возврат к прежним позициям.В резуль-тате к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XVIII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ъезду партия пришла в состоянии раскола.Съезд преодолеть противоречия не см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ризис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1628640"/>
            <a:ext cx="2125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Ю.Манаенко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И.Полоз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27640" y="541440"/>
            <a:ext cx="4465440" cy="2993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219640" y="549000"/>
            <a:ext cx="3889440" cy="6264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з рядов КПСС вышла «Демократическая пла тформа».Сам Горбачев  став Президентом СССР,практически пе-рестал заниматься пар-тийными делами. Это усилило позиции консе рваторов.Осенью руко-водство компартии РСФСР осудило перес-тройку и потребовало отставки Горбачева. Это привело к массо- во му выходу из рядов КПСС.Горбачев плани ровал решить пробле-мы на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XIX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ъезде осе-нью 1991 г.Но он не со-стоялся из-за пут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ризис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17800" y="5891040"/>
            <a:ext cx="23889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.Горбачев-1-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езидент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517760" y="692280"/>
            <a:ext cx="3485880" cy="503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Кадровая револю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Политическая реформа 1988 г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Возрожде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Государство и церков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Кризис КП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В чём проявились непоследовательность и противоречивость политической реформы?  Почему это произошл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.Горбачев начал преобразования со смены коман-ды.В отставку были отправлены 70% секретарей обкомов,50% членов Политбюро,25% членов ЦК. Горбачев избавился от соратников Брежнева-В. Гришина,В.Щербицкого,Д.Кунаева,Г.Алиева.На ключевых постах оказались выдвиженцы Горбаче-ва,но дела продвигались с трудом и стало ясно,что нужна серьёзная политическая рефор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Кадровая револю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31240" y="1052640"/>
            <a:ext cx="1939320" cy="19234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.Горба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ыступ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засед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езиди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С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юнь 198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211640" y="541440"/>
            <a:ext cx="4753080" cy="3073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ерелом наступил в 1987 г.В январе пленум ЦК при- нял решение о созыве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IX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партийной конферен-ции,где предполагалось обсудить вопрос о полити-ческой реформе.В мае на Манежной площади сос-тоялся митинг «Долой саботажников перестрой-ки!».Летом состоялись выборы в местные Советы. Они прошли на альтернативной основе и без обяза-тельной явки избирателей.Количество поданных голосов и неявившихся резко выро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45080" y="180324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199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олитическая реформа 1988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43280" y="490680"/>
            <a:ext cx="4321440" cy="3082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июне 1988 г.в Москве прошла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IX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партийная кон-ференция.В ее решениях предлагалось соединить единовластие Советов с разделением властей,соз-дать новый высший орган государственной власти - Съезд Советов, Верховный Совет должен был стать постоянно действующим, вводилась новая избирательная система-на альтернативной основе, с участием кандидатов от общественных органи-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11880" y="1557360"/>
            <a:ext cx="20019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ешения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XV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артий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нфер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олитическая реформа 1988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542880"/>
            <a:ext cx="4319280" cy="302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Главной идеей реформы стало перераспределение властных полномочий от партийных органов к го-сударственным структурам.Это лишило Горбачева поддержки номенклатуры.Кроме того, она начала захват собственности.В марте прошли выборы на Съезд Советов и 25 мая 1989 г.он начал работу.Ини циатива реформ перешла к депутатам. Горбачев был избран сначала Председателем ВС,а затем-1-м Президентом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86720" y="1341360"/>
            <a:ext cx="264168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ысту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.С.Горбачева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ъезде народ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епутатов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211640" y="476280"/>
            <a:ext cx="4578480" cy="308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олитическая реформа 1988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58920" y="3645000"/>
            <a:ext cx="785016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ризис идеологии и пробуксовка реформ привели к возникновению оппозиционных политических пар- тий.В мае 1988 г.группа В.Новодворской провозгла-сила себя партией-«Демократический союз».Вскоре возникли народные фронты в Прибалтике.Они за-являли о «поддержке перестройки»,но представля-ли различные политические течения.Самой много-численной стала Демократическая патрия России Н.Трав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Возрождение многопартий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54200" y="1554120"/>
            <a:ext cx="28004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итинг стор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родного Фро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Ри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61080" y="558720"/>
            <a:ext cx="4032000" cy="3030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Либералы были разделены на различные течения, но их объединяла идея борьбы с коммунистами.В ус-ловиях нараставшего кризиса либералы,называв-шие себя демократами быстро набирали полити-ческий вес.Их открытость, критика существующих порядков,были беспроигрышной позицией, поэто-му на либеральные позиции начали переходить даже представители высшего руководства КП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Возрождение многопартий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916360" y="534960"/>
            <a:ext cx="4967280" cy="303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2-14T07:10:11Z</dcterms:modified>
  <cp:revision>71</cp:revision>
  <dc:subject/>
  <dc:title>Слайд 1</dc:title>
</cp:coreProperties>
</file>