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A8D-F534-4F97-9267-53C3C7A2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9EF-61DB-424F-B2C8-C096B1D3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BDF-19B1-4947-BF4D-9D26332E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F0D-6A7B-4211-81A9-78CEEEC6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7AE-AC90-4EF5-AC96-B05F0961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AAD-09EA-42DF-8973-97184578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96D-4411-4A8D-A750-7C70C55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592-585A-4C77-B9A3-CD64AAF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FEF-1CFB-4884-8E41-36C009E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984-2AFF-47AA-A610-7BA5BBA2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7AC-2CE9-4B0F-AE0C-F1237ED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E88-1B36-44E5-997D-EA92618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63E-E11C-4018-8C85-6AB8EBC8A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773360"/>
            <a:ext cx="5184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еформ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литическо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истем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чавшаяся демократиза-ция общества привела к изменению отношений государства и церкви. Уже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Съезд Советов были избраны представи тели церкви.После отме-ны 6-й статьи Конститу-ции был отменен партий но-государственный кон троль за религиозными организациями. Нача-лось возвращение веру-ющим культовых зда-ний,были сняты ограни-чения на церковные о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яды.В 1988 г.торжест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енно отмечалось 1000-е Крещения Руси.В 1990 гю патриархом стал Алексий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Государство и це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2120" y="5734080"/>
            <a:ext cx="2803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триарх Алексий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76360" y="1006560"/>
            <a:ext cx="3375000" cy="393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501480"/>
            <a:ext cx="4321080" cy="3133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ПСС,инициировав перестроечные процессы, сама перестроиться не смогла.Вначале ее авторитет вы рос,за 2 года численность раядов выросла с 17 до 21 млн.человек.Но в условиях отмены 6-й статьи Конституции и нараставших трудностей, партия оказалась на грани кризиса.В январе 1990 г.возни-кает «Демократическая платформа в КПСС» ста-вившая задачу ркоренного реформирования пар-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440" y="1643040"/>
            <a:ext cx="27259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дпись на вокз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Борови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руководство партии найти достойный ответ не смогло. Платформа «К гуманному,демократичес-к-му социализму», обнародованная к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VII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съезду партии,оказалось расплывчатой и туманной.Летом 1990 г.была образована Компартия РСФСР,высту-павшая за возврат к прежним позициям.В резуль-тате к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VIII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у партия пришла в состоянии раскола.Съезд преодолеть противоречия не см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1628640"/>
            <a:ext cx="2125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Ю.Манаенк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.Полоз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27640" y="541440"/>
            <a:ext cx="4465440" cy="2993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88944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з рядов КПСС вышла «Демократическая пла тформа».Сам Горбачев  став Президентом СССР,практически пе-рестал заниматься пар-тийными делами. Это усилило позиции консе рваторов.Осенью руко-водство компартии РСФСР осудило перес-тройку и потребовало отставки Горбачева. Это привело к массо- во му выходу из рядов КПСС.Горбачев плани ровал решить пробле-мы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IX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е осе-нью 1991 г.Но он не со-стоялся из-за пут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17800" y="5891040"/>
            <a:ext cx="23889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-1-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зидент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17760" y="692280"/>
            <a:ext cx="3485880" cy="503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Кадровая револю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Политическая реформа 1988 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Возрожде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Государство и церк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Кризис КП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В чём проявились непоследовательность и противоречивость политической реформы?  Почему это произош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.Горбачев начал преобразования со смены коман-ды.В отставку были отправлены 70% секретарей обкомов,50% членов Политбюро,25% членов ЦК. Горбачев избавился от соратников Брежнева-В. Гришина,В.Щербицкого,Д.Кунаева,Г.Алиева.На ключевых постах оказались выдвиженцы Горбаче-ва,но дела продвигались с трудом и стало ясно,что нужна серьёзная политическ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Кадров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31240" y="1052640"/>
            <a:ext cx="1939320" cy="1923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сту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засед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зиди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С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юнь 198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11640" y="541440"/>
            <a:ext cx="4753080" cy="307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ерелом наступил в 1987 г.В январе пленум ЦК при- нял решение о созыве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партийной конферен-ции,где предполагалось обсудить вопрос о полити-ческой реформе.В мае на Манежной площади сос-тоялся митинг «Долой саботажников перестрой-ки!».Летом состоялись выборы в местные Советы. Они прошли на альтернативной основе и без обяза-тельной явки избирателей.Количество поданных голосов и неявившихся резко вы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5080" y="18032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3280" y="490680"/>
            <a:ext cx="4321440" cy="308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июне 1988 г.в Москве прошл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партийная кон-ференция.В ее решениях предлагалось соединить единовластие Советов с разделением властей,соз-дать новый высший орган государственной власти - Съезд Советов, Верховный Совет должен был стать постоянно действующим, вводилась новая избирательная система-на альтернативной основе, с участием кандидатов от общественных органи-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11880" y="1557360"/>
            <a:ext cx="2001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ешения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XV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рти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542880"/>
            <a:ext cx="4319280" cy="302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лавной идеей реформы стало перераспределение властных полномочий от партийных органов к го-сударственным структурам.Это лишило Горбачева поддержки номенклатуры.Кроме того, она начала захват собственности.В марте прошли выборы на Съезд Советов и 25 мая 1989 г.он начал работу.Ини циатива реформ перешла к депутатам. Горбачев был избран сначала Председателем ВС,а затем-1-м Президентом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86720" y="1341360"/>
            <a:ext cx="264168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ысту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.С.Горбачев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ъезде наро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епутатов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11640" y="476280"/>
            <a:ext cx="4578480" cy="308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58920" y="3645000"/>
            <a:ext cx="785016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ризис идеологии и пробуксовка реформ привели к возникновению оппозиционных политических пар- тий.В мае 1988 г.группа В.Новодворской провозгла-сила себя партией-«Демократический союз».Вскоре возникли народные фронты в Прибалтике.Они за-являли о «поддержке перестройки»,но представля-ли различные политические течения.Самой много-численной стала Демократическая патрия России Н.Трав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ождение многопартий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4200" y="1554120"/>
            <a:ext cx="2800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инг стор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родного Фро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Р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61080" y="558720"/>
            <a:ext cx="4032000" cy="303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Либералы были разделены на различные течения, но их объединяла идея борьбы с коммунистами.В ус-ловиях нараставшего кризиса либералы,называв-шие себя демократами быстро набирали полити-ческий вес.Их открытость, критика существующих порядков,были беспроигрышной позицией, поэто-му на либеральные позиции начали переходить даже представители высшего руководства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ождение многопартий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16360" y="534960"/>
            <a:ext cx="4967280" cy="303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14T07:10:11Z</dcterms:modified>
  <cp:revision>71</cp:revision>
  <dc:subject/>
  <dc:title>Слайд 1</dc:title>
</cp:coreProperties>
</file>