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media/image6.gif" ContentType="image/gi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0AF0-DC21-44AA-893D-82815B693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FD95-BE78-480A-8507-8B3E0611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8AEA-4911-4927-B237-C3FAE3A09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5394-19F9-41EF-8258-005AC55E3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F8C3-6BAF-43CA-A0CC-B6ACCA29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3BA4-9C2B-44E9-AB30-41D9F7C5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21F6-C50E-40A0-8D45-01D47FFD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C354-AE69-4594-BB2C-E6AC1185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0885-57D1-4F49-B09D-08397471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95E2-15A3-4F75-A952-07969618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10D2-ACCE-47C3-BEB6-A4EEFA0B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C82A-9E8E-4195-BF35-931C211C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C445-7776-4D95-9F17-63C8176D13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849800" y="5868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629400" y="5581800"/>
            <a:ext cx="25909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Росси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7672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XX ве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8120" y="1371600"/>
            <a:ext cx="59212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Российское 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общество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на рубеже 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столетий.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3210840" y="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рок №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332000" y="4005000"/>
            <a:ext cx="7718400" cy="2762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н. 20 в Россия начала переходить к индустриально-му обществу-т.е.началась модернизация.В России она имела свои особенности-нужно было догонять развитые государства,сохранялись феодальные пережитки,контроль со стороны власти привел к тому,что модернизацией были затронуты  лишь отдельные стороны российского обществ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63600" y="43920"/>
            <a:ext cx="7772400" cy="397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5.Особенности российской модерниз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18840" y="1589040"/>
            <a:ext cx="175356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оссия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иров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коном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635280" y="501480"/>
            <a:ext cx="5257800" cy="342288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724280" y="837720"/>
            <a:ext cx="4191120" cy="5715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5.Особенности российской модерниз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20920" y="6019920"/>
            <a:ext cx="260280" cy="53316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620120" cy="6094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План уро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240" y="1599840"/>
            <a:ext cx="7620120" cy="4724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1. Территориально-админист-ративное устройство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2.Система управлени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3.Населени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4.Социальная структур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5.Особенности российской модернизаци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ag00029_" descr=""/>
          <p:cNvPicPr/>
          <p:nvPr/>
        </p:nvPicPr>
        <p:blipFill>
          <a:blip r:embed="rId3"/>
          <a:stretch/>
        </p:blipFill>
        <p:spPr>
          <a:xfrm>
            <a:off x="1295280" y="152280"/>
            <a:ext cx="114300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Задание на урок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762120"/>
            <a:ext cx="7620120" cy="5867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</a:rPr>
              <a:t>Выделите характерные черты развития российской империи в н.20 века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141560" y="-22860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211640" y="544680"/>
            <a:ext cx="4681440" cy="298116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258920" y="3573360"/>
            <a:ext cx="7812000" cy="31672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 н.20 в. Завершилось территориальное формирова-ние Российской империи.В нее входили Украина, Белоруссия,Прибалтика,Польша,Финляндия,Бес-сарабия,С.Кавказ,Закавказье,Казахстан,Ср.Азия.В зависимости от нее находились Тува,Бухара,Хива.-По площади-22 млн.кв.км. Россия занимала 2 место после Британской империи.Страна делилась на 81 губернию,20 областей,8 генерал-губернаторств и Великое Финляндское княжест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324000" y="152280"/>
            <a:ext cx="868680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. Территориально-административное устройств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05400" y="1368360"/>
            <a:ext cx="1843560" cy="155700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рритор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оссийск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мпер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н.20 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37080" y="739800"/>
            <a:ext cx="4356000" cy="283356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.Система управл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32000" y="3472920"/>
            <a:ext cx="7704000" cy="31957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оссия была абсолютной наследственной мо-нархией.Императору принадлежали все вет ви власти.Жители России были его поддан-ными.Гербом государства был двуглавый орел, Гимн- «Боже,царя храни»,флаг-бело-сине красный.Одновременно существовал императорский флаг-бело-желто-черны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27640" y="1268280"/>
            <a:ext cx="2297520" cy="155700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стем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супра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ссийск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мпер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0" t="0" r="0" b="5175"/>
          <a:stretch/>
        </p:blipFill>
        <p:spPr>
          <a:xfrm>
            <a:off x="3968640" y="189000"/>
            <a:ext cx="4996080" cy="342900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.Система управл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32000" y="3472920"/>
            <a:ext cx="7704000" cy="31957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и монархе был совещательный орган-Гос. Совет. Царь руководил страной через Комитет минист-ров,а церковью-через Синод. Высшим судебным органом оставался Сенат.Огромная власть принад лежал МВД,которое кроме порядка контролиро-вало местное самоуправление.Министерство фи-нансов отвечало за финансы,торговлю и промыш-ленность.Власть на местах управляли губернато-ры и наместники,в городах-городские дум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55960" y="1197000"/>
            <a:ext cx="2669400" cy="155700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.Репи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сед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осударствен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ве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956040" y="549360"/>
            <a:ext cx="5008680" cy="322740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368000" y="3716280"/>
            <a:ext cx="7667640" cy="306864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о переписи 1897г.в стране проживало 128,2 млн.че-ловек.Россия по этому показателю занимала 3 мес то в мире(Британская империя,Китай).57% состав ляли нерусские народы.Большая часть населения исповедовала православие.Широкое распростра-нение получили старообрядчество,протестантизм, католичество,ислам,иудаизм и буддизм.В Сибири ряд народов сохранял язычест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505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.Насел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59960" y="1197000"/>
            <a:ext cx="1855440" cy="155700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ста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се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оссийск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мпер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844880" y="475920"/>
            <a:ext cx="4191120" cy="6265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80% населения проживало в сельской местности, треть городских жителей проживали в крупных го-родах.В Петербурге и в Москве насчитывалось почти по 2 млн жителей. Сельские жители придер-живались традиционного уклада,а жители запад-ных районов приближа-лись к уровню индустри-альной эпохи.Народы ок-раин находились на родо-племенном уровне. Гра-мотным был 21% населе-ния,1%имел высшее об-разова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1258920" y="44280"/>
            <a:ext cx="7772400" cy="432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.Насел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43960" y="5483160"/>
            <a:ext cx="316152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лотность насе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оссийской импе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332000" y="836640"/>
            <a:ext cx="3384360" cy="388152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76360" y="549360"/>
            <a:ext cx="7416720" cy="309708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331640" y="3716280"/>
            <a:ext cx="7731000" cy="306864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аселение страны делилось на 4 сословия: дворянст-во,духовенство,сельские обыватели и городские обыватели(купечество и мещане).Население окра-ин называлось «инородцами».В это время нача-лось размежевание и по классовому признаку-дво-ряне и крестьяне, буржуазия и пролетариат.однов-ременно существовало большое количество проме жуточных социальных груп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371240" y="43920"/>
            <a:ext cx="7620120" cy="505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4.Социальная структу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2T11:32:57Z</dcterms:created>
  <dc:creator>Чернов Алксей</dc:creator>
  <dc:description/>
  <dc:language>en-US</dc:language>
  <cp:lastModifiedBy>Чернов Алексей Иванович</cp:lastModifiedBy>
  <dcterms:modified xsi:type="dcterms:W3CDTF">2002-01-26T16:14:25Z</dcterms:modified>
  <cp:revision>58</cp:revision>
  <dc:subject/>
  <dc:title>Презентация PowerPoint</dc:title>
</cp:coreProperties>
</file>