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9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4.gif" ContentType="image/gif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DD1-477D-4A6C-AFA2-47AE1154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8C6-9097-464E-92A5-C08CE971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6FF-18C4-4730-B4FC-03430F81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AF9-BED2-4F26-9F81-D0B1CEBB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ED7-033F-423C-AE93-59FED61D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5F9-9406-4478-90A9-9980EA78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0FD-88B4-473D-811E-493344CA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B20-C9BC-41E3-9A08-37C1FF04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1B1-A3A5-42A8-99A7-35DFE58A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4CC-B8A7-4684-9AB5-15C14964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FED-3FB2-46D6-B70B-24ACC046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595-995A-42A2-8943-50C19134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4042-FC3B-4411-B738-6D42492B7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916280"/>
            <a:ext cx="8675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нешняя политика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"Новое политическое мышление"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219640" y="476280"/>
            <a:ext cx="3889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амой острой региональ-ной проблемой для СССР была продолжа-вшаяся война в Афга-нистане.В 1988 г. Было заключено соглашение о прекращении амери-канской помощи мод-жахедам и выводе из страны советских войск.15 февраля 1989 г.последние советские части покинули Афга-нистан.Наши потери составили 14,5 тыс. человек убитыми, 54 тыс.-ранеными.Прекра тилось советское воен-ное присутствие в Эфи-опии,Мозамбике,Никарагу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Отношения со странами «третьего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0080" y="5661000"/>
            <a:ext cx="33094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оветский солдат пе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тлетом из Кабу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1506600" y="1052640"/>
            <a:ext cx="3425760" cy="4163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Отношения со странами «третьего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39640" y="1700280"/>
            <a:ext cx="29131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стреча М.Горба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 Чжао Цзыя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72000" y="530280"/>
            <a:ext cx="4392720" cy="3043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и содействии СССР выли выведены вьетнамские войска из Кампучии и кубинские из Анг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89 г.состоялся визит М.Горбачева в Китай,в его ходе  было объявлено о нормализации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86-89 г.СССР сократил объемы безвозмездной по-мощи союзным режимам,одобрил военные дейст-вия Запада во время кризиса в Персидском зали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этот период были восстановлены дипломатические отношения с ЮАР,Ю.Кореей,Тайванем,Израи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литика «Нового мышления» имела противоречи-вые результаты.С одной стороны ослабла угроза мировой ракетно-ядерной войны,начался процесс сокращения и уничтожения ядерного оружия. «Хо-лодная война» сходила на нет.Оздоровилась обста-новка в ряде регионов, где прежде соперничали СССР и США.В ряде стран прошли демократичес-кие пре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Результаты политики «нового мышлен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12720" y="1557360"/>
            <a:ext cx="28432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стреча Горбачева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уков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«Большой семер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3280" y="539640"/>
            <a:ext cx="4249800" cy="3035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то же время результатом разрушения Биполярного мира, стало утверждение главенствующей роли США на международной арене.Они стали меньше считаться не только с бывшими советскими республиками , но и с ООН.Вся система ялтинско-потсдамских отношений оказалась под угрозой, а это таит в себе возможность нового передела мира на «сферы влия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Результаты политики «нового мышлен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16360" y="1700280"/>
            <a:ext cx="16696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ти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92800" y="549360"/>
            <a:ext cx="4471920" cy="3014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1.«Новое политическое мышлени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2.Советско-американские отно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3.Распад социалистической сист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4.Отношения со странами «третьего мир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5.Результаты политики «нового мышления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99"/>
                </a:solidFill>
                <a:latin typeface="Monotype Corsiva"/>
              </a:rPr>
              <a:t>Какие позитивные и негативные последствия имела политика «нового мышления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начале своего правления Горбачев продолжил вне- шнеполитическую линию своих предшественни-ков.На праздновании 30-летия ОВД в1985 г.он под-верг Запад резкой критике.В июле 1985 г.пост ми-нистра иностранных дел занял Э.Шеварнадзе.Вско ре были определены основные черты нового курса-нормализация отношений с западом,прекращение противостояния с США и их союзниками.Эта по-литика была названа «Новым мышлением»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044880" y="496800"/>
            <a:ext cx="4695840" cy="3076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«Новое политическое мышле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ти идеи были сформули-рованы в книге М.С.Гор бачева «Перестройка и новое мышление для на-шей страны и для вс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ти идеи не были новыми. Их ранее выдвигали вид ные ученые,философы и политические деятели И. Кант,М.Ганди,А.Эйнштейн,Б.Рассе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Заслуга Горбачева состоя-ла в том, что он первым из властных политиков положил эти принципы в основу реальной внеш-ней п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«Новое политическое мышле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83120" y="5445000"/>
            <a:ext cx="35852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инистр иностранных 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ССР Э.А.Шеварнад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386000" y="1125360"/>
            <a:ext cx="3473280" cy="3598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32360" y="549360"/>
            <a:ext cx="3960720" cy="3004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1640" y="3357720"/>
            <a:ext cx="7777080" cy="3456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ноябре 1985 г. Состоялась встреча М.Горбачева с Р.Рейганом.Встречи руководителей великих дер-жав стали ежегодными.В 1987 г.был подписан дого вор о ликвидации ракет средней и меньшей даль-ности.В 1988-89 г.Горбачев стремился добиться по-пулярности за счет «прорывов» во внешней поли-тике.В 1991 г.был подписан договор об ограниче-нии стратегических наступательных воору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89 г. Горбачев заявил, что «доктрина Брежнева» мертва. США усилили меры по развалу социалис-тического лаге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Советско-американские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60160" y="1341360"/>
            <a:ext cx="322272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оветско-американ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стреча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ысшем уров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осква 198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331640" y="3573000"/>
            <a:ext cx="7777080" cy="3240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Летом 1991 г.Дж.Буш выдвинул Горбачеву «6 усло-вий»,на которых Запад продолжит сотрудничество с СССР-демократия,рынок,федерация,изменение политики на Ближнем Востоке,отказ от модерниза-ции советских ракетно-ядерных сил.Одновременно они начали вести переговры с руководителями со-юзных республик.В итоге о денонсации Союзного договора 1922 г.сначала узнал Дж,Буш,и лишь за-тем М.Горбач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Советско-американские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960" y="1320840"/>
            <a:ext cx="319824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окраще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численности ВС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 расходов на об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1989-90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52720" y="765000"/>
            <a:ext cx="5112000" cy="2473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еремены в Восточной Европе начались в 1987 г. Под давлением Горбачева здесь начался процесс смены политического руководства,демократизация общес тва.С 1989 г.начался процесс вывода из региона со-ветских войск.В результате «бархатных револю-ций» пали тоталитарные режимы в ПНР,ЧССР, ВНР,БНР,Албании.В 1989 г.был свергнут режим Н. Чаушеску в Румынии,а в ГДР после отставки Э.Хо-некера пала Берлинская ст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Распад социалистическ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10800" y="1484280"/>
            <a:ext cx="171540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ткр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ерли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т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200480" y="549360"/>
            <a:ext cx="4764240" cy="3027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обоих немецких государствах зазвучали призывы к обединению.США и ФРГ были согласны обсуж-дать вопрос о нейтралитете ФРГ и ее выход из НАТО.Горбачев согласился на объединение Герма-нии и сохранение ее членства в НАТО при условии ,что НАТО на будет расширяться на восток.Весной 1991 г.Организация Варшавского договора была распущена и это усилило критику Горбачева внут- ри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Распад социалистическ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72000" y="1643040"/>
            <a:ext cx="18723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еволюци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ухар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29080" y="560520"/>
            <a:ext cx="4464000" cy="2976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2-14T15:14:04Z</dcterms:modified>
  <cp:revision>79</cp:revision>
  <dc:subject/>
  <dc:title>Слайд 1</dc:title>
</cp:coreProperties>
</file>