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2.jpeg" ContentType="image/jpeg"/>
  <Override PartName="/ppt/media/image8.wmf" ContentType="image/x-wmf"/>
  <Override PartName="/ppt/media/image19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9.gif" ContentType="image/gif"/>
  <Override PartName="/ppt/media/image16.jpeg" ContentType="image/jpeg"/>
  <Override PartName="/ppt/media/image15.png" ContentType="image/png"/>
  <Override PartName="/ppt/media/image6.gif" ContentType="image/gif"/>
  <Override PartName="/ppt/media/image14.png" ContentType="image/png"/>
  <Override PartName="/ppt/media/image5.gif" ContentType="image/gif"/>
  <Override PartName="/ppt/media/image7.wmf" ContentType="image/x-wmf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B64-F5B8-4C26-B59D-E40C66D8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ECE-64EE-4E01-B2F2-F747F906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583-7919-486F-9B12-06E7626F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000-5CF4-4FC0-94EB-CCBA21A3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4CC-694C-49E6-ADC4-C2A88C41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FE9-28EF-4C61-A5F8-6871CAC3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B3A-8020-4A8C-A776-07888875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B41-09AE-4F47-8900-1E0BA1E7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0F2-BE2C-4B9B-B00E-1CCDC54B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4FB-1AC9-422C-88B4-1CEDCDF5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D20-2913-4A38-A27E-EB346C85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DAA-6019-4A08-8DC8-294A9742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5414-7EF9-4ABE-BC41-2E174178C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1752480"/>
            <a:ext cx="5921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Начало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первой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усской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еволюции.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840" y="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5184720" cy="29019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08680" y="1268280"/>
            <a:ext cx="20430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ванов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знесе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6920" y="3429000"/>
            <a:ext cx="7921800" cy="3384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сле получения известия о поражении армии и флота по стране прокатилась волна перво-майских демонстраций.В Иваново-Вознесен-ске рабочие взяли власть в свои руки и орга-низовали для управления городом Совет.Он образовал рабочие дружины и кассы взаи-мопомощи, заставил предпринимателей по-высить зарплату и пойти на другие уступ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Революция весной-летом 1905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148360" y="549000"/>
            <a:ext cx="396072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революционное движе-ние втягивалась и ин-теллигенция.В июне во-зникли Союзы адвока-тов,врачей чиновников и т.д.В июле они объе-динились в Союз сою-зов который поставил вопрос о создании бур-жуазной партии либе-рального толка.В нача-ле августа был создан всероссийский кресть-янский союз.Он потре-бовал передать землю крестьянам и отменить частную собственность на 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18880" y="5184720"/>
            <a:ext cx="229464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.Шестопа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заки 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сков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иверси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Революция весной-летом 1905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74640" y="620640"/>
            <a:ext cx="3141720" cy="43768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5016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июне произошло восстание на броненосце «Потемкин».Поводом стал приказ о расстре-ле матросов отказавшихся есть борщ из про-тухшего мяса.В ходе восстания 7 человек офицеров было убито.Командир и врач бы-ли расстреляны.На других судах Черномор-ского флота восставших не поддерж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Восстание на броненосце «Потемкин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1125360"/>
            <a:ext cx="224280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оненос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Княз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емки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врический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067280" y="569880"/>
            <a:ext cx="4895640" cy="28098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5016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рвавшись в открытое море, не имея запасов угля и топлива «Потемкин» отправился в Румынию, где экипаж сдался власт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6 августа правительство опубликовало манифест о Го сударственной думе подготовленный А.Булыгиным Дума становилась законосовещательным органом, выборы происходили по трем куриям на основе вы-сокого имущественного ценза,многие слои населе-ния были лишены избирательных прав.Проект был встречен отрицательно и не был осуществл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Восстание на броненосце «Потемкин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87040" y="1301760"/>
            <a:ext cx="2489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волюцио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Потемкин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5400720" cy="28051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Причины револю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«Кровавое воскресенье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Нарастание револю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Революция весной-летом 1905 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.Восстание на броненосце «Потемкин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Сравните причины революции и действия властей во время революции. Почему царизму долгое время не удавалось подавить революционное движение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Причины револю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64000" y="2895480"/>
            <a:ext cx="312408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волюц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905-07 гг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05520" y="1940040"/>
            <a:ext cx="1694160" cy="1996920"/>
            <a:chOff x="1505520" y="1940040"/>
            <a:chExt cx="1694160" cy="199692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1743120" y="1940040"/>
              <a:ext cx="1217160" cy="12236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58" name=""/>
            <p:cNvSpPr/>
            <p:nvPr/>
          </p:nvSpPr>
          <p:spPr>
            <a:xfrm>
              <a:off x="1505520" y="3111480"/>
              <a:ext cx="169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Аграрны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4160" y="981000"/>
            <a:ext cx="1346760" cy="2049480"/>
            <a:chOff x="4574160" y="981000"/>
            <a:chExt cx="1346760" cy="20494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4646520" y="981000"/>
              <a:ext cx="1201680" cy="120960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61" name=""/>
            <p:cNvSpPr/>
            <p:nvPr/>
          </p:nvSpPr>
          <p:spPr>
            <a:xfrm>
              <a:off x="4574160" y="2205000"/>
              <a:ext cx="134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Рабоч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922440" y="1865160"/>
            <a:ext cx="2398320" cy="2143080"/>
            <a:chOff x="6922440" y="1865160"/>
            <a:chExt cx="2398320" cy="2143080"/>
          </a:xfrm>
        </p:grpSpPr>
        <p:grpSp>
          <p:nvGrpSpPr>
            <p:cNvPr id="63" name=""/>
            <p:cNvGrpSpPr/>
            <p:nvPr/>
          </p:nvGrpSpPr>
          <p:grpSpPr>
            <a:xfrm>
              <a:off x="7473960" y="1865160"/>
              <a:ext cx="1295640" cy="1368720"/>
              <a:chOff x="7473960" y="1865160"/>
              <a:chExt cx="1295640" cy="1368720"/>
            </a:xfrm>
          </p:grpSpPr>
          <p:sp>
            <p:nvSpPr>
              <p:cNvPr id="64" name=""/>
              <p:cNvSpPr/>
              <p:nvPr/>
            </p:nvSpPr>
            <p:spPr>
              <a:xfrm>
                <a:off x="7473960" y="1865160"/>
                <a:ext cx="1295640" cy="1368720"/>
              </a:xfrm>
              <a:prstGeom prst="rect">
                <a:avLst/>
              </a:prstGeom>
              <a:solidFill>
                <a:srgbClr val="6699ff"/>
              </a:solidFill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45600" y="1938240"/>
                <a:ext cx="12193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"/>
            <p:cNvSpPr/>
            <p:nvPr/>
          </p:nvSpPr>
          <p:spPr>
            <a:xfrm>
              <a:off x="6922440" y="3182760"/>
              <a:ext cx="239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Национальны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126520" y="4365720"/>
            <a:ext cx="2165040" cy="2212920"/>
            <a:chOff x="2126520" y="4365720"/>
            <a:chExt cx="2165040" cy="2212920"/>
          </a:xfrm>
        </p:grpSpPr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2716200" y="4365720"/>
              <a:ext cx="984240" cy="1439640"/>
            </a:xfrm>
            <a:prstGeom prst="rect">
              <a:avLst/>
            </a:prstGeom>
            <a:ln w="76320">
              <a:solidFill>
                <a:srgbClr val="00cc99"/>
              </a:solidFill>
              <a:miter/>
            </a:ln>
          </p:spPr>
        </p:pic>
        <p:sp>
          <p:nvSpPr>
            <p:cNvPr id="69" name=""/>
            <p:cNvSpPr/>
            <p:nvPr/>
          </p:nvSpPr>
          <p:spPr>
            <a:xfrm>
              <a:off x="2126520" y="5753160"/>
              <a:ext cx="216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охран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амодержа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869080" y="4508640"/>
            <a:ext cx="3074760" cy="2122200"/>
            <a:chOff x="5869080" y="4508640"/>
            <a:chExt cx="3074760" cy="2122200"/>
          </a:xfrm>
        </p:grpSpPr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6738840" y="4508640"/>
              <a:ext cx="1336680" cy="1338120"/>
            </a:xfrm>
            <a:prstGeom prst="rect">
              <a:avLst/>
            </a:prstGeom>
            <a:ln w="76320">
              <a:solidFill>
                <a:srgbClr val="00cc99"/>
              </a:solidFill>
              <a:miter/>
            </a:ln>
          </p:spPr>
        </p:pic>
        <p:sp>
          <p:nvSpPr>
            <p:cNvPr id="72" name=""/>
            <p:cNvSpPr/>
            <p:nvPr/>
          </p:nvSpPr>
          <p:spPr>
            <a:xfrm>
              <a:off x="5869080" y="5805360"/>
              <a:ext cx="307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оражение в русск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японской войн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787640" y="549000"/>
            <a:ext cx="427500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 января 1905 г.в ответ на увольнение неско-льких рабочих нача-лась забастовка на Путиловском заводе. Ее организовал проф-союз во главе со свя-щенником Г.Гапоном, который был близок к петербургскому градо-начальнику А.Фу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апон хотел организо-вать шествие к Зимне-му дворцу и передать царю пети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«Кровавое воскресень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5400" y="5084640"/>
            <a:ext cx="314964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Гапон и А.И.Фу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и чле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убатов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сою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3368520" cy="43927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«Кровавое воскресень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60680" y="1413000"/>
            <a:ext cx="190116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8920" y="3429000"/>
            <a:ext cx="780408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работе над текстом петиции приняли учас-тие и участники революционных организа-ций.Под их влиянием в петиции появились требования политического характера. Но общее содержание было проникнуто тради-ционной верой в доброго царя-батюшку,спо собного решить все вопро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997440" y="549360"/>
            <a:ext cx="4895640" cy="28461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«Кровавое воскресень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0720" y="1484280"/>
            <a:ext cx="19332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ова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кресен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8920" y="3429000"/>
            <a:ext cx="780408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но утром 9 января 1905 г. Рабочие Санкт-Петербурга начали собираться у своих ка-зарм, и вскоре,неся иконы и портреты царя, двинулись к Зимнему дворцу.Но на подсту-пах к Дворцовой площади их встретили ка-заки.Они открыли огонь и по официаль-ным данным погибло 130 человек.Вера в доброго царя была «расстрелян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76720" y="587520"/>
            <a:ext cx="5616360" cy="2803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5016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ечером в городе начались массовые беспо-рядки.Рабочие захватывали склады с оружи ем,возводили баррикады.Столицу поддер-жали рабочие Москвы,Риги,Украины,Поль-ши,Закавказья.Общее число бастующих сос-тавило 1 млн человек.Большинство стачек прошли под политическими лозунг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растание револю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3400" y="907920"/>
            <a:ext cx="2149560" cy="192276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.Мак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стр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их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сильевс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ро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600120"/>
            <a:ext cx="4248000" cy="27622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160" y="1052640"/>
            <a:ext cx="192888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.Гор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г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ещичь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ад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5016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след за рабочими на борьбу поднялись крестьяне.Их выступления охватили юг России и национальные окраины.Восставшие гро-мили усадьбы помещиков и захватывали землю.Николай решил подавить вы-ступления силой.11 января он назначил генерал-гу бернатором столицы Д.Трепова известного своими реакционными взглядами.Но вскоре,видя,что сило выми методами подавить революцию не удается,он приказал министру внутренних дел А.Булыгину под готовить проект Государственной 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растание револю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780000" y="595440"/>
            <a:ext cx="4679640" cy="27986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</cp:lastModifiedBy>
  <dcterms:modified xsi:type="dcterms:W3CDTF">2003-01-06T14:22:34Z</dcterms:modified>
  <cp:revision>58</cp:revision>
  <dc:subject/>
  <dc:title>Презентация PowerPoint</dc:title>
</cp:coreProperties>
</file>