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5BB-83DE-4004-8764-906ACEEF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89A-DB67-40AE-A0AF-63B343C0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5C4-AC24-489A-AE64-272A888C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D29-FD04-4361-BF4E-CBEA19AE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469-79B1-44D5-BE38-22531A60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528-D136-45C5-B574-A3AF38B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ACD-53DC-46F8-A5A5-C58F35A4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50F-8A3E-4830-BF85-B03A40E6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D00-376B-482E-8476-D7CC88C8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E69-8CE6-4086-BE1E-96517575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387-3EBD-4021-8AAC-C121544C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E4D-64C7-423B-94AF-2FB4D71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BFC-14AB-4752-9071-8763B1D02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492280"/>
            <a:ext cx="87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чало  "Перестройки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03640" y="333000"/>
            <a:ext cx="4105440" cy="648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86 г. на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XVII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ъезде КПСС был рассмотрен проект новой редакции партийной программы. Задача построения ком-мунизма была объявле-на несвоевременной,ста-вилась цель совершенст-вования социалистичес-кого общества.Трудовые коллективы должны бы-ли стать «первичными ячейками демократии», но в условиях админист-ративной экономики это было неосуществимо. Экономику предстояло перевести на путь интен-сивного развития.Впер-вые руководство заяви-ло о необходимости «гла с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360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Новая редакция Программы КП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03280" y="1082520"/>
            <a:ext cx="3414960" cy="5010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632720" cy="3889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Предпосылки преобразов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Ю.В.Андропов.Начало перем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М.С.Горбачев.Курс на «ускорени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Антиалкогольгая камп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Новая редакция Программы КП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Почему первые попытки преобразований в СССР не принесли результат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онце жизни Л.Брежнева важнейшие вопросы жиз-ни страны решали Ю.Андропов,Д.Устинов,К.Чер-ненко и А.Громыко.СССР начал резко отставать от Запада в экономическом развитии,война в Афга нистане и гонкаавооружений требовали огромных денежных затрат.После провала обещанного к 1980 г.построения коммунизма начался кризис официа-льной идеологии.Все это требовало преобразова-ний всей сферы общественной жизн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Предпосылки преобраз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5840" y="177336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8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140360" y="546120"/>
            <a:ext cx="4752720" cy="30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ноябре 1982 г.во главе страны встал Ю.Андро-пов.Он был образован, бескорыстен,аскетичен,умел располагать людей к себе.В то же время он был типичным предста-вителем партийной но-менклатуры.Возглавляя в течение 15 лет КГБ он, как никто другой имел реальное представление о положении дел в стра-не.Ю.Андропов сделал ставку на «молодежь». При нем резко возвысил ся М.Горбачев, появи-лись в высшем руковод- стве страны Е.Лигачев и Н.Рыж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Ю.В.Андропов.Начало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89800" y="6195960"/>
            <a:ext cx="2114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Ю.В.Андро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47640" y="692280"/>
            <a:ext cx="3229200" cy="5207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Ю.В.Андропов.Начало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86160" y="1393920"/>
            <a:ext cx="184356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.У.Чер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лу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епута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н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16360" y="574560"/>
            <a:ext cx="5148360" cy="307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Андропов стремился навести элементарный порядок выступая с позиции «сильной руки».Главной своей задачей он считал сохранение существующего поли тического режима.Его девиз: «Так жить нельзя!», вполне устраивал номенкл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феврале 1984 г.на смену Андропову пришел 73-лет-ний К.У.Черненко.Его непродолжительное правле-ние стало попыткой консерваторов остановить начавшийся процесс преобраз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003640" y="549000"/>
            <a:ext cx="4105440" cy="6048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марте 1985г.после смерти Черненко новым генера-льным секретарем был избран М.С.Горбачев.Он родился на Ставрополье в 1931 г.В 1955 г.Михаил Сергеевич поступил на юридический факультет МГУ,по окончании кото рого перешел на комсо-мольскую,а затем пар-тийную работу.В 1970 г. он возглавил Ставропо-льский крайком партии, а в 1978 г.стал секрета-рем ЦК по вопросам се-льского хозяйства.В 1980 г. Горбачев был избран членом Политбюро ЦК КП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М.С.Горбачев.Курс на «ускор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61800" y="5908680"/>
            <a:ext cx="19180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65200" y="1197000"/>
            <a:ext cx="3394080" cy="4079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М.С.Горбачев.Курс на «ускор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0640" y="5514840"/>
            <a:ext cx="35974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Горбачев выступ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заседании контро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ми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1125360"/>
            <a:ext cx="3456000" cy="4026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32360" y="692280"/>
            <a:ext cx="4105440" cy="5905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и Ю.В.Андропове Горба чев занимался не только сельским хозяйством,но и широком кругом воп-росов как внутренней, так и внешней политики Несмотря на сопротивле ние консерваторов он стал при К.У.Черненко вторым человеком в пар 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идя к власти,М.Горба-чев провозгласил курс «Перестройки»всех сфер жизни общества и полу-чил всемерную поддерж-ку,т.к.необходимость пре образований стала оче-ви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Антиалкогольгая камп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7120" y="1484280"/>
            <a:ext cx="25779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чередь в ви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газ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00720" y="547560"/>
            <a:ext cx="4464000" cy="3036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апрельском 1985 г.Пленуме ЦК была выдвинута задача «ускорения социально-экономического развития страны».Решить ее М.Горбачев надеялся опираясь на «человеческий фактор».В мае 1985 г. Началась борьба с пьянством и алкоголизмом.Про-изводство спиртного сократилось в 15 раз.Но это имело и отрицательные последствия-на 67 млрд. руб.сократились поступления в бюджет страны,бы ли вырублены виноградники,распространилось са могоноварение и,как следствие,сократились запа-сы сах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2-12T15:50:06Z</dcterms:modified>
  <cp:revision>64</cp:revision>
  <dc:subject/>
  <dc:title>Слайд 1</dc:title>
</cp:coreProperties>
</file>