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11.jpeg" ContentType="image/jpeg"/>
  <Override PartName="/ppt/media/image5.gif" ContentType="image/gif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4006-E010-497A-A754-E4242777E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D275-673A-4377-BF0C-CCF96BE9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5C27-08D9-4591-A813-9E66EF5BF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AEC9-AB77-4FA7-AAAC-8D6DA7A82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D0E2-B432-467D-AE4C-C7D2BCF4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8EBF-572D-450E-A560-03B59973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187D-7475-4B92-9B3F-EA703D4E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EAF3-35C4-484A-B403-0345235D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B7CC-FEA0-4EE4-996E-283626BC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EAA9-716A-4150-BA0C-9645972A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AAC7-D831-4E9F-A939-30219558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10F5-B4E0-4EFD-8073-2B6263E5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7C68-D548-4EB4-BF6A-974FE01A14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629400" y="5581800"/>
            <a:ext cx="25909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Истор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Росс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76720" y="5695920"/>
            <a:ext cx="198108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XX ве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849800" y="5868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61440" y="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Урок №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4000" y="2492280"/>
            <a:ext cx="8712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Начало  "Перестройки"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003640" y="333000"/>
            <a:ext cx="4105440" cy="648036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1986 г. на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XVII 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съезде КПСС был рассмотрен проект новой редакции партийной программы. Задача построения ком-мунизма была объявле-на несвоевременной,ста-вилась цель совершенст-вования социалистичес-кого общества.Трудовые коллективы должны бы-ли стать «первичными ячейками демократии», но в условиях админист-ративной экономики это было неосуществимо. Экономику предстояло перевести на путь интен-сивного развития.Впер-вые руководство заяви-ло о необходимости «гла сност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368360" y="44280"/>
            <a:ext cx="7667640" cy="36036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5.Новая редакция Программы КП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403280" y="1082520"/>
            <a:ext cx="3414960" cy="5010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403280" y="1844640"/>
            <a:ext cx="7632720" cy="3889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75000"/>
          </a:bodyPr>
          <a:p>
            <a:pPr marL="399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Monotype Corsiva"/>
              </a:rPr>
              <a:t>1.Предпосылки преобразова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Monotype Corsiva"/>
              </a:rPr>
              <a:t>2.Ю.В.Андропов.Начало переме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Monotype Corsiva"/>
              </a:rPr>
              <a:t>3.М.С.Горбачев.Курс на «ускорение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Monotype Corsiva"/>
              </a:rPr>
              <a:t>4.Антиалкогольгая кампа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Monotype Corsiva"/>
              </a:rPr>
              <a:t>5.Новая редакция Программы КПС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Monotype Corsiva"/>
              </a:rPr>
              <a:t>План ур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295280" y="44280"/>
            <a:ext cx="114300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405080" y="1052280"/>
            <a:ext cx="7704000" cy="561636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99"/>
                </a:solidFill>
                <a:latin typeface="Monotype Corsiva"/>
              </a:rPr>
              <a:t>Почему первые попытки преобразований в СССР не принесли результата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Monotype Corsiva"/>
              </a:rPr>
              <a:t>Задание на у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79280" y="537372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конце жизни Л.Брежнева важнейшие вопросы жиз-ни страны решали Ю.Андропов,Д.Устинов,К.Чер-ненко и А.Громыко.СССР начал резко отставать от Запада в экономическом развитии,война в Афга нистане и гонкаавооружений требовали огромных денежных затрат.После провала обещанного к 1980 г.построения коммунизма начался кризис официа-льной идеологии.Все это требовало преобразова-ний всей сферы общественной жизни ССС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1.Предпосылки преобразов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25840" y="1773360"/>
            <a:ext cx="194544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лакат 1986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140360" y="546120"/>
            <a:ext cx="4752720" cy="3027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5003640" y="476280"/>
            <a:ext cx="4105440" cy="6337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ноябре 1982 г.во главе страны встал Ю.Андро-пов.Он был образован, бескорыстен,аскетичен,умел располагать людей к себе.В то же время он был типичным предста-вителем партийной но-менклатуры.Возглавляя в течение 15 лет КГБ он, как никто другой имел реальное представление о положении дел в стра-не.Ю.Андропов сделал ставку на «молодежь». При нем резко возвысил ся М.Горбачев, появи-лись в высшем руковод- стве страны Е.Лигачев и Н.Рыж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2.Ю.В.Андропов.Начало перем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89800" y="6195960"/>
            <a:ext cx="211464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Ю.В.Андроп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1547640" y="692280"/>
            <a:ext cx="3229200" cy="52070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2.Ю.В.Андропов.Начало перем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86160" y="1393920"/>
            <a:ext cx="1843560" cy="131364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К.У.Черн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олуч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депутат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манд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816360" y="574560"/>
            <a:ext cx="5148360" cy="3070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Андропов стремился навести элементарный порядок выступая с позиции «сильной руки».Главной своей задачей он считал сохранение существующего поли тического режима.Его девиз: «Так жить нельзя!», вполне устраивал номенклату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феврале 1984 г.на смену Андропову пришел 73-лет-ний К.У.Черненко.Его непродолжительное правле-ние стало попыткой консерваторов остановить начавшийся процесс преобразо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003640" y="549000"/>
            <a:ext cx="4105440" cy="604836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марте 1985г.после смерти Черненко новым генера-льным секретарем был избран М.С.Горбачев.Он родился на Ставрополье в 1931 г.В 1955 г.Михаил Сергеевич поступил на юридический факультет МГУ,по окончании кото рого перешел на комсо-мольскую,а затем пар-тийную работу.В 1970 г. он возглавил Ставропо-льский крайком партии, а в 1978 г.стал секрета-рем ЦК по вопросам се-льского хозяйства.В 1980 г. Горбачев был избран членом Политбюро ЦК КП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3.М.С.Горбачев.Курс на «ускорени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61800" y="5908680"/>
            <a:ext cx="191808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М.С.Горбач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465200" y="1197000"/>
            <a:ext cx="3394080" cy="40798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3.М.С.Горбачев.Курс на «ускорени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40640" y="5514840"/>
            <a:ext cx="359748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М.С.Горбачев выступ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на заседании контроль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коми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403280" y="1125360"/>
            <a:ext cx="3456000" cy="4026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932360" y="692280"/>
            <a:ext cx="4105440" cy="5905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При Ю.В.Андропове Горба чев занимался не только сельским хозяйством,но и широком кругом воп-росов как внутренней, так и внешней политики Несмотря на сопротивле ние консерваторов он стал при К.У.Черненко вторым человеком в пар т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Придя к власти,М.Горба-чев провозгласил курс «Перестройки»всех сфер жизни общества и полу-чил всемерную поддерж-ку,т.к.необходимость пре образований стала оче-вид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4.Антиалкогольгая камп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7120" y="1484280"/>
            <a:ext cx="257796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Очередь в ви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магаз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500720" y="547560"/>
            <a:ext cx="4464000" cy="30369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331640" y="3429000"/>
            <a:ext cx="7777080" cy="3384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На апрельском 1985 г.Пленуме ЦК была выдвинута задача «ускорения социально-экономического развития страны».Решить ее М.Горбачев надеялся опираясь на «человеческий фактор».В мае 1985 г. Началась борьба с пьянством и алкоголизмом.Про-изводство спиртного сократилось в 15 раз.Но это имело и отрицательные последствия-на 67 млрд. руб.сократились поступления в бюджет страны,бы ли вырублены виноградники,распространилось са могоноварение и,как следствие,сократились запа-сы сах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7:26:30Z</dcterms:created>
  <dc:creator>Чернов Алексей Иванович</dc:creator>
  <dc:description/>
  <dc:language>en-US</dc:language>
  <cp:lastModifiedBy>Чернов Алексей</cp:lastModifiedBy>
  <dcterms:modified xsi:type="dcterms:W3CDTF">2002-12-12T15:50:06Z</dcterms:modified>
  <cp:revision>64</cp:revision>
  <dc:subject/>
  <dc:title>Слайд 1</dc:title>
</cp:coreProperties>
</file>