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2.jpeg" ContentType="image/jpeg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B61-17B6-4281-BEF1-C3D4FB0E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C9D-C169-46A6-AC62-6EC621FA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09D-622D-48F0-A906-7406A052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177-008C-4C95-B18F-F3CFFD3B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680-B2D6-4D64-977C-B80F09C1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58C-7F6A-4BC6-AC8E-B288516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784-3866-4DA9-83B1-7D614E77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8C2-03F8-439F-B45F-263FD2B4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F86-692D-4DC4-B795-2BEA862A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E5C-0111-4B35-B29B-3C5059A1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EEC-F748-4E88-B71E-CD46121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03E-AF71-4ECA-A97B-F5C557A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F71-44E7-4B38-A5B5-7F7FB7828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4920" y="1268280"/>
            <a:ext cx="5761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чало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гражданско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ойн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.Интерве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38200" y="1409760"/>
            <a:ext cx="22334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нглий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ой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Архангельс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апреле 1918 г. Англичане и французы высадились во Владивостоке.Ленин призвал дать отпор агрес-сорам. Осенью,после поражения Германия войска Антанты появились под Одессой,Баку, в Крыму,но из-за брожения в войсках Запад вынужден был ото-звать войска обратно.К 1920 г. Англичане, францу-зы, и американцы отказались от вооруженного вме шательства и сделали ставку на помощь белогвар-дейцам.Япония оставалась на Дальнем Востоке до 19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24360" y="547560"/>
            <a:ext cx="4824360" cy="2737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мае 1918 г.большевики разогнали Советы, контро-лировавшиеся  меньшевиками и эсерами и те реши ли начать вооруженную борьбу.В июне 1918 г.про-изошел «челябинский инцидент» в результате кото рого чехословацкий корпус начал мятеж.В корот-кий срок при помощи чехов Советская власть бы-ла свергнута в Поволжье,на Урале,в Сибири и на Дальнем Востоке.На «освобожденных» территори-ях начали возникать «эсеровские» прав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. «Демократическая контрреволюц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61400" y="1413000"/>
            <a:ext cx="21542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Чехословац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эше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356000" y="544680"/>
            <a:ext cx="4248360" cy="281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148360" y="549000"/>
            <a:ext cx="3960720" cy="6264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Самвре Комуч создал свои вооруженные отря ды и захватил Казань.В ответ Советское прави-тельство создало Восто-чный фронт. Вскоре ту-да прибыл Л.Троцкий.2 сентября ВЦИК объя-вил страну единым во-енным лагерем и вско-ре началось контрнас-тупление.Поволжье бы-ло освобождено.В ответ эсеры пригласили на должнность военного министра А.Колчака. Но его окружение произ вело переворот Колчак стал «Верховным прави теле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. «Демократическая контрреволюц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82640" y="5661000"/>
            <a:ext cx="30700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.Гайда-команду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чехословац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рп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674720" y="692280"/>
            <a:ext cx="3113280" cy="4746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начавшейся войне обе стороны использовали тер-рор.В августе 1918 г.был убит преседатель Петро-градского ЧК М.Урицкий, а эсерка Ф.Каплан тя-жело ранила В. Ленина.  Большевики ответили «красным террором» и казнили заложников в Пет-рограде. «Белые» продолжили свои террористичес-кие акции. В этих условиях противники начали применять на фронте «децимации»( казнь каждого десят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.Проблема террора. Ликвидация Ром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12000" y="1413000"/>
            <a:ext cx="2427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елогвард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918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11640" y="544680"/>
            <a:ext cx="4392720" cy="2869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Еще раньше были Уральский областной Совет при-нял решение о казни Романовых.Бывший импера-тор в апреле 1918 г. Был доставлен в Екатеринбург и поселен в доме купца Ипатьева.Большевики опа-сались, что в условиях разгоравшейся войны Нико лай может стать символом «белого» движения и объединить вокруг себя антисоветские силы.17 ию-ля 1918 г.Николай и 10 членов его семьи были рас-стреля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.Проблема террора. Ликвидация Ром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0040" y="1571760"/>
            <a:ext cx="23997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Ипатьев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1918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140360" y="544680"/>
            <a:ext cx="4464000" cy="291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148360" y="549000"/>
            <a:ext cx="3960720" cy="6264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есной 1918 года под вли-янием слухов о принуди тельном переделе земли на Дону стали возни-кать антисоветские вы- ступления.Когда на До-ну появились немецкие войска казачья верхуш-ка вступила с ними в сговор.Здесь была сфор мирована Донская ар-мия во главе с генера-лом Красновым.Сове-ты сформировали Юж-ный фронт и в декабре остановили казачье нас тупление.Вскоре все белогвардейцы переш-ли под знамена Деники 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.Южный фро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62760" y="5877000"/>
            <a:ext cx="14943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ене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.Крас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1476360" y="765000"/>
            <a:ext cx="3459240" cy="4849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123920"/>
            <a:ext cx="7632720" cy="5329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1.Причины и основные этапы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2.Формирование белого дви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3.Создание Красной арм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4.Интервен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5.«Демократическая контрреволюци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6.Проблема террора. Ликвидация Романов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7.Южный фро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260280"/>
            <a:ext cx="7667640" cy="576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3280" y="1052280"/>
            <a:ext cx="763272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Monotype Corsiva"/>
              </a:rPr>
              <a:t>В чем состояли сила и слабость «Белого движения»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Гражданская война была вызвана противостоянием большевиков и представителей свергнутых клас-сов и политических сил.Ее можно разделить на сле дующие эта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1.Лето-осень 1918 г.-начало вооруженного противос-тояния и иностранной интерв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2.К.1918-лето 1919 г.-Советская республика в «кольце фронт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3.Лето 1919-1920 гг.-разгром белогвардей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4.К.1920-1922 гг.-ликвидация остатков Белой гвар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.Причины и основные этапы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08760" y="1557360"/>
            <a:ext cx="24498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.Соколов-Ска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ра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282920" y="549360"/>
            <a:ext cx="4392720" cy="282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 Дону атаман Каледин заявил о неподчинении большевикам.В декабре 1917 г.из офицеров здесь началось формирование Добровольческой армии. Ее возглавил ген. М. Алексеев.Участники дви жения,хотели возродить былую мощь империи и ставили задачу борьбы со всеми социалистичес-кими пар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селение благожелатель-но отнеслось к Советам. Каледин вынужден был застрелиться.Вскоре ско нчался Алексеев и его сменил генерал Л.Корни 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.Формирование бел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27680" y="5661000"/>
            <a:ext cx="17305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ене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Алексе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76360" y="1125360"/>
            <a:ext cx="3328920" cy="3811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.Формирование бел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скоре он погиб от шальной пули и главнокомандую-щим стал генерал А.Деникин.На Южном Урале со-противление большевикам возглавил атаман А.Ду-тов, а в Завайкалье-атаман Г.Семенов.Первые ан-тибольшевистские выступления были стихийными и разрозненными.Но постепенно сложилось два це-нтра борьбы-Вв Сибири, где преобладали зажиточ-ные крестьяне недовольные деятельностью комбе-дов, и на юге с его казацким населением, привык-шем к воль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82000" y="1557360"/>
            <a:ext cx="24652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оброволь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р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59280" y="554040"/>
            <a:ext cx="3960720" cy="2730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.Создание Красной ар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28360" y="5659560"/>
            <a:ext cx="278820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родный комисс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 военным де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.Крылен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Ленин считал, что армия должна быть заменена всеобщим вооружением народа.Но борьба с конт-рреволюцией заставила его пересмотреть свой по дход.Декретами 15 и 29 января были созданы на добровольной основе Ра- боче-крестьянская Крас-ная Армия и Красный флот.Но в условиях затя нувшейся войны, особо большого количества до-бровольцев не наблюда-лось.Поэтому 30 мая бы-ла введена всеобщая во-инская пови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76360" y="907920"/>
            <a:ext cx="3294000" cy="4405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.Создание Красной ар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66360" y="1177920"/>
            <a:ext cx="232200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Троцкий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членов Р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осточ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р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31640" y="3284280"/>
            <a:ext cx="7777080" cy="352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то позволило к 1920 г.довести численность войск до 5 млн.человек.Для подготовки командиров были организованы курсы, и в марте 1918 г.был издан де крет о привлечении в армию «буржуазных специа-листов».Для контроля за ними были введены долж ности комиссаров.В сентябре 1918 г.сложилась еди-ная структура управления армией.Во главе фрон-тов стоял реввоенсовет из командующего и 2 коми-ссаров.Они подчинялись Реввоенсовету республи-ки во главе с Л.Троц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211640" y="560520"/>
            <a:ext cx="4608360" cy="267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.Интерве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44480" y="5589720"/>
            <a:ext cx="303660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етман Скоропад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 импер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ильгельма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Гражданская война ослож-нялась иностранным вмешательством.В декаб ре 1917  г.Румыния заня-ла Бессарабию.Централь ная Рада на Украине за-ключила сеператный до-говор с Германией и при гласила ее войска на свою территорию. Тур- ция вторглась в Закавка зье вскоре там появи-лись и немцы.В к.1917 г. на Дальнем Востоке на-чали высаживаться аме-риканцы,японцы и анг-личане.6 марта 1918 г.ан глийский десант выса-дился в Мурманске.Ан- танта не признала Брест ский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33520" y="907920"/>
            <a:ext cx="3354480" cy="4310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3-01-17T13:53:47Z</dcterms:modified>
  <cp:revision>44</cp:revision>
  <dc:subject/>
  <dc:title>Слайд 1</dc:title>
</cp:coreProperties>
</file>