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png" ContentType="image/png"/>
  <Override PartName="/ppt/media/image6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9.png" ContentType="image/png"/>
  <Override PartName="/ppt/media/image4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BDD-0C3C-429D-8990-E43D4D6A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5BA-43AA-4A1C-A098-9561EE82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A2B-268E-499F-B684-1570272E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8A5-7E54-41DF-9891-180A078E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226-BA3F-44F6-8E69-C8F9C41E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059-D3AA-40E1-A68B-0F8BDB40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DAC-FF60-43EE-849A-2BD20805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872-4288-44A5-A2C8-50B42502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836-6E21-40A2-B63D-939CD16A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54E-4207-48EB-B2CD-84A52A58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1FB-A0DB-4939-AF9D-E09E7AE1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562-FDB7-495A-87A4-BB68473E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1FEA-D39A-4187-9806-7D72C0166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9080" y="1700280"/>
            <a:ext cx="8675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Политическое развитие СССР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ациональная политика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219640" y="476280"/>
            <a:ext cx="3889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Дружба народов стала не только источником По-беды, но и помогла в восстановлении разру-шен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а основе эвакуирован-ных в годы войны пред приятий на Востоке со-здавались новые про-мышленные центры. Началась морская до-быча нефти на Каспии, были открыты место-рождения в Татарии. Продолжилась индуст-риализация Прибалти-ки,З.Украины и Бело-руссии,Мода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Национальная поли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02200" y="6195960"/>
            <a:ext cx="19454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акат 194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609560" y="704880"/>
            <a:ext cx="3322800" cy="5316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Национальные движения после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65120" y="5964120"/>
            <a:ext cx="37422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.Бандера-лид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Украинских национал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476360" y="907920"/>
            <a:ext cx="3316320" cy="4784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003640" y="836640"/>
            <a:ext cx="4105440" cy="5905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ойна привела к оживле-нию национальных дви-жений.На Украине в Бе-лоруссии и Прибалтике действовало ок.4000 пар-тизанских отрядов.от их рук погибло 16 тыс.пар-тийных и советских ра-ботников.В Молдавии численность подпольщи-ков составляла ок.1000 человек.они протесто-вали против присоедине ния к СССР и коллекти-визации.НКВД проводи- ло массовые операции в этих районах и к 1951 г. сопротивление практи-чески было сломл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араллельно МВД провело массовые депортации в Сибирь «Членов семей литовских бандитов и бан-дитопособников из числа кулаков».Аналогичные акции прошли на Украине, в Латвии,Эстонии и Белоруссии.Одновременно начались гонения на национальную культуру и шел процесс «скрытой руссификации».В то же время росло число репрес-сированных и среди русского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2000" y="1482840"/>
            <a:ext cx="306720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Чис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епрессиров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родов после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276720" y="569880"/>
            <a:ext cx="5724360" cy="3033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Национальные движения после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0000"/>
          </a:bodyPr>
          <a:p>
            <a:pPr marL="426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1.Влияние войны на политические настро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2.Изменения в политической систе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3.Ужесточение политического режи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4.Власть и Церков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5.Национальная полит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6.Национальные движения после вой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99"/>
                </a:solidFill>
                <a:latin typeface="Monotype Corsiva"/>
              </a:rPr>
              <a:t>Какие изменения произошли во внутренней политике СССР после войны? Чем они были вызваны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ойна изменила общественно-политическую атмосфе ру общества,она пробила брешь в «железном зана-весе». Западный образ жизни, увиденный во время освободительного похода в Европу породил сомне-ния в правильности выбранного государством пу-ти.Победа породила надежды:крестьян-на роспуск колхозов,интеллигенции-на ослабление политичес-кого диктата,нерусского населения-на изменение национальной поли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Влияние войны на политические настро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87840" y="1628640"/>
            <a:ext cx="22852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ерлин. Пер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ень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643280" y="539640"/>
            <a:ext cx="4321440" cy="3035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ти идеи высказывались даже в обсуждении закры-тых проектов новых Конституции Устава и Прог-раммы партии.Хотя предложения высказывались лишь партийной номенклатурой, но и она была го-това ликвидировать суды военного времени,осво-бодить партию от хозяйственных функций,ограни-чить срок пребывания на выборных должностях, ввести альтернативные выб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Влияние войны на политические настро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760" y="1643040"/>
            <a:ext cx="26406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«Демократиче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мпульс»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059280" y="549360"/>
            <a:ext cx="5905440" cy="3052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сентябре 1945 г.было отменено чрезвычайное поло-жение и ликвидирован ГКО.В марте 1946 г.Совна-рком был преобразован в Совет Министров.Вскоре прошли выборы в Советы всех уровней и народ-ных судей.Чаще стали созываться сессии Советов, но их деятельность по-прежнему носила формаль-ный характер.В 1952 г.состоялся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XIX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ъезд партии. Он переименовал ее в КПСС.Прощли съезды проф союзов и ВЛКСМ. Постепенно политический ре-жим вновь ужесточи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Изменения в политической сис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6080" y="1557360"/>
            <a:ext cx="166356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стру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989440" y="533520"/>
            <a:ext cx="5975280" cy="30463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ичинами этого были «демократический импульс» войны и ослабление «железного занавеса».Им ока-залось подвержено даже ближайшее окружение Ста лина.Когда Маленков.Молотов,Берия и Микоян в 1945 г. В отсутствии Сталина ослабили цензуру, то он по возвращении перевел их на другие посты.В противовес «старой гвардии» сталин выдвигает А. Жданова,Н.Вознесенского,А.Кузнецова и А.Косы-г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Ужесточение политического реж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70480" y="1787400"/>
            <a:ext cx="2404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Факсимиле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газеты «Правд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563400"/>
            <a:ext cx="4321080" cy="2981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о в 1948 г.после смерти Жданова было сфабри-ковано «ленинградское дело».200 человек вклю-чая Вознесенского и Куз-нецова были расстреля-ны.С окончанием войны ГУЛАГ пополнился но-выми заключенными, в том числе бывшими во-еннопленными.Числен-ность узников ГУЛАГ  превышала 4,5млн.чело-век.В к.1952 г.были сфа-брикованы «мигрельс-кое дело» и «дело вра-чей».Сталин говорил о необходимости новых репрессий среди партий-ного руко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Ужесточение политического реж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7880" y="5746680"/>
            <a:ext cx="31737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облачение «враче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бийц».Плакат 195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1424160" y="907920"/>
            <a:ext cx="3508200" cy="4295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феврале 1945 г.новым па-триархом стал Алекси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.Он  продолжил линию на поддержку государст-ва в разгроме врага. В 1944-48г.власти разреши ли приходам открывать новые храмы.Вскоре бы- ли открыты Московс-кий богословный инсти-тут,духовная академия и семинария.Но в 1947 г. М.Суслов подготовил по становление ЦК об атеи-стической работе и гоне-ния на церковь возобно-вились.Было арестовано 2000 свяще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Власть и Церк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2960" y="5877000"/>
            <a:ext cx="31784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екретарь ЦК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деологии М.А.Су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88960" y="692280"/>
            <a:ext cx="3287880" cy="4984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3-01-06T07:16:13Z</dcterms:modified>
  <cp:revision>73</cp:revision>
  <dc:subject/>
  <dc:title>Слайд 1</dc:title>
</cp:coreProperties>
</file>