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A7C-B0CC-43BB-8165-8F89EE46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E5A-8B85-4EB1-964E-7E4371C8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DF9-E73A-46E9-A8A8-0DB9A37F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EB3-7EDA-46C1-A50F-48F93AC3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58B-88A4-4867-95FD-AD9E91C7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8E5-729E-4BEE-82ED-1C3BACAF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F54-41A2-4A96-BFFC-E44D5C5E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973-F427-4292-909D-48CDAD76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215-EE8F-456C-949A-62EDD7EE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40E-B9C9-46DB-8684-AE8E6E5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C47-F8EB-492C-8A1A-2440007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A4F-3AD3-48AC-A498-E09B97E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DACF-267F-4476-B61E-86DE86A59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6000" y="1197000"/>
            <a:ext cx="8604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ая политика 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ые движен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003640" y="765000"/>
            <a:ext cx="4105440" cy="5832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условиях роста национа-льных движений власти скорректировали нацио-нальную политику.Реп-рессии применялись лишь к участникам отк-рытых выступлений.На-циональные кадры ста-ли массово награждать-ся орденами,медалями и почетными званиями.На чалась«коренизация» ме стного руководства.Во главе республик встали представители коренной национальности,а рус-ские, занимая посты 2-го секретаря оказывались в роли «наблюдате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Эволюция национальной поли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70120" y="5964120"/>
            <a:ext cx="2692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к 50-лет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бразования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03280" y="692280"/>
            <a:ext cx="3452760" cy="5244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197000"/>
            <a:ext cx="7632720" cy="51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1.«Новая историческая общност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2.Противоречия между Центром и республи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3.Национальные дви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4.Эволюция национальной полити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99"/>
                </a:solidFill>
                <a:latin typeface="Monotype Corsiva"/>
              </a:rPr>
              <a:t>Чем объяснялась активизация национальных движений в 60-70-е гг.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72 г.страна отметила 50 лет СССР.За эти годы республики добились колоссального успеха в эко-номическом и социальном развитии.В Средней Азии уровень грамотности вырос с 5 до 95 %.Объ-ем промышленного производства в республиках вырос на 176 - 600%.В Узбекистане число специа-листов с высшим образованием было больше чем в СССР в 20-е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«Новая историческая общн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1520" y="1557360"/>
            <a:ext cx="2814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обыча уг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ткрытым спосо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Экибасту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284720" y="547560"/>
            <a:ext cx="4680000" cy="304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омыщленное производство в прибалтике выросло в среднем в 35 раз.В к.60-х гг власти заявили о том, что в СССР сформирована новая общность-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оветс-кий народ.</a:t>
            </a:r>
            <a:r>
              <a:rPr b="1" lang="ru-RU" sz="24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та идея означала,что советские нации сблизились и объединились на основе построения коммунизма.В 70-е гг. это положение было дополне но выводом о том,что сложившийся в стране «еди-ный народно-хозяйственный комплекс» стал «ма-териальной основой дружбы народ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«Новая историческая общн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01440" y="1482840"/>
            <a:ext cx="2139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орже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Кр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98920" y="549360"/>
            <a:ext cx="4465800" cy="302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кономическая реформа 1965 г. Делала акцент на усиление специализации республик.Каждая из них развивала традици-онное производство.В ин тересах интеграции шло ускоренное развитие наи менее развитых с т.з.про- мышленности союзных республик.В большей ме ре этот процесс затронул Белоруссию,Молдавию,Туркмению,Киргизию, Азербайджан,Узбекис-тан и Литву.Одновремен но была преодолена их обособленнос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ротиворечия между Центром и республ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6560" y="5835600"/>
            <a:ext cx="34786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борка хлеба в Башки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476360" y="1197000"/>
            <a:ext cx="3375000" cy="394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Бурное промышленное строительство в респуб-ликах привело к усиле-нию роли Центра.В 70-е гг.были ликвидированы те права и привилегии, которые республики по-лучили в 50-е гг.Эконо-мическое,социальное и культурное развитие те-перь шло под контролем Кремля.Переселение в республики русскоязыч-ных кадров воспринима-лось там как русская эк-спансия.Это привело к усилению национализ-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ротиворечия между Центром и республ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03600" y="5877000"/>
            <a:ext cx="26618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Животновод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омплекс в Ли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3483000" cy="475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явившиеся национальные движения выступали под флагом защиты национальных культур.В 1971 г.был снят с поста 1-й секретарьЦК КПУ П.Шелест за попытку сохранить прежнее количество украин- ских школ.Национализм занял большое место и в диссидентском движении.В 1967 г.развернулось движение евреев за право выезда на «историчес-кую родину».В 1972 г.были сняты все ограничения  в отношении немцев Поволжья,Но их автономия так и не была восстано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Национальные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64840" y="1231920"/>
            <a:ext cx="3317040" cy="161856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инистр труда Израи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Щара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Эмигрант из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уководитель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эмиграцию евре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03640" y="550800"/>
            <a:ext cx="3961080" cy="3046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 20 лет из СССР выехали 72тыс.немцев и 275 тыс. евреев.В Прибалтике развернулось движение за со блюдение прав и свободу деятельности церкви.В связи с обсуждением новой Конституции в Грузии прошли демонстрации с требованием сохранить ро дной язык в качестве государственного.Армянские националисты организовали ряд взрывов, в т.ч.в московском метро в 1977 г.Всплеск национализма привел к росту русского националь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Национальные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8760" y="1773360"/>
            <a:ext cx="23965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ашкент веч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95640" y="557280"/>
            <a:ext cx="4932360" cy="3016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3-01-06T12:33:36Z</dcterms:modified>
  <cp:revision>70</cp:revision>
  <dc:subject/>
  <dc:title>Слайд 1</dc:title>
</cp:coreProperties>
</file>