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13.png" ContentType="image/png"/>
  <Override PartName="/ppt/media/image1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A56-ED83-4745-991F-57CE0CCA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30D-DDB2-4BDC-9EEA-BC10523F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D97-84E2-4723-8622-7BE6FC07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5C3-8032-4559-A753-AFFD07E5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442-9E49-4234-8D90-CE6CC188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875-3B0E-40EF-9016-CDDB8AEF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FF5-B914-4B5D-B838-A695F5E0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BA3-10DB-45FA-93F3-9926FCEF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367-21B5-49D5-8E33-B74DC97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D8E-4DFB-44AA-9131-411116C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EDE-D86B-4DB8-B2DB-D740EFC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578-3211-4ACD-B32D-DD305A36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7A88-9A88-42F0-BA00-30AF58F9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484280"/>
            <a:ext cx="8497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ая политика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о часть высшкго руководства станы была против проекта.В отсутствие Горбачева м Москве в ночь на 19 августа был создан ГКЧП.Он ввел в ряде рай онов страны ЧП,запретил оппозиционные партии, установил цензуру, ввел войска в Москву и т.д.Но 20 августа ВС РСФСР объявил действия ГКЧП государственным переворотом и признал их неза-ко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Август 199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41840" y="1714680"/>
            <a:ext cx="1945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КЧ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9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45080" y="541440"/>
            <a:ext cx="4248000" cy="304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 призыву Ельцина тысячи москвичей собрались у здания Белого дома, чтобы предотвратить его штурм.21 августа ВС РСФСР поддержал руководс-тво республики.в тот же день Горбачев возвратил-ся в Москву, а члены КГЧП были арестованы.25 августа М.Горбачев собрал ВС СССР и добился от его депутатов решения о самороспуске.В конце ав-густа все союзные республики объявили о своей полной независим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Август 199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66600" y="1554120"/>
            <a:ext cx="21038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.Ель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 Белого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вгуст 199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16360" y="546120"/>
            <a:ext cx="4176720" cy="3044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5 сентября был сформирован Государственный совет из лидеров союзных республик.6 сентября он приз-нал независимость прибалтийских республик. М. Горбачев попытался возобновить работу над Союз ным договором, но лидеры России,Украины и Бе-лоруссии за его спиной 8 декабря в Беловежской пуще подписали соглашение о денонсации Союзно-го договора 1922 г. 25 декабря 1991 г. М.Горбачев объявил о своей отста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Распад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85440" y="1000080"/>
            <a:ext cx="2529360" cy="19234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Кравчу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.Шушкевич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.Ель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еловеж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гла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465440" cy="303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219640" y="476280"/>
            <a:ext cx="3889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Распад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16720" y="5730840"/>
            <a:ext cx="245160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. Горба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от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25 декабря 199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19280" y="549360"/>
            <a:ext cx="3301920" cy="51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Обострение национального вопр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Межнациональные конфлик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Выборы 1990 г.в союзных республи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Разработка Союзного догов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Август 199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6.Распад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99"/>
                </a:solidFill>
                <a:latin typeface="Monotype Corsiva"/>
              </a:rPr>
              <a:t>Почему М.Горбачеву не удалось спасти СССР?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емократизация общества привела к обострению межнациональных проб-лем.В н.1986 г.в Якутии студенты устроили демо-нстрацию под лозунгом «Якутия-для якутов».В декабре прошли массо-вые беспорядки в Казах- стане вызванные заме-ной на посту 1 секретаря ЦК Д.Кунаева на Г.Кол-бина.Серьезное недово-льство в Узбекистане вы звало расследование кор рупции среди национа-льного руководства.Наи-более остро националь-ный вопрос встал в За-кавказ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Обострение национального воп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6200" y="5891040"/>
            <a:ext cx="35060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.А.Кунаев-1-й секрет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ЦК компартии Казахст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03280" y="692280"/>
            <a:ext cx="3502080" cy="4881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87 г.армянское население Нагорного Карабаха потребовало передать эту АССР в состав Армении. Центр пообещал рассмотреть этот вопрос.В ответ начались расправы над армянами в Сумгаите(Азер байджан).М.Горбачев отдал приказ ввести в город войска и объявил там комендантский 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88 г. В Прибалтике возникли Народные фронты. Сначала они поддерживали перестройку, но затем объявили о намерении выйти из состава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Межнациональные конфли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1440" y="1341360"/>
            <a:ext cx="261468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дача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итания бежен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з Нагор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араба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284720" y="549360"/>
            <a:ext cx="4680000" cy="296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скоре государственными были объявлены местные языки. примеру прибалтов попытались последо-вать на Украине, Белоруссии, Молда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Закавказье национальные конфликты приобрели внутренний характер.Здесь появилась угроза исла-мского фундаментализма. В Якутии,Башкирии,Та-тарии, требовали сделать республики союзными. Местные лидеры повсеместно делали упор на то, что их республики «кормят» Рос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Межнациональные конфли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44000" y="1341360"/>
            <a:ext cx="22136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Бразауска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1-й секрет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ЦК компар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итовской СС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932360" y="549360"/>
            <a:ext cx="3887640" cy="29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716280"/>
            <a:ext cx="7777080" cy="309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естное партийное руководство поддержало нацио-налистические движения ради сохранения власти. Весной 1990 г.состоялись выборы в союзных респу-бликах.Вновь избранные руководители объявили о сувернитете.Горбачев сначала отреагировал на «па рад сувернитетов» отрицательно.В отношении Лит вы были предприняты экономические санкции,но ей помогли США,Франция,ФРГ.В этих условиях началась разработка нового Союзного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Выборы 1990 г.в союзных республ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87120" y="1714680"/>
            <a:ext cx="2142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.Миттеран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.Ландсберг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3280" y="549360"/>
            <a:ext cx="4280040" cy="307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отив его пересмотра выступили большинство чле-нов высшего руководства страны.горбачев начал борьбу с ними используя Председателя ВС РСФСР Ельцина.Главной идей нового договора было пре-доставление республикам широких экономических полномочий.В это время Литва принимала законы обеспечивавшие ее независимость.В январе 1991 г. Горбачев предъявил ультиматум.Это вызвало сты чки в результате которых погибло 14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азработка Союзного дого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8720" y="1484280"/>
            <a:ext cx="28630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Горбачев голос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референду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рт 199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356000" y="534960"/>
            <a:ext cx="4572000" cy="303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17 марта прошел референдум на котором 76 % насе-ления высказались за сохранение Союза.Летом 1991 г. Б.Ельцин был избран президентом РСФСР. Он предложил республикам брать сувернитета сто- лько,сколько они «смогут съесть».М.Горбачев соб- рал представителей республик в Ново-Огарево и согласившись со всеми условиями и требованиями смог подготовить проект Договора.Он предусмат- ривал создание кон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азработка Союзного догов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2720" y="1554120"/>
            <a:ext cx="29559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.Горбачев и лид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оюзных респуб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Ново-Огар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788000" y="571680"/>
            <a:ext cx="4176720" cy="3020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3-01-03T10:01:48Z</dcterms:modified>
  <cp:revision>69</cp:revision>
  <dc:subject/>
  <dc:title>Слайд 1</dc:title>
</cp:coreProperties>
</file>