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11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FBCF-3A44-4391-A98C-CD64916A8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D400-7FB6-471A-A0D3-3CAA69E9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2A6B-4EB8-433C-B568-054EE3D34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DD6D-4D99-434D-AC57-84B8F526C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0906-4544-4629-9750-383E5CF9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0F9F-B270-43E1-A84C-C4BE7B47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785F-F9D0-4D99-AAA9-850C10E4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1AFD-00B0-4E81-A0C4-C49CE704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9173-034F-401D-B8FF-C8E14CF7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B6C4-FEF5-492E-8EF3-36DD7F81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C245-17A7-4F24-B009-45730F2C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ECC1-EC7E-4511-8EFA-D8604443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CF56-2F08-4D19-9768-6B7A6104D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61440" y="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Урок №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1844640"/>
            <a:ext cx="871200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Национальная политик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в конце 1920-30-х годах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31640" y="3357720"/>
            <a:ext cx="7777080" cy="345600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Индустриализация изменила облик национальных республик.На базе местного сырья возникли про-мышленные центры. В Белоруссии промышлен-ность давала 53% дохода, появились новые отрас-ли-топливная,машиностроение,химическая промы шленность.На Украине было построено свыше 400 предприятий.Она стала высокоразвитой индустри-альной республикой.В Средней Азии возникают хлопоочистительные и шелкомотальные фабрики и предприятия пищевой промышл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4.Индустриализация национальных райо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76000" y="1557360"/>
            <a:ext cx="306108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Строительство кан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 Ферганской дол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716360" y="549360"/>
            <a:ext cx="4176720" cy="2736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331640" y="3357720"/>
            <a:ext cx="7777080" cy="345600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ряде районов строятся электростанции ,железные дороги.Строительство каналов позволило оросить миллионы га земель.В РСФСР огромные средства вкладывались в автономные республики.Промыш ленное производство в них выросло почти в 5 раз, но большинство предприятий были добывающи-ми.Зачастую предприятия строили всей страной. Все это привело к появлению особой общности лю-дей со своим менталитетом-советский нар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4.Индустриализация национальных райо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75440" y="1249200"/>
            <a:ext cx="1879920" cy="13136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Закла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фунда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Узбекист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Сер.1930-х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068720" y="533520"/>
            <a:ext cx="4824360" cy="2751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403280" y="1052280"/>
            <a:ext cx="7632720" cy="5616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1.Наступление на исл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2.Советизация национальных культу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3.Уничтожение национальных кадр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4.Индустриализация национальных район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План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295280" y="4428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05080" y="1052280"/>
            <a:ext cx="7704000" cy="5616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99"/>
                </a:solidFill>
                <a:latin typeface="Monotype Corsiva"/>
              </a:rPr>
              <a:t>Какие изменения произошли в национальной политике в 30-е годы и к чему это привело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Задание на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79280" y="53737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к.20-х г.большевики начали наступление на ислам- церковное землевладение было упразднено,церков- ное образование становилось светским,а больницы стали государственными.Суды шариата отменя-лись.В городах началось искоренение мусульманс-ких обрядов.8 марта 1927 г. Женщины собранные на митинги публично срывали с себя паранджу, но их поджидала печальная участь-мусульмане их из-бивали, а порой убив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1.Наступление на исл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20000" y="1482840"/>
            <a:ext cx="204912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Шко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для взросл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 Узбекист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068720" y="571680"/>
            <a:ext cx="4824360" cy="3022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331640" y="3357720"/>
            <a:ext cx="7777080" cy="345600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Особого размаха достигли кампании против Рамада-на.Это объяснялось тем,что церковные обычаи про тиворечат планам социалистического преобразова-ния общества.Были запрещены калым и многожен ство.Совершение паломничества в Мекку стало не-возможным.Это привело к яростному сопротивле-нию, но только в Чечне оно переросло в восстание. Подняли голову и басмачи в Средней Азии.Все эти выступления были подавлены с помощью армейс-ких частей в 193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1.Наступление на исл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99720" y="1409760"/>
            <a:ext cx="148068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Женщ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снявш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арандж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995640" y="552600"/>
            <a:ext cx="4859280" cy="2732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331640" y="3284280"/>
            <a:ext cx="7777080" cy="352908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к. 20-х гг.был свернут курс на развитие националь-ных языков и культур.Было отменено использова-ние национальных языков в государственных уч-реждениях.В школах вводилось обязательное изу-чение русского языка.Высшее образование велось только на русском языке,за исключением Грузии и Армении.На Кавказе и в Средней Азии в результа-те реформ языка письменность была переведена сначала на латинскую, а потом на кириллическую граф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2.Советизация национальных куль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38560" y="1484280"/>
            <a:ext cx="323928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Центральный павиль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а ВДНХ ССС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932360" y="571680"/>
            <a:ext cx="3960720" cy="2627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258920" y="3284280"/>
            <a:ext cx="7850160" cy="352908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армии в 1938 г.было ликвидировано формирование частей по национальному признаку и русский язык стал языком военного обучения.Русский язык стал языком межнационального общения, русскоязыч-ное население легко адаптировалось к жизни в со-юзных республиках, получение образования стало доступным для всех. Повышения статуса русского языка не означало возврата к царской политике русификации, т.к. удар был нанесен и по русской православной куль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2.Советизация национальных куль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7480" y="1409760"/>
            <a:ext cx="259488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Аттестат зрел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Фото сер.30-х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932360" y="579600"/>
            <a:ext cx="3600360" cy="2595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331640" y="3500280"/>
            <a:ext cx="7777080" cy="3313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Одной из задач индустриализации и коллективиза-ции стало выравнивание уровня экономического развития национальных окраин.При этом не учи-тывались местные национальные особенности. В Казахстане переводя население к оседлому образу жизни уничтожали скот.В ответ началось воору-женное сопротивление.Повстанцы убивали партий ное и государственное руководство и уходили в Ки-т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3.Уничтожение национальных кад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4960" y="1482840"/>
            <a:ext cx="266940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Б.Ефи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Стальные «еж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рукавиц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076720" y="533520"/>
            <a:ext cx="3672000" cy="2895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Узбекистане план 1-й пятилетки предусматривал увеличение производства хлопка.Это превращало республику в сырьевой придаток России.Руководс-тво Узбекистана выдвинуло свой план,но его обви-нили в буржуазном национализме.Был отменен принцип «коренизации» местного руководства, т.к. директивы Центра часто встречали недовольство со стороны местного начальства.Его реперессиро-вали,заменяя на русских, или на «понятливые» на-циональные кад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3.Уничтожение национальных кад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64920" y="1557360"/>
            <a:ext cx="232344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Казах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 националь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одеж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284720" y="549360"/>
            <a:ext cx="4608360" cy="30193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Чернов Алексей</cp:lastModifiedBy>
  <dcterms:modified xsi:type="dcterms:W3CDTF">2003-02-08T15:37:01Z</dcterms:modified>
  <cp:revision>58</cp:revision>
  <dc:subject/>
  <dc:title>Слайд 1</dc:title>
</cp:coreProperties>
</file>